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68E-85CE-404D-B4A4-6CB6B853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3CF-9937-42C8-9450-D6210B8F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67D-3BD2-4C48-9E07-76094BA9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1B4-5A33-4F03-AC03-844EE58C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FE9-FB85-44F5-9DE9-05C02D96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0B1-36F9-4989-9BB9-E48E8582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F76-5D69-4C5A-9007-747FAEA7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99B-9DCE-40FB-87BC-78AAA2E9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06B-82D1-4759-B43A-50C01221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BEC-1033-4444-8818-D418647E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304-D7BF-4440-B7D5-8E07C6A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3EF0-A82F-4950-99B8-DEB16A7C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5E54-5817-486C-8AD0-F8CF04FFB2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4898520" y="1357200"/>
            <a:ext cx="66708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4958640" y="2517480"/>
            <a:ext cx="545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535720" y="1357200"/>
            <a:ext cx="3934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382360" y="1357200"/>
            <a:ext cx="3326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71320" y="44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鸿运羊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5C3-153F-4354-9782-FF74181CAC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50695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34977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3854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349776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21405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47120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426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211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428920" y="3000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06908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140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57837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5691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4283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783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712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4978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4497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5569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24260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426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29977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2836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6140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2854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4354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426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29977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31406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22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