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C7FE-DAE1-4D3C-A7E7-97FB5AA23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18E0-C19F-40E2-B942-7558249B8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3A92-97C4-4B36-9344-BB6140DC0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C7FA-1B19-4626-8595-6916EB042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8280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EBB4-82A2-4606-98DA-982AA6371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3A4B-5DA8-4913-8D8E-536CF8AD7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580A-6BF7-4830-A2F9-7318D554E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7A78-2795-4D21-8509-B8CE95A8A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8280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45F9-200C-4A3D-8495-88D46AFB7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E54E-F667-4D51-B03B-7FA5096CA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8CBF-C3B1-444F-8FCD-9D9FD8322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1BE6-E25F-43D3-8EA6-49AA493E3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4920" y="44280"/>
          <a:ext cx="907416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44280"/>
                    <a:ext cx="90741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765000"/>
            <a:ext cx="9072720" cy="7304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23640" y="647712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f5d67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9CB7-8B13-413E-A95D-73AC2DCEA1C6}" type="slidenum">
              <a:rPr b="1" lang="ko-KR" sz="1200" spc="-1" strike="noStrike">
                <a:solidFill>
                  <a:srgbClr val="0f5d67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28440"/>
            <a:ext cx="9140760" cy="6886440"/>
            <a:chOff x="0" y="-28440"/>
            <a:chExt cx="9140760" cy="6886440"/>
          </a:xfrm>
        </p:grpSpPr>
        <p:sp>
          <p:nvSpPr>
            <p:cNvPr id="7" name=""/>
            <p:cNvSpPr/>
            <p:nvPr/>
          </p:nvSpPr>
          <p:spPr>
            <a:xfrm>
              <a:off x="0" y="638496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400" y="4140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844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91480" y="324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80400" y="639936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3600" y="81000"/>
            <a:ext cx="8982000" cy="6703920"/>
          </a:xfrm>
          <a:prstGeom prst="roundRect">
            <a:avLst>
              <a:gd name="adj" fmla="val 5889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920" y="1197000"/>
          <a:ext cx="907416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197000"/>
                    <a:ext cx="90741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22320" y="42120"/>
            <a:ext cx="9105480" cy="1830960"/>
            <a:chOff x="22320" y="42120"/>
            <a:chExt cx="9105480" cy="1830960"/>
          </a:xfrm>
        </p:grpSpPr>
        <p:sp>
          <p:nvSpPr>
            <p:cNvPr id="52" name=""/>
            <p:cNvSpPr/>
            <p:nvPr/>
          </p:nvSpPr>
          <p:spPr>
            <a:xfrm>
              <a:off x="22320" y="1287360"/>
              <a:ext cx="9105480" cy="585720"/>
            </a:xfrm>
            <a:custGeom>
              <a:avLst/>
              <a:gdLst/>
              <a:ahLst/>
              <a:rect l="l" t="t" r="r" b="b"/>
              <a:pathLst>
                <a:path w="5715" h="369">
                  <a:moveTo>
                    <a:pt x="5711" y="2"/>
                  </a:moveTo>
                  <a:lnTo>
                    <a:pt x="5715" y="131"/>
                  </a:lnTo>
                  <a:cubicBezTo>
                    <a:pt x="5414" y="190"/>
                    <a:pt x="4523" y="302"/>
                    <a:pt x="3867" y="337"/>
                  </a:cubicBezTo>
                  <a:cubicBezTo>
                    <a:pt x="3218" y="369"/>
                    <a:pt x="2462" y="357"/>
                    <a:pt x="1818" y="325"/>
                  </a:cubicBezTo>
                  <a:cubicBezTo>
                    <a:pt x="1174" y="293"/>
                    <a:pt x="307" y="200"/>
                    <a:pt x="4" y="146"/>
                  </a:cubicBezTo>
                  <a:lnTo>
                    <a:pt x="0" y="0"/>
                  </a:lnTo>
                  <a:lnTo>
                    <a:pt x="5711" y="2"/>
                  </a:lnTo>
                  <a:close/>
                </a:path>
              </a:pathLst>
            </a:custGeom>
            <a:solidFill>
              <a:srgbClr val="0f5d67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0800000">
              <a:off x="60120" y="41760"/>
              <a:ext cx="9038520" cy="1397160"/>
            </a:xfrm>
            <a:prstGeom prst="rect">
              <a:avLst/>
            </a:prstGeom>
            <a:solidFill>
              <a:srgbClr val="0f5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2840" y="4979880"/>
            <a:ext cx="9072720" cy="1838160"/>
            <a:chOff x="42840" y="4979880"/>
            <a:chExt cx="9072720" cy="1838160"/>
          </a:xfrm>
        </p:grpSpPr>
        <p:sp>
          <p:nvSpPr>
            <p:cNvPr id="55" name=""/>
            <p:cNvSpPr/>
            <p:nvPr/>
          </p:nvSpPr>
          <p:spPr>
            <a:xfrm>
              <a:off x="42840" y="4979880"/>
              <a:ext cx="9072720" cy="592200"/>
            </a:xfrm>
            <a:custGeom>
              <a:avLst/>
              <a:gdLst/>
              <a:ahLst/>
              <a:rect l="l" t="t" r="r" b="b"/>
              <a:pathLst>
                <a:path w="5715" h="373">
                  <a:moveTo>
                    <a:pt x="4" y="372"/>
                  </a:moveTo>
                  <a:lnTo>
                    <a:pt x="0" y="243"/>
                  </a:lnTo>
                  <a:cubicBezTo>
                    <a:pt x="301" y="184"/>
                    <a:pt x="1192" y="72"/>
                    <a:pt x="1848" y="37"/>
                  </a:cubicBezTo>
                  <a:cubicBezTo>
                    <a:pt x="2504" y="2"/>
                    <a:pt x="3290" y="0"/>
                    <a:pt x="3934" y="32"/>
                  </a:cubicBezTo>
                  <a:cubicBezTo>
                    <a:pt x="4578" y="64"/>
                    <a:pt x="5414" y="170"/>
                    <a:pt x="5711" y="227"/>
                  </a:cubicBezTo>
                  <a:lnTo>
                    <a:pt x="5715" y="373"/>
                  </a:lnTo>
                  <a:lnTo>
                    <a:pt x="4" y="372"/>
                  </a:lnTo>
                  <a:close/>
                </a:path>
              </a:pathLst>
            </a:custGeom>
            <a:solidFill>
              <a:srgbClr val="969696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9840" y="5420880"/>
              <a:ext cx="9005760" cy="1396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587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-27000"/>
            <a:ext cx="9140760" cy="6886440"/>
            <a:chOff x="0" y="-27000"/>
            <a:chExt cx="9140760" cy="6886440"/>
          </a:xfrm>
        </p:grpSpPr>
        <p:sp>
          <p:nvSpPr>
            <p:cNvPr id="59" name=""/>
            <p:cNvSpPr/>
            <p:nvPr/>
          </p:nvSpPr>
          <p:spPr>
            <a:xfrm>
              <a:off x="0" y="638640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00" y="4284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-2700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80400" y="640080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9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200" y="83628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Gulim"/>
              </a:rPr>
              <a:t>合作经营企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f5d67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f5d67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5300640"/>
            <a:ext cx="734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f5d6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2E29-F0C2-4638-B478-A9ACF66AC2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e84cc"/>
                    </a:gs>
                    <a:gs pos="100000">
                      <a:srgbClr val="05935d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e84cc"/>
                  </a:gs>
                  <a:gs pos="100000">
                    <a:srgbClr val="05935d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0f5d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Your Company Slogan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432a"/>
              </a:gs>
              <a:gs pos="50000">
                <a:srgbClr val="05935d"/>
              </a:gs>
              <a:gs pos="100000">
                <a:srgbClr val="02432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33c5e"/>
              </a:gs>
              <a:gs pos="50000">
                <a:srgbClr val="4e84cc"/>
              </a:gs>
              <a:gs pos="100000">
                <a:srgbClr val="233c5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322a"/>
              </a:gs>
              <a:gs pos="50000">
                <a:srgbClr val="326e5d"/>
              </a:gs>
              <a:gs pos="100000">
                <a:srgbClr val="17322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e84c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e84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84cc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7960" y="1900080"/>
          <a:ext cx="7524720" cy="355608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  <a:gridCol w="1505160"/>
                <a:gridCol w="150480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5935d"/>
                        </a:gs>
                        <a:gs pos="100000">
                          <a:srgbClr val="76c3a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8e0b0"/>
                        </a:gs>
                        <a:gs pos="100000">
                          <a:srgbClr val="e0edd3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c6e273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6e5d"/>
                        </a:gs>
                        <a:gs pos="100000">
                          <a:srgbClr val="8eafa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326e5d"/>
              </a:gs>
              <a:gs pos="100000">
                <a:srgbClr val="11251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4e84cc"/>
              </a:gs>
              <a:gs pos="100000">
                <a:srgbClr val="1a2d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648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d67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322a"/>
              </a:gs>
              <a:gs pos="100000">
                <a:srgbClr val="326e5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5e4a"/>
              </a:gs>
              <a:gs pos="100000">
                <a:srgbClr val="c8e0b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cc00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e84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26e5d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137" name="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326e5d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139" name="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c8e0b0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145" name="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326e5d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151" name="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c8e0b0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65440" y="1247760"/>
            <a:ext cx="56386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f5d67"/>
              </a:gs>
              <a:gs pos="50000">
                <a:srgbClr val="c3d6d9"/>
              </a:gs>
              <a:gs pos="100000">
                <a:srgbClr val="0f5d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4e84cc"/>
              </a:gs>
              <a:gs pos="100000">
                <a:srgbClr val="3153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601600">
            <a:off x="1557000" y="19335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601600">
            <a:off x="1609560" y="190152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c8e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rot="20602200">
            <a:off x="1586520" y="19324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601600">
            <a:off x="1630080" y="1921680"/>
            <a:ext cx="5682600" cy="283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rot="20602200">
            <a:off x="1613880" y="19206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f5d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4160" y="1235160"/>
            <a:ext cx="6918480" cy="4356720"/>
            <a:chOff x="704160" y="1235160"/>
            <a:chExt cx="6918480" cy="4356720"/>
          </a:xfrm>
        </p:grpSpPr>
        <p:sp>
          <p:nvSpPr>
            <p:cNvPr id="174" name=""/>
            <p:cNvSpPr/>
            <p:nvPr/>
          </p:nvSpPr>
          <p:spPr>
            <a:xfrm rot="20712600">
              <a:off x="956880" y="200664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712600">
              <a:off x="4360680" y="32047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712600">
              <a:off x="5736600" y="33728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0539200">
            <a:off x="1498320" y="1823760"/>
            <a:ext cx="6316920" cy="309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4e84cc"/>
              </a:gs>
              <a:gs pos="50000">
                <a:srgbClr val="d3e0f1"/>
              </a:gs>
              <a:gs pos="100000">
                <a:srgbClr val="4e84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14130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e84c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9:18:3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6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