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6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7.jpeg" ContentType="image/jpeg"/>
  <Override PartName="/ppt/media/image27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49.png" ContentType="image/png"/>
  <Override PartName="/ppt/media/image12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C89-39B2-4F76-BAAC-4A61853C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83A-7AF1-4B7A-A0A0-0382D18E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19D-D4EE-474E-B590-DF9E3FE4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B4D-36E9-48AC-B347-2825BF0C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28E-A29C-4EDB-879B-FFA3C3F1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CEB1-600F-4334-9342-60F12000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67D-419D-422D-A86D-FFE8C87F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98E-9ADC-4A3B-B38C-E3D4E0F7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44A-E97F-461D-9196-74856F5F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B8B-FDF3-4360-8B8B-06FB8DC8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92B-B0D5-4A1C-A5B2-C5367B9B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057-3902-4E07-9F9E-C2029B4F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CD82-ABE5-4D28-8B61-5C21DE6299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35.png"/><Relationship Id="rId23" Type="http://schemas.openxmlformats.org/officeDocument/2006/relationships/image" Target="../media/image36.png"/><Relationship Id="rId24" Type="http://schemas.openxmlformats.org/officeDocument/2006/relationships/image" Target="../media/image37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2"/>
          <a:stretch/>
        </p:blipFill>
        <p:spPr>
          <a:xfrm>
            <a:off x="433440" y="2077920"/>
            <a:ext cx="6199200" cy="2713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2386440" y="29811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1921.7.1---2011.7.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45878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947960" y="52560"/>
            <a:ext cx="561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建党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90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周年动态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6"/>
          <p:cNvGrpSpPr/>
          <p:nvPr/>
        </p:nvGrpSpPr>
        <p:grpSpPr>
          <a:xfrm>
            <a:off x="2556000" y="1276200"/>
            <a:ext cx="3965400" cy="503280"/>
            <a:chOff x="2556000" y="1276200"/>
            <a:chExt cx="3965400" cy="503280"/>
          </a:xfrm>
        </p:grpSpPr>
        <p:grpSp>
          <p:nvGrpSpPr>
            <p:cNvPr id="46" name="组合 4"/>
            <p:cNvGrpSpPr/>
            <p:nvPr/>
          </p:nvGrpSpPr>
          <p:grpSpPr>
            <a:xfrm>
              <a:off x="2629080" y="1299240"/>
              <a:ext cx="3892320" cy="437400"/>
              <a:chOff x="2629080" y="1299240"/>
              <a:chExt cx="3892320" cy="437400"/>
            </a:xfrm>
          </p:grpSpPr>
          <p:sp>
            <p:nvSpPr>
              <p:cNvPr id="47" name="圆角矩形 1"/>
              <p:cNvSpPr/>
              <p:nvPr/>
            </p:nvSpPr>
            <p:spPr>
              <a:xfrm>
                <a:off x="2740680" y="1343160"/>
                <a:ext cx="3665520" cy="350640"/>
              </a:xfrm>
              <a:prstGeom prst="roundRect">
                <a:avLst>
                  <a:gd name="adj" fmla="val 16667"/>
                </a:avLst>
              </a:prstGeom>
              <a:solidFill>
                <a:srgbClr val="b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8" name="圆角矩形 2"/>
              <p:cNvGrpSpPr/>
              <p:nvPr/>
            </p:nvGrpSpPr>
            <p:grpSpPr>
              <a:xfrm>
                <a:off x="2629080" y="1299240"/>
                <a:ext cx="3892320" cy="437400"/>
                <a:chOff x="2629080" y="1299240"/>
                <a:chExt cx="3892320" cy="437400"/>
              </a:xfrm>
            </p:grpSpPr>
            <p:pic>
              <p:nvPicPr>
                <p:cNvPr id="49" name="圆角矩形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29080" y="1299240"/>
                  <a:ext cx="3892320" cy="43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" name=""/>
                <p:cNvSpPr/>
                <p:nvPr/>
              </p:nvSpPr>
              <p:spPr>
                <a:xfrm>
                  <a:off x="2761920" y="1373760"/>
                  <a:ext cx="36237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" name="圆角矩形 3"/>
              <p:cNvGrpSpPr/>
              <p:nvPr/>
            </p:nvGrpSpPr>
            <p:grpSpPr>
              <a:xfrm>
                <a:off x="2719080" y="1345680"/>
                <a:ext cx="3706200" cy="348480"/>
                <a:chOff x="2719080" y="1345680"/>
                <a:chExt cx="3706200" cy="348480"/>
              </a:xfrm>
            </p:grpSpPr>
            <p:pic>
              <p:nvPicPr>
                <p:cNvPr id="52" name="圆角矩形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19080" y="1345680"/>
                  <a:ext cx="3706200" cy="34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" name=""/>
                <p:cNvSpPr/>
                <p:nvPr/>
              </p:nvSpPr>
              <p:spPr>
                <a:xfrm>
                  <a:off x="2757960" y="1377000"/>
                  <a:ext cx="3628440" cy="2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4" name="任意多边形 5"/>
            <p:cNvGrpSpPr/>
            <p:nvPr/>
          </p:nvGrpSpPr>
          <p:grpSpPr>
            <a:xfrm>
              <a:off x="2556000" y="1276200"/>
              <a:ext cx="418680" cy="503280"/>
              <a:chOff x="2556000" y="1276200"/>
              <a:chExt cx="418680" cy="503280"/>
            </a:xfrm>
          </p:grpSpPr>
          <p:pic>
            <p:nvPicPr>
              <p:cNvPr id="55" name="任意多边形 5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6000" y="1276200"/>
                <a:ext cx="41868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2639160" y="1352520"/>
                <a:ext cx="25344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7" name="组合 7"/>
          <p:cNvGrpSpPr/>
          <p:nvPr/>
        </p:nvGrpSpPr>
        <p:grpSpPr>
          <a:xfrm>
            <a:off x="2558880" y="1995480"/>
            <a:ext cx="3972240" cy="504720"/>
            <a:chOff x="2558880" y="1995480"/>
            <a:chExt cx="3972240" cy="504720"/>
          </a:xfrm>
        </p:grpSpPr>
        <p:grpSp>
          <p:nvGrpSpPr>
            <p:cNvPr id="58" name="组合 8"/>
            <p:cNvGrpSpPr/>
            <p:nvPr/>
          </p:nvGrpSpPr>
          <p:grpSpPr>
            <a:xfrm>
              <a:off x="2558880" y="1995480"/>
              <a:ext cx="3972240" cy="504720"/>
              <a:chOff x="2558880" y="1995480"/>
              <a:chExt cx="3972240" cy="504720"/>
            </a:xfrm>
          </p:grpSpPr>
          <p:grpSp>
            <p:nvGrpSpPr>
              <p:cNvPr id="59" name="圆角矩形 10"/>
              <p:cNvGrpSpPr/>
              <p:nvPr/>
            </p:nvGrpSpPr>
            <p:grpSpPr>
              <a:xfrm>
                <a:off x="2558880" y="1995480"/>
                <a:ext cx="3972240" cy="504720"/>
                <a:chOff x="2558880" y="1995480"/>
                <a:chExt cx="3972240" cy="504720"/>
              </a:xfrm>
            </p:grpSpPr>
            <p:pic>
              <p:nvPicPr>
                <p:cNvPr id="60" name="圆角矩形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58880" y="1995480"/>
                  <a:ext cx="3972240" cy="504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>
                  <a:off x="2696040" y="2081880"/>
                  <a:ext cx="3699360" cy="33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" name="圆角矩形 11"/>
              <p:cNvGrpSpPr/>
              <p:nvPr/>
            </p:nvGrpSpPr>
            <p:grpSpPr>
              <a:xfrm>
                <a:off x="2558880" y="2017800"/>
                <a:ext cx="3972240" cy="460080"/>
                <a:chOff x="2558880" y="2017800"/>
                <a:chExt cx="3972240" cy="460080"/>
              </a:xfrm>
            </p:grpSpPr>
            <p:pic>
              <p:nvPicPr>
                <p:cNvPr id="63" name="圆角矩形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8880" y="2017800"/>
                  <a:ext cx="3972240" cy="460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>
                  <a:off x="2693880" y="2095920"/>
                  <a:ext cx="37036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" name="圆角矩形 12"/>
              <p:cNvGrpSpPr/>
              <p:nvPr/>
            </p:nvGrpSpPr>
            <p:grpSpPr>
              <a:xfrm>
                <a:off x="2662560" y="2071440"/>
                <a:ext cx="3787920" cy="366480"/>
                <a:chOff x="2662560" y="2071440"/>
                <a:chExt cx="3787920" cy="366480"/>
              </a:xfrm>
            </p:grpSpPr>
            <p:pic>
              <p:nvPicPr>
                <p:cNvPr id="66" name="圆角矩形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662560" y="2071440"/>
                  <a:ext cx="3787920" cy="36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2699640" y="2101680"/>
                  <a:ext cx="3708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8" name="任意多边形 9"/>
            <p:cNvSpPr/>
            <p:nvPr/>
          </p:nvSpPr>
          <p:spPr>
            <a:xfrm>
              <a:off x="2565000" y="2057400"/>
              <a:ext cx="258480" cy="407880"/>
            </a:xfrm>
            <a:custGeom>
              <a:avLst/>
              <a:gdLst/>
              <a:ahLst/>
              <a:rect l="l" t="t" r="r" b="b"/>
              <a:pathLst>
                <a:path w="258417" h="407505">
                  <a:moveTo>
                    <a:pt x="0" y="0"/>
                  </a:moveTo>
                  <a:lnTo>
                    <a:pt x="258417" y="198784"/>
                  </a:lnTo>
                  <a:lnTo>
                    <a:pt x="0" y="4075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13"/>
          <p:cNvGrpSpPr/>
          <p:nvPr/>
        </p:nvGrpSpPr>
        <p:grpSpPr>
          <a:xfrm>
            <a:off x="2556000" y="2716200"/>
            <a:ext cx="3965400" cy="503280"/>
            <a:chOff x="2556000" y="2716200"/>
            <a:chExt cx="3965400" cy="503280"/>
          </a:xfrm>
        </p:grpSpPr>
        <p:grpSp>
          <p:nvGrpSpPr>
            <p:cNvPr id="70" name="组合 14"/>
            <p:cNvGrpSpPr/>
            <p:nvPr/>
          </p:nvGrpSpPr>
          <p:grpSpPr>
            <a:xfrm>
              <a:off x="2629080" y="2735280"/>
              <a:ext cx="3892320" cy="442080"/>
              <a:chOff x="2629080" y="2735280"/>
              <a:chExt cx="3892320" cy="442080"/>
            </a:xfrm>
          </p:grpSpPr>
          <p:sp>
            <p:nvSpPr>
              <p:cNvPr id="71" name="圆角矩形 16"/>
              <p:cNvSpPr/>
              <p:nvPr/>
            </p:nvSpPr>
            <p:spPr>
              <a:xfrm>
                <a:off x="2740680" y="2780640"/>
                <a:ext cx="3665520" cy="354600"/>
              </a:xfrm>
              <a:prstGeom prst="roundRect">
                <a:avLst>
                  <a:gd name="adj" fmla="val 16667"/>
                </a:avLst>
              </a:prstGeom>
              <a:solidFill>
                <a:srgbClr val="b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2" name="圆角矩形 17"/>
              <p:cNvGrpSpPr/>
              <p:nvPr/>
            </p:nvGrpSpPr>
            <p:grpSpPr>
              <a:xfrm>
                <a:off x="2629080" y="2735280"/>
                <a:ext cx="3892320" cy="442080"/>
                <a:chOff x="2629080" y="2735280"/>
                <a:chExt cx="3892320" cy="442080"/>
              </a:xfrm>
            </p:grpSpPr>
            <p:pic>
              <p:nvPicPr>
                <p:cNvPr id="73" name="圆角矩形 1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629080" y="2735280"/>
                  <a:ext cx="3892320" cy="44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2761920" y="2811240"/>
                  <a:ext cx="3623760" cy="29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" name="圆角矩形 18"/>
              <p:cNvGrpSpPr/>
              <p:nvPr/>
            </p:nvGrpSpPr>
            <p:grpSpPr>
              <a:xfrm>
                <a:off x="2719080" y="2782440"/>
                <a:ext cx="3706200" cy="352080"/>
                <a:chOff x="2719080" y="2782440"/>
                <a:chExt cx="3706200" cy="352080"/>
              </a:xfrm>
            </p:grpSpPr>
            <p:pic>
              <p:nvPicPr>
                <p:cNvPr id="76" name="圆角矩形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719080" y="2782440"/>
                  <a:ext cx="3706200" cy="35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757960" y="2813760"/>
                  <a:ext cx="362844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8" name="任意多边形 15"/>
            <p:cNvGrpSpPr/>
            <p:nvPr/>
          </p:nvGrpSpPr>
          <p:grpSpPr>
            <a:xfrm>
              <a:off x="2556000" y="2716200"/>
              <a:ext cx="418680" cy="503280"/>
              <a:chOff x="2556000" y="2716200"/>
              <a:chExt cx="418680" cy="503280"/>
            </a:xfrm>
          </p:grpSpPr>
          <p:pic>
            <p:nvPicPr>
              <p:cNvPr id="79" name="任意多边形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2556000" y="2716200"/>
                <a:ext cx="41868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2639160" y="2788920"/>
                <a:ext cx="25344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" name="组合 19"/>
          <p:cNvGrpSpPr/>
          <p:nvPr/>
        </p:nvGrpSpPr>
        <p:grpSpPr>
          <a:xfrm>
            <a:off x="2558880" y="3508200"/>
            <a:ext cx="3972240" cy="503280"/>
            <a:chOff x="2558880" y="3508200"/>
            <a:chExt cx="3972240" cy="503280"/>
          </a:xfrm>
        </p:grpSpPr>
        <p:grpSp>
          <p:nvGrpSpPr>
            <p:cNvPr id="82" name="组合 20"/>
            <p:cNvGrpSpPr/>
            <p:nvPr/>
          </p:nvGrpSpPr>
          <p:grpSpPr>
            <a:xfrm>
              <a:off x="2558880" y="3508200"/>
              <a:ext cx="3972240" cy="503280"/>
              <a:chOff x="2558880" y="3508200"/>
              <a:chExt cx="3972240" cy="503280"/>
            </a:xfrm>
          </p:grpSpPr>
          <p:sp>
            <p:nvSpPr>
              <p:cNvPr id="83" name="圆角矩形 22"/>
              <p:cNvSpPr/>
              <p:nvPr/>
            </p:nvSpPr>
            <p:spPr>
              <a:xfrm>
                <a:off x="2672640" y="3559320"/>
                <a:ext cx="3746160" cy="403560"/>
              </a:xfrm>
              <a:prstGeom prst="roundRect">
                <a:avLst>
                  <a:gd name="adj" fmla="val 16667"/>
                </a:avLst>
              </a:prstGeom>
              <a:solidFill>
                <a:srgbClr val="002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4" name="圆角矩形 23"/>
              <p:cNvGrpSpPr/>
              <p:nvPr/>
            </p:nvGrpSpPr>
            <p:grpSpPr>
              <a:xfrm>
                <a:off x="2558880" y="3508200"/>
                <a:ext cx="3972240" cy="503280"/>
                <a:chOff x="2558880" y="3508200"/>
                <a:chExt cx="3972240" cy="503280"/>
              </a:xfrm>
            </p:grpSpPr>
            <p:pic>
              <p:nvPicPr>
                <p:cNvPr id="85" name="圆角矩形 2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558880" y="3508200"/>
                  <a:ext cx="3972240" cy="50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2693880" y="3594600"/>
                  <a:ext cx="3703680" cy="3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7" name="圆角矩形 24"/>
              <p:cNvGrpSpPr/>
              <p:nvPr/>
            </p:nvGrpSpPr>
            <p:grpSpPr>
              <a:xfrm>
                <a:off x="2662560" y="3556800"/>
                <a:ext cx="3787920" cy="396000"/>
                <a:chOff x="2662560" y="3556800"/>
                <a:chExt cx="3787920" cy="396000"/>
              </a:xfrm>
            </p:grpSpPr>
            <p:pic>
              <p:nvPicPr>
                <p:cNvPr id="88" name="圆角矩形 2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662560" y="3556800"/>
                  <a:ext cx="37879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2699640" y="3588480"/>
                  <a:ext cx="370872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0" name="任意多边形 21"/>
            <p:cNvSpPr/>
            <p:nvPr/>
          </p:nvSpPr>
          <p:spPr>
            <a:xfrm>
              <a:off x="2565000" y="3570120"/>
              <a:ext cx="258480" cy="406440"/>
            </a:xfrm>
            <a:custGeom>
              <a:avLst/>
              <a:gdLst/>
              <a:ahLst/>
              <a:rect l="l" t="t" r="r" b="b"/>
              <a:pathLst>
                <a:path w="258417" h="407505">
                  <a:moveTo>
                    <a:pt x="0" y="0"/>
                  </a:moveTo>
                  <a:lnTo>
                    <a:pt x="258417" y="198784"/>
                  </a:lnTo>
                  <a:lnTo>
                    <a:pt x="0" y="4075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TextBox 25"/>
          <p:cNvSpPr/>
          <p:nvPr/>
        </p:nvSpPr>
        <p:spPr>
          <a:xfrm>
            <a:off x="2565360" y="1347840"/>
            <a:ext cx="39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2565360" y="2062080"/>
            <a:ext cx="39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2565360" y="2778120"/>
            <a:ext cx="39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2565360" y="3573360"/>
            <a:ext cx="39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976320" y="73080"/>
            <a:ext cx="81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目录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1"/>
          <p:cNvGrpSpPr/>
          <p:nvPr/>
        </p:nvGrpSpPr>
        <p:grpSpPr>
          <a:xfrm>
            <a:off x="2624040" y="2139840"/>
            <a:ext cx="3965760" cy="503280"/>
            <a:chOff x="2624040" y="2139840"/>
            <a:chExt cx="3965760" cy="503280"/>
          </a:xfrm>
        </p:grpSpPr>
        <p:grpSp>
          <p:nvGrpSpPr>
            <p:cNvPr id="97" name="组合 2"/>
            <p:cNvGrpSpPr/>
            <p:nvPr/>
          </p:nvGrpSpPr>
          <p:grpSpPr>
            <a:xfrm>
              <a:off x="2624040" y="2139840"/>
              <a:ext cx="3965760" cy="503280"/>
              <a:chOff x="2624040" y="2139840"/>
              <a:chExt cx="3965760" cy="503280"/>
            </a:xfrm>
          </p:grpSpPr>
          <p:sp>
            <p:nvSpPr>
              <p:cNvPr id="98" name="圆角矩形 4"/>
              <p:cNvSpPr/>
              <p:nvPr/>
            </p:nvSpPr>
            <p:spPr>
              <a:xfrm>
                <a:off x="2738880" y="2188800"/>
                <a:ext cx="3734640" cy="403560"/>
              </a:xfrm>
              <a:prstGeom prst="roundRect">
                <a:avLst>
                  <a:gd name="adj" fmla="val 16667"/>
                </a:avLst>
              </a:prstGeom>
              <a:solidFill>
                <a:srgbClr val="b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9" name="圆角矩形 5"/>
              <p:cNvGrpSpPr/>
              <p:nvPr/>
            </p:nvGrpSpPr>
            <p:grpSpPr>
              <a:xfrm>
                <a:off x="2624040" y="2139840"/>
                <a:ext cx="3965760" cy="503280"/>
                <a:chOff x="2624040" y="2139840"/>
                <a:chExt cx="3965760" cy="503280"/>
              </a:xfrm>
            </p:grpSpPr>
            <p:pic>
              <p:nvPicPr>
                <p:cNvPr id="100" name="圆角矩形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24040" y="2139840"/>
                  <a:ext cx="3965760" cy="50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"/>
                <p:cNvSpPr/>
                <p:nvPr/>
              </p:nvSpPr>
              <p:spPr>
                <a:xfrm>
                  <a:off x="2760480" y="2224080"/>
                  <a:ext cx="3692160" cy="3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2" name="圆角矩形 6"/>
              <p:cNvGrpSpPr/>
              <p:nvPr/>
            </p:nvGrpSpPr>
            <p:grpSpPr>
              <a:xfrm>
                <a:off x="2715840" y="2193480"/>
                <a:ext cx="3776400" cy="396000"/>
                <a:chOff x="2715840" y="2193480"/>
                <a:chExt cx="3776400" cy="396000"/>
              </a:xfrm>
            </p:grpSpPr>
            <p:pic>
              <p:nvPicPr>
                <p:cNvPr id="103" name="圆角矩形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15840" y="2193480"/>
                  <a:ext cx="377640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" name=""/>
                <p:cNvSpPr/>
                <p:nvPr/>
              </p:nvSpPr>
              <p:spPr>
                <a:xfrm>
                  <a:off x="2756520" y="2226600"/>
                  <a:ext cx="36972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05" name="任意多边形 3"/>
            <p:cNvSpPr/>
            <p:nvPr/>
          </p:nvSpPr>
          <p:spPr>
            <a:xfrm>
              <a:off x="2633400" y="2201760"/>
              <a:ext cx="258480" cy="406440"/>
            </a:xfrm>
            <a:custGeom>
              <a:avLst/>
              <a:gdLst/>
              <a:ahLst/>
              <a:rect l="l" t="t" r="r" b="b"/>
              <a:pathLst>
                <a:path w="258417" h="407505">
                  <a:moveTo>
                    <a:pt x="0" y="0"/>
                  </a:moveTo>
                  <a:lnTo>
                    <a:pt x="258417" y="198784"/>
                  </a:lnTo>
                  <a:lnTo>
                    <a:pt x="0" y="4075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TextBox 7"/>
          <p:cNvSpPr/>
          <p:nvPr/>
        </p:nvSpPr>
        <p:spPr>
          <a:xfrm>
            <a:off x="2624040" y="2206800"/>
            <a:ext cx="39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976320" y="73080"/>
            <a:ext cx="81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圆角矩形 60"/>
          <p:cNvGrpSpPr/>
          <p:nvPr/>
        </p:nvGrpSpPr>
        <p:grpSpPr>
          <a:xfrm>
            <a:off x="1189080" y="1017720"/>
            <a:ext cx="6480000" cy="3687480"/>
            <a:chOff x="1189080" y="1017720"/>
            <a:chExt cx="6480000" cy="3687480"/>
          </a:xfrm>
        </p:grpSpPr>
        <p:pic>
          <p:nvPicPr>
            <p:cNvPr id="110" name="圆角矩形 60" descr=""/>
            <p:cNvPicPr/>
            <p:nvPr/>
          </p:nvPicPr>
          <p:blipFill>
            <a:blip r:embed="rId2"/>
            <a:stretch/>
          </p:blipFill>
          <p:spPr>
            <a:xfrm>
              <a:off x="1189080" y="1017720"/>
              <a:ext cx="6480000" cy="36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52520" y="1152360"/>
              <a:ext cx="6151680" cy="34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组合 3"/>
          <p:cNvGrpSpPr/>
          <p:nvPr/>
        </p:nvGrpSpPr>
        <p:grpSpPr>
          <a:xfrm>
            <a:off x="2419200" y="1058760"/>
            <a:ext cx="3965760" cy="505080"/>
            <a:chOff x="2419200" y="1058760"/>
            <a:chExt cx="3965760" cy="505080"/>
          </a:xfrm>
        </p:grpSpPr>
        <p:grpSp>
          <p:nvGrpSpPr>
            <p:cNvPr id="113" name="组合 4"/>
            <p:cNvGrpSpPr/>
            <p:nvPr/>
          </p:nvGrpSpPr>
          <p:grpSpPr>
            <a:xfrm>
              <a:off x="2419200" y="1058760"/>
              <a:ext cx="3965760" cy="505080"/>
              <a:chOff x="2419200" y="1058760"/>
              <a:chExt cx="3965760" cy="505080"/>
            </a:xfrm>
          </p:grpSpPr>
          <p:sp>
            <p:nvSpPr>
              <p:cNvPr id="114" name="圆角矩形 6"/>
              <p:cNvSpPr/>
              <p:nvPr/>
            </p:nvSpPr>
            <p:spPr>
              <a:xfrm>
                <a:off x="2530800" y="1110960"/>
                <a:ext cx="3740040" cy="406080"/>
              </a:xfrm>
              <a:prstGeom prst="roundRect">
                <a:avLst>
                  <a:gd name="adj" fmla="val 16667"/>
                </a:avLst>
              </a:prstGeom>
              <a:solidFill>
                <a:srgbClr val="b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5" name="圆角矩形 7"/>
              <p:cNvGrpSpPr/>
              <p:nvPr/>
            </p:nvGrpSpPr>
            <p:grpSpPr>
              <a:xfrm>
                <a:off x="2419200" y="1058760"/>
                <a:ext cx="3965760" cy="505080"/>
                <a:chOff x="2419200" y="1058760"/>
                <a:chExt cx="3965760" cy="505080"/>
              </a:xfrm>
            </p:grpSpPr>
            <p:pic>
              <p:nvPicPr>
                <p:cNvPr id="116" name="圆角矩形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419200" y="1058760"/>
                  <a:ext cx="3965760" cy="50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" name=""/>
                <p:cNvSpPr/>
                <p:nvPr/>
              </p:nvSpPr>
              <p:spPr>
                <a:xfrm>
                  <a:off x="2552400" y="1146600"/>
                  <a:ext cx="3697200" cy="33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8" name="圆角矩形 8"/>
              <p:cNvGrpSpPr/>
              <p:nvPr/>
            </p:nvGrpSpPr>
            <p:grpSpPr>
              <a:xfrm>
                <a:off x="2511000" y="1117440"/>
                <a:ext cx="3781800" cy="397440"/>
                <a:chOff x="2511000" y="1117440"/>
                <a:chExt cx="3781800" cy="397440"/>
              </a:xfrm>
            </p:grpSpPr>
            <p:pic>
              <p:nvPicPr>
                <p:cNvPr id="119" name="圆角矩形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11000" y="1117440"/>
                  <a:ext cx="3781800" cy="39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" name=""/>
                <p:cNvSpPr/>
                <p:nvPr/>
              </p:nvSpPr>
              <p:spPr>
                <a:xfrm>
                  <a:off x="2548440" y="1149120"/>
                  <a:ext cx="3702600" cy="33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1" name="任意多边形 5"/>
            <p:cNvSpPr/>
            <p:nvPr/>
          </p:nvSpPr>
          <p:spPr>
            <a:xfrm>
              <a:off x="2428560" y="1120680"/>
              <a:ext cx="258480" cy="408240"/>
            </a:xfrm>
            <a:custGeom>
              <a:avLst/>
              <a:gdLst/>
              <a:ahLst/>
              <a:rect l="l" t="t" r="r" b="b"/>
              <a:pathLst>
                <a:path w="258417" h="407505">
                  <a:moveTo>
                    <a:pt x="0" y="0"/>
                  </a:moveTo>
                  <a:lnTo>
                    <a:pt x="258417" y="198784"/>
                  </a:lnTo>
                  <a:lnTo>
                    <a:pt x="0" y="4075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TextBox 9"/>
          <p:cNvSpPr/>
          <p:nvPr/>
        </p:nvSpPr>
        <p:spPr>
          <a:xfrm>
            <a:off x="2419200" y="1127160"/>
            <a:ext cx="39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10"/>
          <p:cNvGrpSpPr/>
          <p:nvPr/>
        </p:nvGrpSpPr>
        <p:grpSpPr>
          <a:xfrm>
            <a:off x="2538360" y="2211480"/>
            <a:ext cx="238320" cy="1879560"/>
            <a:chOff x="2538360" y="2211480"/>
            <a:chExt cx="238320" cy="1879560"/>
          </a:xfrm>
        </p:grpSpPr>
        <p:grpSp>
          <p:nvGrpSpPr>
            <p:cNvPr id="124" name="组合 11"/>
            <p:cNvGrpSpPr/>
            <p:nvPr/>
          </p:nvGrpSpPr>
          <p:grpSpPr>
            <a:xfrm>
              <a:off x="2538360" y="2211480"/>
              <a:ext cx="238320" cy="1879560"/>
              <a:chOff x="2538360" y="2211480"/>
              <a:chExt cx="238320" cy="1879560"/>
            </a:xfrm>
          </p:grpSpPr>
          <p:sp>
            <p:nvSpPr>
              <p:cNvPr id="125" name="圆角矩形 13"/>
              <p:cNvSpPr/>
              <p:nvPr/>
            </p:nvSpPr>
            <p:spPr>
              <a:xfrm rot="16200000">
                <a:off x="1810440" y="3068640"/>
                <a:ext cx="1693080" cy="145440"/>
              </a:xfrm>
              <a:prstGeom prst="roundRect">
                <a:avLst>
                  <a:gd name="adj" fmla="val 16667"/>
                </a:avLst>
              </a:prstGeom>
              <a:solidFill>
                <a:srgbClr val="b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6" name="圆角矩形 14"/>
              <p:cNvGrpSpPr/>
              <p:nvPr/>
            </p:nvGrpSpPr>
            <p:grpSpPr>
              <a:xfrm>
                <a:off x="2538360" y="2211480"/>
                <a:ext cx="238320" cy="1879560"/>
                <a:chOff x="2538360" y="2211480"/>
                <a:chExt cx="238320" cy="1879560"/>
              </a:xfrm>
            </p:grpSpPr>
            <p:pic>
              <p:nvPicPr>
                <p:cNvPr id="127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38360" y="2211480"/>
                  <a:ext cx="238320" cy="187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"/>
                <p:cNvSpPr/>
                <p:nvPr/>
              </p:nvSpPr>
              <p:spPr>
                <a:xfrm rot="16200000">
                  <a:off x="1819800" y="3090600"/>
                  <a:ext cx="1673280" cy="11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9" name="圆角矩形 15"/>
              <p:cNvGrpSpPr/>
              <p:nvPr/>
            </p:nvGrpSpPr>
            <p:grpSpPr>
              <a:xfrm>
                <a:off x="2579040" y="2283120"/>
                <a:ext cx="156600" cy="1731240"/>
                <a:chOff x="2579040" y="2283120"/>
                <a:chExt cx="156600" cy="1731240"/>
              </a:xfrm>
            </p:grpSpPr>
            <p:pic>
              <p:nvPicPr>
                <p:cNvPr id="130" name="圆角矩形 1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79040" y="2283120"/>
                  <a:ext cx="156600" cy="1731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 rot="16200000">
                  <a:off x="1819440" y="3090600"/>
                  <a:ext cx="1675800" cy="11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2" name="任意多边形 12"/>
            <p:cNvSpPr/>
            <p:nvPr/>
          </p:nvSpPr>
          <p:spPr>
            <a:xfrm rot="16200000">
              <a:off x="2602800" y="3918600"/>
              <a:ext cx="122040" cy="194040"/>
            </a:xfrm>
            <a:custGeom>
              <a:avLst/>
              <a:gdLst/>
              <a:ahLst/>
              <a:rect l="l" t="t" r="r" b="b"/>
              <a:pathLst>
                <a:path w="258417" h="407505">
                  <a:moveTo>
                    <a:pt x="0" y="0"/>
                  </a:moveTo>
                  <a:lnTo>
                    <a:pt x="258417" y="198784"/>
                  </a:lnTo>
                  <a:lnTo>
                    <a:pt x="0" y="4075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组合 17"/>
          <p:cNvGrpSpPr/>
          <p:nvPr/>
        </p:nvGrpSpPr>
        <p:grpSpPr>
          <a:xfrm>
            <a:off x="2817720" y="2572200"/>
            <a:ext cx="236520" cy="1512360"/>
            <a:chOff x="2817720" y="2572200"/>
            <a:chExt cx="236520" cy="1512360"/>
          </a:xfrm>
        </p:grpSpPr>
        <p:grpSp>
          <p:nvGrpSpPr>
            <p:cNvPr id="134" name="组合 18"/>
            <p:cNvGrpSpPr/>
            <p:nvPr/>
          </p:nvGrpSpPr>
          <p:grpSpPr>
            <a:xfrm>
              <a:off x="2817720" y="2572200"/>
              <a:ext cx="236520" cy="1505160"/>
              <a:chOff x="2817720" y="2572200"/>
              <a:chExt cx="236520" cy="1505160"/>
            </a:xfrm>
          </p:grpSpPr>
          <p:grpSp>
            <p:nvGrpSpPr>
              <p:cNvPr id="135" name="圆角矩形 20"/>
              <p:cNvGrpSpPr/>
              <p:nvPr/>
            </p:nvGrpSpPr>
            <p:grpSpPr>
              <a:xfrm>
                <a:off x="2817720" y="2572200"/>
                <a:ext cx="236520" cy="1505160"/>
                <a:chOff x="2817720" y="2572200"/>
                <a:chExt cx="236520" cy="1505160"/>
              </a:xfrm>
            </p:grpSpPr>
            <p:pic>
              <p:nvPicPr>
                <p:cNvPr id="136" name="圆角矩形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817720" y="2572200"/>
                  <a:ext cx="236520" cy="150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 rot="16200000">
                  <a:off x="2278800" y="3261600"/>
                  <a:ext cx="1314720" cy="1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8" name="圆角矩形 21"/>
              <p:cNvGrpSpPr/>
              <p:nvPr/>
            </p:nvGrpSpPr>
            <p:grpSpPr>
              <a:xfrm>
                <a:off x="2824560" y="2572200"/>
                <a:ext cx="222480" cy="1505160"/>
                <a:chOff x="2824560" y="2572200"/>
                <a:chExt cx="222480" cy="1505160"/>
              </a:xfrm>
            </p:grpSpPr>
            <p:pic>
              <p:nvPicPr>
                <p:cNvPr id="139" name="圆角矩形 2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824560" y="2572200"/>
                  <a:ext cx="222480" cy="150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 rot="16200000">
                  <a:off x="2277360" y="3267000"/>
                  <a:ext cx="131652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1" name="圆角矩形 22"/>
              <p:cNvGrpSpPr/>
              <p:nvPr/>
            </p:nvGrpSpPr>
            <p:grpSpPr>
              <a:xfrm>
                <a:off x="2863440" y="2637000"/>
                <a:ext cx="148320" cy="1370520"/>
                <a:chOff x="2863440" y="2637000"/>
                <a:chExt cx="148320" cy="1370520"/>
              </a:xfrm>
            </p:grpSpPr>
            <p:pic>
              <p:nvPicPr>
                <p:cNvPr id="142" name="圆角矩形 2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863440" y="2637000"/>
                  <a:ext cx="148320" cy="137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 rot="16200000">
                  <a:off x="2278440" y="3264120"/>
                  <a:ext cx="131868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44" name="任意多边形 19"/>
            <p:cNvSpPr/>
            <p:nvPr/>
          </p:nvSpPr>
          <p:spPr>
            <a:xfrm rot="16200000">
              <a:off x="2893320" y="3939480"/>
              <a:ext cx="97920" cy="192240"/>
            </a:xfrm>
            <a:custGeom>
              <a:avLst/>
              <a:gdLst/>
              <a:ahLst/>
              <a:rect l="l" t="t" r="r" b="b"/>
              <a:pathLst>
                <a:path w="258417" h="407505">
                  <a:moveTo>
                    <a:pt x="0" y="0"/>
                  </a:moveTo>
                  <a:lnTo>
                    <a:pt x="258417" y="198784"/>
                  </a:lnTo>
                  <a:lnTo>
                    <a:pt x="0" y="4075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组合 23"/>
          <p:cNvGrpSpPr/>
          <p:nvPr/>
        </p:nvGrpSpPr>
        <p:grpSpPr>
          <a:xfrm>
            <a:off x="3559320" y="2716200"/>
            <a:ext cx="237960" cy="1374840"/>
            <a:chOff x="3559320" y="2716200"/>
            <a:chExt cx="237960" cy="1374840"/>
          </a:xfrm>
        </p:grpSpPr>
        <p:grpSp>
          <p:nvGrpSpPr>
            <p:cNvPr id="146" name="组合 24"/>
            <p:cNvGrpSpPr/>
            <p:nvPr/>
          </p:nvGrpSpPr>
          <p:grpSpPr>
            <a:xfrm>
              <a:off x="3559320" y="2716200"/>
              <a:ext cx="237960" cy="1374840"/>
              <a:chOff x="3559320" y="2716200"/>
              <a:chExt cx="237960" cy="1374840"/>
            </a:xfrm>
          </p:grpSpPr>
          <p:sp>
            <p:nvSpPr>
              <p:cNvPr id="147" name="圆角矩形 26"/>
              <p:cNvSpPr/>
              <p:nvPr/>
            </p:nvSpPr>
            <p:spPr>
              <a:xfrm rot="16200000">
                <a:off x="3075120" y="3319560"/>
                <a:ext cx="1205280" cy="147600"/>
              </a:xfrm>
              <a:prstGeom prst="roundRect">
                <a:avLst>
                  <a:gd name="adj" fmla="val 16667"/>
                </a:avLst>
              </a:prstGeom>
              <a:solidFill>
                <a:srgbClr val="b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8" name="圆角矩形 27"/>
              <p:cNvGrpSpPr/>
              <p:nvPr/>
            </p:nvGrpSpPr>
            <p:grpSpPr>
              <a:xfrm>
                <a:off x="3559320" y="2716200"/>
                <a:ext cx="237960" cy="1374840"/>
                <a:chOff x="3559320" y="2716200"/>
                <a:chExt cx="237960" cy="1374840"/>
              </a:xfrm>
            </p:grpSpPr>
            <p:pic>
              <p:nvPicPr>
                <p:cNvPr id="149" name="圆角矩形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559320" y="2716200"/>
                  <a:ext cx="237960" cy="137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" name=""/>
                <p:cNvSpPr/>
                <p:nvPr/>
              </p:nvSpPr>
              <p:spPr>
                <a:xfrm rot="16200000">
                  <a:off x="3084120" y="3341880"/>
                  <a:ext cx="118656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1" name="圆角矩形 28"/>
              <p:cNvGrpSpPr/>
              <p:nvPr/>
            </p:nvGrpSpPr>
            <p:grpSpPr>
              <a:xfrm>
                <a:off x="3597120" y="2779920"/>
                <a:ext cx="162360" cy="1241280"/>
                <a:chOff x="3597120" y="2779920"/>
                <a:chExt cx="162360" cy="1241280"/>
              </a:xfrm>
            </p:grpSpPr>
            <p:pic>
              <p:nvPicPr>
                <p:cNvPr id="152" name="圆角矩形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597120" y="2779920"/>
                  <a:ext cx="162360" cy="124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" name=""/>
                <p:cNvSpPr/>
                <p:nvPr/>
              </p:nvSpPr>
              <p:spPr>
                <a:xfrm rot="16200000">
                  <a:off x="3083760" y="3341160"/>
                  <a:ext cx="118836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54" name="任意多边形 25"/>
            <p:cNvSpPr/>
            <p:nvPr/>
          </p:nvSpPr>
          <p:spPr>
            <a:xfrm rot="16200000">
              <a:off x="3639240" y="3935880"/>
              <a:ext cx="90360" cy="193680"/>
            </a:xfrm>
            <a:custGeom>
              <a:avLst/>
              <a:gdLst/>
              <a:ahLst/>
              <a:rect l="l" t="t" r="r" b="b"/>
              <a:pathLst>
                <a:path w="258417" h="407505">
                  <a:moveTo>
                    <a:pt x="0" y="0"/>
                  </a:moveTo>
                  <a:lnTo>
                    <a:pt x="258417" y="198784"/>
                  </a:lnTo>
                  <a:lnTo>
                    <a:pt x="0" y="4075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29"/>
          <p:cNvGrpSpPr/>
          <p:nvPr/>
        </p:nvGrpSpPr>
        <p:grpSpPr>
          <a:xfrm>
            <a:off x="3838680" y="2572200"/>
            <a:ext cx="236520" cy="1512360"/>
            <a:chOff x="3838680" y="2572200"/>
            <a:chExt cx="236520" cy="1512360"/>
          </a:xfrm>
        </p:grpSpPr>
        <p:grpSp>
          <p:nvGrpSpPr>
            <p:cNvPr id="156" name="组合 30"/>
            <p:cNvGrpSpPr/>
            <p:nvPr/>
          </p:nvGrpSpPr>
          <p:grpSpPr>
            <a:xfrm>
              <a:off x="3838680" y="2572200"/>
              <a:ext cx="236520" cy="1505160"/>
              <a:chOff x="3838680" y="2572200"/>
              <a:chExt cx="236520" cy="1505160"/>
            </a:xfrm>
          </p:grpSpPr>
          <p:grpSp>
            <p:nvGrpSpPr>
              <p:cNvPr id="157" name="圆角矩形 32"/>
              <p:cNvGrpSpPr/>
              <p:nvPr/>
            </p:nvGrpSpPr>
            <p:grpSpPr>
              <a:xfrm>
                <a:off x="3838680" y="2572200"/>
                <a:ext cx="236520" cy="1505160"/>
                <a:chOff x="3838680" y="2572200"/>
                <a:chExt cx="236520" cy="1505160"/>
              </a:xfrm>
            </p:grpSpPr>
            <p:pic>
              <p:nvPicPr>
                <p:cNvPr id="158" name="圆角矩形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838680" y="2572200"/>
                  <a:ext cx="236520" cy="150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" name=""/>
                <p:cNvSpPr/>
                <p:nvPr/>
              </p:nvSpPr>
              <p:spPr>
                <a:xfrm rot="16200000">
                  <a:off x="3299760" y="3260520"/>
                  <a:ext cx="1314720" cy="12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0" name="圆角矩形 33"/>
              <p:cNvGrpSpPr/>
              <p:nvPr/>
            </p:nvGrpSpPr>
            <p:grpSpPr>
              <a:xfrm>
                <a:off x="3841920" y="2572200"/>
                <a:ext cx="229680" cy="1505160"/>
                <a:chOff x="3841920" y="2572200"/>
                <a:chExt cx="229680" cy="1505160"/>
              </a:xfrm>
            </p:grpSpPr>
            <p:pic>
              <p:nvPicPr>
                <p:cNvPr id="161" name="圆角矩形 33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841920" y="2572200"/>
                  <a:ext cx="229680" cy="150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" name=""/>
                <p:cNvSpPr/>
                <p:nvPr/>
              </p:nvSpPr>
              <p:spPr>
                <a:xfrm rot="16200000">
                  <a:off x="3298320" y="3266280"/>
                  <a:ext cx="13165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3" name="圆角矩形 34"/>
              <p:cNvGrpSpPr/>
              <p:nvPr/>
            </p:nvGrpSpPr>
            <p:grpSpPr>
              <a:xfrm>
                <a:off x="3885120" y="2637000"/>
                <a:ext cx="146880" cy="1370520"/>
                <a:chOff x="3885120" y="2637000"/>
                <a:chExt cx="146880" cy="1370520"/>
              </a:xfrm>
            </p:grpSpPr>
            <p:pic>
              <p:nvPicPr>
                <p:cNvPr id="164" name="圆角矩形 34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885120" y="2637000"/>
                  <a:ext cx="146880" cy="137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 rot="16200000">
                  <a:off x="3299400" y="3263400"/>
                  <a:ext cx="131868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66" name="任意多边形 31"/>
            <p:cNvSpPr/>
            <p:nvPr/>
          </p:nvSpPr>
          <p:spPr>
            <a:xfrm rot="16200000">
              <a:off x="3914280" y="3939480"/>
              <a:ext cx="97920" cy="192240"/>
            </a:xfrm>
            <a:custGeom>
              <a:avLst/>
              <a:gdLst/>
              <a:ahLst/>
              <a:rect l="l" t="t" r="r" b="b"/>
              <a:pathLst>
                <a:path w="258417" h="407505">
                  <a:moveTo>
                    <a:pt x="0" y="0"/>
                  </a:moveTo>
                  <a:lnTo>
                    <a:pt x="258417" y="198784"/>
                  </a:lnTo>
                  <a:lnTo>
                    <a:pt x="0" y="4075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35"/>
          <p:cNvGrpSpPr/>
          <p:nvPr/>
        </p:nvGrpSpPr>
        <p:grpSpPr>
          <a:xfrm>
            <a:off x="4664160" y="2427120"/>
            <a:ext cx="237960" cy="1663920"/>
            <a:chOff x="4664160" y="2427120"/>
            <a:chExt cx="237960" cy="1663920"/>
          </a:xfrm>
        </p:grpSpPr>
        <p:grpSp>
          <p:nvGrpSpPr>
            <p:cNvPr id="168" name="组合 36"/>
            <p:cNvGrpSpPr/>
            <p:nvPr/>
          </p:nvGrpSpPr>
          <p:grpSpPr>
            <a:xfrm>
              <a:off x="4664160" y="2427120"/>
              <a:ext cx="237960" cy="1663920"/>
              <a:chOff x="4664160" y="2427120"/>
              <a:chExt cx="237960" cy="1663920"/>
            </a:xfrm>
          </p:grpSpPr>
          <p:sp>
            <p:nvSpPr>
              <p:cNvPr id="169" name="圆角矩形 38"/>
              <p:cNvSpPr/>
              <p:nvPr/>
            </p:nvSpPr>
            <p:spPr>
              <a:xfrm rot="16200000">
                <a:off x="4039920" y="3177000"/>
                <a:ext cx="1487520" cy="147600"/>
              </a:xfrm>
              <a:prstGeom prst="roundRect">
                <a:avLst>
                  <a:gd name="adj" fmla="val 16667"/>
                </a:avLst>
              </a:prstGeom>
              <a:solidFill>
                <a:srgbClr val="b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圆角矩形 39"/>
              <p:cNvGrpSpPr/>
              <p:nvPr/>
            </p:nvGrpSpPr>
            <p:grpSpPr>
              <a:xfrm>
                <a:off x="4664160" y="2427120"/>
                <a:ext cx="237960" cy="1663920"/>
                <a:chOff x="4664160" y="2427120"/>
                <a:chExt cx="237960" cy="1663920"/>
              </a:xfrm>
            </p:grpSpPr>
            <p:pic>
              <p:nvPicPr>
                <p:cNvPr id="171" name="圆角矩形 39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664160" y="2427120"/>
                  <a:ext cx="237960" cy="166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"/>
                <p:cNvSpPr/>
                <p:nvPr/>
              </p:nvSpPr>
              <p:spPr>
                <a:xfrm rot="16200000">
                  <a:off x="4048920" y="3198600"/>
                  <a:ext cx="146808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圆角矩形 40"/>
              <p:cNvGrpSpPr/>
              <p:nvPr/>
            </p:nvGrpSpPr>
            <p:grpSpPr>
              <a:xfrm>
                <a:off x="4705560" y="2498040"/>
                <a:ext cx="158760" cy="1522080"/>
                <a:chOff x="4705560" y="2498040"/>
                <a:chExt cx="158760" cy="1522080"/>
              </a:xfrm>
            </p:grpSpPr>
            <p:pic>
              <p:nvPicPr>
                <p:cNvPr id="174" name="圆角矩形 40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705560" y="2498040"/>
                  <a:ext cx="158760" cy="152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" name=""/>
                <p:cNvSpPr/>
                <p:nvPr/>
              </p:nvSpPr>
              <p:spPr>
                <a:xfrm rot="16200000">
                  <a:off x="4048920" y="3199320"/>
                  <a:ext cx="147024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76" name="任意多边形 37"/>
            <p:cNvSpPr/>
            <p:nvPr/>
          </p:nvSpPr>
          <p:spPr>
            <a:xfrm rot="16200000">
              <a:off x="4735440" y="3935520"/>
              <a:ext cx="107640" cy="193680"/>
            </a:xfrm>
            <a:custGeom>
              <a:avLst/>
              <a:gdLst/>
              <a:ahLst/>
              <a:rect l="l" t="t" r="r" b="b"/>
              <a:pathLst>
                <a:path w="258417" h="407505">
                  <a:moveTo>
                    <a:pt x="0" y="0"/>
                  </a:moveTo>
                  <a:lnTo>
                    <a:pt x="258417" y="198784"/>
                  </a:lnTo>
                  <a:lnTo>
                    <a:pt x="0" y="4075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41"/>
          <p:cNvGrpSpPr/>
          <p:nvPr/>
        </p:nvGrpSpPr>
        <p:grpSpPr>
          <a:xfrm>
            <a:off x="4943520" y="2284560"/>
            <a:ext cx="236520" cy="1800000"/>
            <a:chOff x="4943520" y="2284560"/>
            <a:chExt cx="236520" cy="1800000"/>
          </a:xfrm>
        </p:grpSpPr>
        <p:grpSp>
          <p:nvGrpSpPr>
            <p:cNvPr id="178" name="组合 42"/>
            <p:cNvGrpSpPr/>
            <p:nvPr/>
          </p:nvGrpSpPr>
          <p:grpSpPr>
            <a:xfrm>
              <a:off x="4943520" y="2284560"/>
              <a:ext cx="236520" cy="1800000"/>
              <a:chOff x="4943520" y="2284560"/>
              <a:chExt cx="236520" cy="1800000"/>
            </a:xfrm>
          </p:grpSpPr>
          <p:grpSp>
            <p:nvGrpSpPr>
              <p:cNvPr id="179" name="圆角矩形 44"/>
              <p:cNvGrpSpPr/>
              <p:nvPr/>
            </p:nvGrpSpPr>
            <p:grpSpPr>
              <a:xfrm>
                <a:off x="4943520" y="2284560"/>
                <a:ext cx="236520" cy="1800000"/>
                <a:chOff x="4943520" y="2284560"/>
                <a:chExt cx="236520" cy="1800000"/>
              </a:xfrm>
            </p:grpSpPr>
            <p:pic>
              <p:nvPicPr>
                <p:cNvPr id="180" name="圆角矩形 4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943520" y="2284560"/>
                  <a:ext cx="236520" cy="180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6200000">
                  <a:off x="4263480" y="3121200"/>
                  <a:ext cx="1595160" cy="1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2" name="圆角矩形 45"/>
              <p:cNvGrpSpPr/>
              <p:nvPr/>
            </p:nvGrpSpPr>
            <p:grpSpPr>
              <a:xfrm>
                <a:off x="4950360" y="2284560"/>
                <a:ext cx="222480" cy="1800000"/>
                <a:chOff x="4950360" y="2284560"/>
                <a:chExt cx="222480" cy="1800000"/>
              </a:xfrm>
            </p:grpSpPr>
            <p:pic>
              <p:nvPicPr>
                <p:cNvPr id="183" name="圆角矩形 4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4950360" y="2284560"/>
                  <a:ext cx="222480" cy="180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6200000">
                  <a:off x="4261680" y="3126960"/>
                  <a:ext cx="159732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5" name="圆角矩形 46"/>
              <p:cNvGrpSpPr/>
              <p:nvPr/>
            </p:nvGrpSpPr>
            <p:grpSpPr>
              <a:xfrm>
                <a:off x="4989240" y="2350440"/>
                <a:ext cx="148320" cy="1657440"/>
                <a:chOff x="4989240" y="2350440"/>
                <a:chExt cx="148320" cy="1657440"/>
              </a:xfrm>
            </p:grpSpPr>
            <p:pic>
              <p:nvPicPr>
                <p:cNvPr id="186" name="圆角矩形 4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4989240" y="2350440"/>
                  <a:ext cx="148320" cy="16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"/>
                <p:cNvSpPr/>
                <p:nvPr/>
              </p:nvSpPr>
              <p:spPr>
                <a:xfrm rot="16200000">
                  <a:off x="4262760" y="3123360"/>
                  <a:ext cx="159948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88" name="任意多边形 43"/>
            <p:cNvSpPr/>
            <p:nvPr/>
          </p:nvSpPr>
          <p:spPr>
            <a:xfrm rot="16200000">
              <a:off x="5009400" y="3926880"/>
              <a:ext cx="117360" cy="192240"/>
            </a:xfrm>
            <a:custGeom>
              <a:avLst/>
              <a:gdLst/>
              <a:ahLst/>
              <a:rect l="l" t="t" r="r" b="b"/>
              <a:pathLst>
                <a:path w="258417" h="407505">
                  <a:moveTo>
                    <a:pt x="0" y="0"/>
                  </a:moveTo>
                  <a:lnTo>
                    <a:pt x="258417" y="198784"/>
                  </a:lnTo>
                  <a:lnTo>
                    <a:pt x="0" y="4075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47"/>
          <p:cNvGrpSpPr/>
          <p:nvPr/>
        </p:nvGrpSpPr>
        <p:grpSpPr>
          <a:xfrm>
            <a:off x="5719680" y="2284560"/>
            <a:ext cx="238320" cy="1806480"/>
            <a:chOff x="5719680" y="2284560"/>
            <a:chExt cx="238320" cy="1806480"/>
          </a:xfrm>
        </p:grpSpPr>
        <p:grpSp>
          <p:nvGrpSpPr>
            <p:cNvPr id="190" name="组合 48"/>
            <p:cNvGrpSpPr/>
            <p:nvPr/>
          </p:nvGrpSpPr>
          <p:grpSpPr>
            <a:xfrm>
              <a:off x="5719680" y="2284560"/>
              <a:ext cx="238320" cy="1806480"/>
              <a:chOff x="5719680" y="2284560"/>
              <a:chExt cx="238320" cy="1806480"/>
            </a:xfrm>
          </p:grpSpPr>
          <p:sp>
            <p:nvSpPr>
              <p:cNvPr id="191" name="圆角矩形 50"/>
              <p:cNvSpPr/>
              <p:nvPr/>
            </p:nvSpPr>
            <p:spPr>
              <a:xfrm rot="16200000">
                <a:off x="5029560" y="3104280"/>
                <a:ext cx="1621080" cy="147960"/>
              </a:xfrm>
              <a:prstGeom prst="roundRect">
                <a:avLst>
                  <a:gd name="adj" fmla="val 16667"/>
                </a:avLst>
              </a:prstGeom>
              <a:solidFill>
                <a:srgbClr val="b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2" name="圆角矩形 51"/>
              <p:cNvGrpSpPr/>
              <p:nvPr/>
            </p:nvGrpSpPr>
            <p:grpSpPr>
              <a:xfrm>
                <a:off x="5719680" y="2284560"/>
                <a:ext cx="238320" cy="1806480"/>
                <a:chOff x="5719680" y="2284560"/>
                <a:chExt cx="238320" cy="1806480"/>
              </a:xfrm>
            </p:grpSpPr>
            <p:pic>
              <p:nvPicPr>
                <p:cNvPr id="193" name="圆角矩形 5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5719680" y="2284560"/>
                  <a:ext cx="238320" cy="180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"/>
                <p:cNvSpPr/>
                <p:nvPr/>
              </p:nvSpPr>
              <p:spPr>
                <a:xfrm rot="16200000">
                  <a:off x="5038920" y="3126240"/>
                  <a:ext cx="160128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5" name="圆角矩形 52"/>
              <p:cNvGrpSpPr/>
              <p:nvPr/>
            </p:nvGrpSpPr>
            <p:grpSpPr>
              <a:xfrm>
                <a:off x="5761080" y="2355840"/>
                <a:ext cx="158760" cy="1658880"/>
                <a:chOff x="5761080" y="2355840"/>
                <a:chExt cx="158760" cy="1658880"/>
              </a:xfrm>
            </p:grpSpPr>
            <p:pic>
              <p:nvPicPr>
                <p:cNvPr id="196" name="圆角矩形 5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761080" y="2355840"/>
                  <a:ext cx="158760" cy="1658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7" name=""/>
                <p:cNvSpPr/>
                <p:nvPr/>
              </p:nvSpPr>
              <p:spPr>
                <a:xfrm rot="16200000">
                  <a:off x="5037840" y="3126600"/>
                  <a:ext cx="160380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8" name="任意多边形 49"/>
            <p:cNvSpPr/>
            <p:nvPr/>
          </p:nvSpPr>
          <p:spPr>
            <a:xfrm rot="16200000">
              <a:off x="5786280" y="3930480"/>
              <a:ext cx="117360" cy="194040"/>
            </a:xfrm>
            <a:custGeom>
              <a:avLst/>
              <a:gdLst/>
              <a:ahLst/>
              <a:rect l="l" t="t" r="r" b="b"/>
              <a:pathLst>
                <a:path w="258417" h="407505">
                  <a:moveTo>
                    <a:pt x="0" y="0"/>
                  </a:moveTo>
                  <a:lnTo>
                    <a:pt x="258417" y="198784"/>
                  </a:lnTo>
                  <a:lnTo>
                    <a:pt x="0" y="4075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53"/>
          <p:cNvGrpSpPr/>
          <p:nvPr/>
        </p:nvGrpSpPr>
        <p:grpSpPr>
          <a:xfrm>
            <a:off x="5999040" y="2140200"/>
            <a:ext cx="236520" cy="1944360"/>
            <a:chOff x="5999040" y="2140200"/>
            <a:chExt cx="236520" cy="1944360"/>
          </a:xfrm>
        </p:grpSpPr>
        <p:grpSp>
          <p:nvGrpSpPr>
            <p:cNvPr id="200" name="组合 54"/>
            <p:cNvGrpSpPr/>
            <p:nvPr/>
          </p:nvGrpSpPr>
          <p:grpSpPr>
            <a:xfrm>
              <a:off x="5999040" y="2140200"/>
              <a:ext cx="236520" cy="1938600"/>
              <a:chOff x="5999040" y="2140200"/>
              <a:chExt cx="236520" cy="1938600"/>
            </a:xfrm>
          </p:grpSpPr>
          <p:grpSp>
            <p:nvGrpSpPr>
              <p:cNvPr id="201" name="圆角矩形 56"/>
              <p:cNvGrpSpPr/>
              <p:nvPr/>
            </p:nvGrpSpPr>
            <p:grpSpPr>
              <a:xfrm>
                <a:off x="5999040" y="2140200"/>
                <a:ext cx="236520" cy="1938600"/>
                <a:chOff x="5999040" y="2140200"/>
                <a:chExt cx="236520" cy="1938600"/>
              </a:xfrm>
            </p:grpSpPr>
            <p:pic>
              <p:nvPicPr>
                <p:cNvPr id="202" name="圆角矩形 56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5999040" y="2140200"/>
                  <a:ext cx="236520" cy="193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6200000">
                  <a:off x="5251680" y="3047400"/>
                  <a:ext cx="1731240" cy="1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4" name="圆角矩形 57"/>
              <p:cNvGrpSpPr/>
              <p:nvPr/>
            </p:nvGrpSpPr>
            <p:grpSpPr>
              <a:xfrm>
                <a:off x="6005880" y="2140200"/>
                <a:ext cx="222480" cy="1938600"/>
                <a:chOff x="6005880" y="2140200"/>
                <a:chExt cx="222480" cy="1938600"/>
              </a:xfrm>
            </p:grpSpPr>
            <p:pic>
              <p:nvPicPr>
                <p:cNvPr id="205" name="圆角矩形 57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6005880" y="2140200"/>
                  <a:ext cx="222480" cy="193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6200000">
                  <a:off x="5250240" y="3053160"/>
                  <a:ext cx="173304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7" name="圆角矩形 58"/>
              <p:cNvGrpSpPr/>
              <p:nvPr/>
            </p:nvGrpSpPr>
            <p:grpSpPr>
              <a:xfrm>
                <a:off x="6044760" y="2211480"/>
                <a:ext cx="148320" cy="1789920"/>
                <a:chOff x="6044760" y="2211480"/>
                <a:chExt cx="148320" cy="1789920"/>
              </a:xfrm>
            </p:grpSpPr>
            <p:pic>
              <p:nvPicPr>
                <p:cNvPr id="208" name="圆角矩形 58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6044760" y="2211480"/>
                  <a:ext cx="148320" cy="1789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9" name=""/>
                <p:cNvSpPr/>
                <p:nvPr/>
              </p:nvSpPr>
              <p:spPr>
                <a:xfrm rot="16200000">
                  <a:off x="5250600" y="3048480"/>
                  <a:ext cx="173556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10" name="任意多边形 55"/>
            <p:cNvSpPr/>
            <p:nvPr/>
          </p:nvSpPr>
          <p:spPr>
            <a:xfrm rot="16200000">
              <a:off x="6060240" y="3925080"/>
              <a:ext cx="126360" cy="192240"/>
            </a:xfrm>
            <a:custGeom>
              <a:avLst/>
              <a:gdLst/>
              <a:ahLst/>
              <a:rect l="l" t="t" r="r" b="b"/>
              <a:pathLst>
                <a:path w="258417" h="407505">
                  <a:moveTo>
                    <a:pt x="0" y="0"/>
                  </a:moveTo>
                  <a:lnTo>
                    <a:pt x="258417" y="198784"/>
                  </a:lnTo>
                  <a:lnTo>
                    <a:pt x="0" y="4075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任意多边形 59"/>
          <p:cNvSpPr/>
          <p:nvPr/>
        </p:nvSpPr>
        <p:spPr>
          <a:xfrm>
            <a:off x="2098800" y="1560600"/>
            <a:ext cx="4784760" cy="2663640"/>
          </a:xfrm>
          <a:custGeom>
            <a:avLst/>
            <a:gdLst/>
            <a:ahLst/>
            <a:rect l="l" t="t" r="r" b="b"/>
            <a:pathLst>
              <a:path w="5218044" h="2663687">
                <a:moveTo>
                  <a:pt x="0" y="0"/>
                </a:moveTo>
                <a:lnTo>
                  <a:pt x="0" y="2663687"/>
                </a:lnTo>
                <a:lnTo>
                  <a:pt x="5218044" y="2663687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61"/>
          <p:cNvSpPr/>
          <p:nvPr/>
        </p:nvSpPr>
        <p:spPr>
          <a:xfrm>
            <a:off x="2584080" y="4235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62"/>
          <p:cNvSpPr/>
          <p:nvPr/>
        </p:nvSpPr>
        <p:spPr>
          <a:xfrm>
            <a:off x="3619080" y="4235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63"/>
          <p:cNvSpPr/>
          <p:nvPr/>
        </p:nvSpPr>
        <p:spPr>
          <a:xfrm>
            <a:off x="4731840" y="4235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64"/>
          <p:cNvSpPr/>
          <p:nvPr/>
        </p:nvSpPr>
        <p:spPr>
          <a:xfrm>
            <a:off x="5790240" y="4235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65"/>
          <p:cNvSpPr/>
          <p:nvPr/>
        </p:nvSpPr>
        <p:spPr>
          <a:xfrm>
            <a:off x="2483280" y="19033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66"/>
          <p:cNvSpPr/>
          <p:nvPr/>
        </p:nvSpPr>
        <p:spPr>
          <a:xfrm>
            <a:off x="2822400" y="22845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67"/>
          <p:cNvSpPr/>
          <p:nvPr/>
        </p:nvSpPr>
        <p:spPr>
          <a:xfrm>
            <a:off x="3782160" y="22766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68"/>
          <p:cNvSpPr/>
          <p:nvPr/>
        </p:nvSpPr>
        <p:spPr>
          <a:xfrm>
            <a:off x="3441600" y="24289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69"/>
          <p:cNvSpPr/>
          <p:nvPr/>
        </p:nvSpPr>
        <p:spPr>
          <a:xfrm>
            <a:off x="4540680" y="21384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70"/>
          <p:cNvSpPr/>
          <p:nvPr/>
        </p:nvSpPr>
        <p:spPr>
          <a:xfrm>
            <a:off x="4879080" y="19969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71"/>
          <p:cNvSpPr/>
          <p:nvPr/>
        </p:nvSpPr>
        <p:spPr>
          <a:xfrm>
            <a:off x="5594040" y="19969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2"/>
          <p:cNvSpPr/>
          <p:nvPr/>
        </p:nvSpPr>
        <p:spPr>
          <a:xfrm>
            <a:off x="5956920" y="18572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74"/>
          <p:cNvSpPr/>
          <p:nvPr/>
        </p:nvSpPr>
        <p:spPr>
          <a:xfrm>
            <a:off x="976320" y="73080"/>
            <a:ext cx="81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六边形 3"/>
          <p:cNvGrpSpPr/>
          <p:nvPr/>
        </p:nvGrpSpPr>
        <p:grpSpPr>
          <a:xfrm>
            <a:off x="3736800" y="2163600"/>
            <a:ext cx="1365120" cy="1195560"/>
            <a:chOff x="3736800" y="2163600"/>
            <a:chExt cx="1365120" cy="1195560"/>
          </a:xfrm>
        </p:grpSpPr>
        <p:pic>
          <p:nvPicPr>
            <p:cNvPr id="226" name="六边形 3" descr=""/>
            <p:cNvPicPr/>
            <p:nvPr/>
          </p:nvPicPr>
          <p:blipFill>
            <a:blip r:embed="rId2"/>
            <a:stretch/>
          </p:blipFill>
          <p:spPr>
            <a:xfrm>
              <a:off x="3736800" y="2163600"/>
              <a:ext cx="136512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016160" y="2414520"/>
              <a:ext cx="8064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六边形 4"/>
          <p:cNvGrpSpPr/>
          <p:nvPr/>
        </p:nvGrpSpPr>
        <p:grpSpPr>
          <a:xfrm>
            <a:off x="4743360" y="1590840"/>
            <a:ext cx="1365120" cy="1188720"/>
            <a:chOff x="4743360" y="1590840"/>
            <a:chExt cx="1365120" cy="1188720"/>
          </a:xfrm>
        </p:grpSpPr>
        <p:pic>
          <p:nvPicPr>
            <p:cNvPr id="229" name="六边形 4" descr=""/>
            <p:cNvPicPr/>
            <p:nvPr/>
          </p:nvPicPr>
          <p:blipFill>
            <a:blip r:embed="rId3"/>
            <a:stretch/>
          </p:blipFill>
          <p:spPr>
            <a:xfrm>
              <a:off x="4743360" y="1590840"/>
              <a:ext cx="1365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5024520" y="1838160"/>
              <a:ext cx="80640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六边形 5"/>
          <p:cNvGrpSpPr/>
          <p:nvPr/>
        </p:nvGrpSpPr>
        <p:grpSpPr>
          <a:xfrm>
            <a:off x="4743360" y="2724120"/>
            <a:ext cx="1365120" cy="1195560"/>
            <a:chOff x="4743360" y="2724120"/>
            <a:chExt cx="1365120" cy="1195560"/>
          </a:xfrm>
        </p:grpSpPr>
        <p:pic>
          <p:nvPicPr>
            <p:cNvPr id="232" name="六边形 5" descr=""/>
            <p:cNvPicPr/>
            <p:nvPr/>
          </p:nvPicPr>
          <p:blipFill>
            <a:blip r:embed="rId4"/>
            <a:stretch/>
          </p:blipFill>
          <p:spPr>
            <a:xfrm>
              <a:off x="4743360" y="2724120"/>
              <a:ext cx="136512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024520" y="2973240"/>
              <a:ext cx="8064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六边形 6"/>
          <p:cNvGrpSpPr/>
          <p:nvPr/>
        </p:nvGrpSpPr>
        <p:grpSpPr>
          <a:xfrm>
            <a:off x="2730600" y="2724120"/>
            <a:ext cx="1365120" cy="1195560"/>
            <a:chOff x="2730600" y="2724120"/>
            <a:chExt cx="1365120" cy="1195560"/>
          </a:xfrm>
        </p:grpSpPr>
        <p:pic>
          <p:nvPicPr>
            <p:cNvPr id="235" name="六边形 6" descr=""/>
            <p:cNvPicPr/>
            <p:nvPr/>
          </p:nvPicPr>
          <p:blipFill>
            <a:blip r:embed="rId5"/>
            <a:stretch/>
          </p:blipFill>
          <p:spPr>
            <a:xfrm>
              <a:off x="2730600" y="2724120"/>
              <a:ext cx="136512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008520" y="2973240"/>
              <a:ext cx="8064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六边形 7"/>
          <p:cNvGrpSpPr/>
          <p:nvPr/>
        </p:nvGrpSpPr>
        <p:grpSpPr>
          <a:xfrm>
            <a:off x="3736800" y="3273480"/>
            <a:ext cx="1365120" cy="1189080"/>
            <a:chOff x="3736800" y="3273480"/>
            <a:chExt cx="1365120" cy="1189080"/>
          </a:xfrm>
        </p:grpSpPr>
        <p:pic>
          <p:nvPicPr>
            <p:cNvPr id="238" name="六边形 7" descr=""/>
            <p:cNvPicPr/>
            <p:nvPr/>
          </p:nvPicPr>
          <p:blipFill>
            <a:blip r:embed="rId6"/>
            <a:stretch/>
          </p:blipFill>
          <p:spPr>
            <a:xfrm>
              <a:off x="3736800" y="3273480"/>
              <a:ext cx="1365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4016160" y="3519720"/>
              <a:ext cx="8064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六边形 8"/>
          <p:cNvGrpSpPr/>
          <p:nvPr/>
        </p:nvGrpSpPr>
        <p:grpSpPr>
          <a:xfrm>
            <a:off x="2730600" y="1620720"/>
            <a:ext cx="1365120" cy="1195560"/>
            <a:chOff x="2730600" y="1620720"/>
            <a:chExt cx="1365120" cy="1195560"/>
          </a:xfrm>
        </p:grpSpPr>
        <p:pic>
          <p:nvPicPr>
            <p:cNvPr id="241" name="六边形 8" descr=""/>
            <p:cNvPicPr/>
            <p:nvPr/>
          </p:nvPicPr>
          <p:blipFill>
            <a:blip r:embed="rId7"/>
            <a:stretch/>
          </p:blipFill>
          <p:spPr>
            <a:xfrm>
              <a:off x="2730600" y="1620720"/>
              <a:ext cx="136512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3008520" y="1871640"/>
              <a:ext cx="8064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六边形 9"/>
          <p:cNvGrpSpPr/>
          <p:nvPr/>
        </p:nvGrpSpPr>
        <p:grpSpPr>
          <a:xfrm>
            <a:off x="3730680" y="1066680"/>
            <a:ext cx="1365120" cy="1189080"/>
            <a:chOff x="3730680" y="1066680"/>
            <a:chExt cx="1365120" cy="1189080"/>
          </a:xfrm>
        </p:grpSpPr>
        <p:pic>
          <p:nvPicPr>
            <p:cNvPr id="244" name="六边形 9" descr=""/>
            <p:cNvPicPr/>
            <p:nvPr/>
          </p:nvPicPr>
          <p:blipFill>
            <a:blip r:embed="rId8"/>
            <a:stretch/>
          </p:blipFill>
          <p:spPr>
            <a:xfrm>
              <a:off x="3730680" y="1066680"/>
              <a:ext cx="1365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010040" y="1312920"/>
              <a:ext cx="8064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TextBox 17"/>
          <p:cNvSpPr/>
          <p:nvPr/>
        </p:nvSpPr>
        <p:spPr>
          <a:xfrm>
            <a:off x="4173480" y="2571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4192560" y="1482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19"/>
          <p:cNvSpPr/>
          <p:nvPr/>
        </p:nvSpPr>
        <p:spPr>
          <a:xfrm>
            <a:off x="4186440" y="3683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3191040" y="2035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21"/>
          <p:cNvSpPr/>
          <p:nvPr/>
        </p:nvSpPr>
        <p:spPr>
          <a:xfrm>
            <a:off x="3191040" y="313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22"/>
          <p:cNvSpPr/>
          <p:nvPr/>
        </p:nvSpPr>
        <p:spPr>
          <a:xfrm>
            <a:off x="5199120" y="313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23"/>
          <p:cNvSpPr/>
          <p:nvPr/>
        </p:nvSpPr>
        <p:spPr>
          <a:xfrm>
            <a:off x="5199120" y="2001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26"/>
          <p:cNvSpPr/>
          <p:nvPr/>
        </p:nvSpPr>
        <p:spPr>
          <a:xfrm>
            <a:off x="976320" y="73080"/>
            <a:ext cx="81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矩形 4"/>
          <p:cNvGrpSpPr/>
          <p:nvPr/>
        </p:nvGrpSpPr>
        <p:grpSpPr>
          <a:xfrm>
            <a:off x="-176040" y="1017720"/>
            <a:ext cx="9496080" cy="3468600"/>
            <a:chOff x="-176040" y="1017720"/>
            <a:chExt cx="9496080" cy="3468600"/>
          </a:xfrm>
        </p:grpSpPr>
        <p:pic>
          <p:nvPicPr>
            <p:cNvPr id="255" name="矩形 4" descr=""/>
            <p:cNvPicPr/>
            <p:nvPr/>
          </p:nvPicPr>
          <p:blipFill>
            <a:blip r:embed="rId2"/>
            <a:stretch/>
          </p:blipFill>
          <p:spPr>
            <a:xfrm>
              <a:off x="-176040" y="1017720"/>
              <a:ext cx="9496080" cy="34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0" y="1132200"/>
              <a:ext cx="9143640" cy="32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7" name="Picture 2" descr="C:\Documents and Settings\Administrator.22E4387E8B884A9\My Documents\My Pictures\xinsrc_5821004122203000540119.jpg"/>
          <p:cNvPicPr/>
          <p:nvPr/>
        </p:nvPicPr>
        <p:blipFill>
          <a:blip r:embed="rId3"/>
          <a:stretch/>
        </p:blipFill>
        <p:spPr>
          <a:xfrm>
            <a:off x="950760" y="914400"/>
            <a:ext cx="3164040" cy="7223040"/>
          </a:xfrm>
          <a:prstGeom prst="rect">
            <a:avLst/>
          </a:prstGeom>
          <a:ln w="0">
            <a:noFill/>
          </a:ln>
        </p:spPr>
      </p:pic>
      <p:sp>
        <p:nvSpPr>
          <p:cNvPr id="258" name="矩形 3"/>
          <p:cNvSpPr/>
          <p:nvPr/>
        </p:nvSpPr>
        <p:spPr>
          <a:xfrm>
            <a:off x="4500720" y="220176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共产党成立于１９２１年７月１日。１９４９年１０月１日，中华人民共和国成立，使领导和组织中国人民革命的中国共产党成为全国范围的执政党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976320" y="73080"/>
            <a:ext cx="81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图片文字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C06-5D19-41C5-BAE4-8C4B02B31F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extBox 3" descr=""/>
          <p:cNvPicPr/>
          <p:nvPr/>
        </p:nvPicPr>
        <p:blipFill>
          <a:blip r:embed="rId2"/>
          <a:stretch/>
        </p:blipFill>
        <p:spPr>
          <a:xfrm>
            <a:off x="2036880" y="1779480"/>
            <a:ext cx="51991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1:15:41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19:52Z</dcterms:modified>
  <cp:revision>3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