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CCA-293B-4EB0-B53F-CCB107DA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7A3-6080-438C-AE8E-70FAA09E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9FA-477D-4306-BAB8-0479F390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2D2-7FF9-4F86-824D-89602E77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C6A2-E48F-495C-B024-367A7186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6A0-3A24-464E-824E-E2127FDE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E33D-E5FB-41B4-BC40-6DDBF2FC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0C19-5015-44FE-987A-35B680DD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6F83-9188-444B-92AA-55F8A67C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65A2-77EA-4A6F-9581-CF818E2E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8AA6-0E0E-4963-91D8-004A1BA8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C83-ED49-4B3C-B631-D0585621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C5DA-95A0-47C5-890A-86C5685C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0B4B-2F57-4801-B56B-89ACEBA9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5E5B-5677-405E-9F77-350E0302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43F-EFE8-42F3-80A4-8AD904BF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E32C-EF0D-4036-B829-B7BAB0EB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200E-8E9E-4298-84FD-B7083D1E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B9A4-7908-462C-8402-228A5B21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C917-9C79-4CEA-82D3-CBDD7E1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EBBC-31E0-4E0A-A3C3-5FDBA8EB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55795-1195-4534-946A-7B181C8B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709-4C3D-40C6-8E1B-895AC5C1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D60F-9B7A-4010-9B3C-D782D646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D18E-B0FE-4B48-92C0-0606D005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330F-1928-4EA0-8D8B-5D9255A5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383A-150F-47EB-A32C-938D1DF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7D63-54DA-4654-A906-16FC139E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5664-A73C-4485-AFD7-20847590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3940-5AF4-43D4-99FE-CD3E9841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CAB-EB01-4190-8C31-69F4B15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F4B-C3B6-4BC3-9767-B05CBAF4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A8E-D8DA-4584-B87B-921B6A23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84A-1394-4174-ADDA-76E54494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B7F-97B4-4C42-B05B-6D30143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6D0-AD7F-4D22-8A11-E50980F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C49D-372F-4B1B-911D-292FA8A7C249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9F96-FD56-4050-A59B-F5B6F77D7B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16BA-C411-4196-827A-5E4D6CC3F80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C61A-875F-4461-9612-4A81F4B95B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E072-F2DF-4DAC-B741-6FF1FF26AAD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5FB6-4241-4251-AEBF-789C7EE56AC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4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5" descr="10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guoqi"/>
          <p:cNvPicPr/>
          <p:nvPr/>
        </p:nvPicPr>
        <p:blipFill>
          <a:blip r:embed="rId4"/>
          <a:stretch/>
        </p:blipFill>
        <p:spPr>
          <a:xfrm>
            <a:off x="-4680" y="0"/>
            <a:ext cx="914868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09.png"/>
          <p:cNvPicPr/>
          <p:nvPr/>
        </p:nvPicPr>
        <p:blipFill>
          <a:blip r:embed="rId5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611280" y="3098880"/>
            <a:ext cx="793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方正粗宋简体"/>
                <a:ea typeface="方正粗宋简体"/>
              </a:rPr>
              <a:t>建党节</a:t>
            </a:r>
            <a:r>
              <a:rPr b="0" lang="en-US" sz="6000" spc="-1" strike="noStrike">
                <a:solidFill>
                  <a:srgbClr val="ffc000"/>
                </a:solidFill>
                <a:latin typeface="方正粗宋简体"/>
                <a:ea typeface="方正粗宋简体"/>
              </a:rPr>
              <a:t>PPT</a:t>
            </a:r>
            <a:r>
              <a:rPr b="0" lang="zh-CN" sz="6000" spc="-1" strike="noStrike">
                <a:solidFill>
                  <a:srgbClr val="ffc000"/>
                </a:solidFill>
                <a:latin typeface="方正粗宋简体"/>
                <a:ea typeface="方正粗宋简体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11280" y="3108240"/>
            <a:ext cx="7921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党徽"/>
          <p:cNvPicPr/>
          <p:nvPr/>
        </p:nvPicPr>
        <p:blipFill>
          <a:blip r:embed="rId6"/>
          <a:stretch/>
        </p:blipFill>
        <p:spPr>
          <a:xfrm>
            <a:off x="2948040" y="728640"/>
            <a:ext cx="3217680" cy="201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8960" y="3286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建党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5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300"/>
                            </p:stCondLst>
                            <p:childTnLst>
                              <p:par>
                                <p:cTn id="3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0"/>
          <p:cNvGrpSpPr/>
          <p:nvPr/>
        </p:nvGrpSpPr>
        <p:grpSpPr>
          <a:xfrm>
            <a:off x="409680" y="3462480"/>
            <a:ext cx="8435880" cy="1116000"/>
            <a:chOff x="409680" y="3462480"/>
            <a:chExt cx="8435880" cy="1116000"/>
          </a:xfrm>
        </p:grpSpPr>
        <p:sp>
          <p:nvSpPr>
            <p:cNvPr id="135" name="圆角矩形 36"/>
            <p:cNvSpPr/>
            <p:nvPr/>
          </p:nvSpPr>
          <p:spPr>
            <a:xfrm>
              <a:off x="409680" y="3462480"/>
              <a:ext cx="8435880" cy="1116000"/>
            </a:xfrm>
            <a:prstGeom prst="roundRect">
              <a:avLst>
                <a:gd name="adj" fmla="val 27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9"/>
            <p:cNvSpPr/>
            <p:nvPr/>
          </p:nvSpPr>
          <p:spPr>
            <a:xfrm>
              <a:off x="597960" y="3822480"/>
              <a:ext cx="82476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幻灯片目录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3"/>
          <p:cNvGrpSpPr/>
          <p:nvPr/>
        </p:nvGrpSpPr>
        <p:grpSpPr>
          <a:xfrm>
            <a:off x="409680" y="4856040"/>
            <a:ext cx="8435880" cy="1116000"/>
            <a:chOff x="409680" y="4856040"/>
            <a:chExt cx="8435880" cy="1116000"/>
          </a:xfrm>
        </p:grpSpPr>
        <p:sp>
          <p:nvSpPr>
            <p:cNvPr id="138" name="圆角矩形 38"/>
            <p:cNvSpPr/>
            <p:nvPr/>
          </p:nvSpPr>
          <p:spPr>
            <a:xfrm>
              <a:off x="409680" y="4856040"/>
              <a:ext cx="8435880" cy="1116000"/>
            </a:xfrm>
            <a:prstGeom prst="roundRect">
              <a:avLst>
                <a:gd name="adj" fmla="val 27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9"/>
            <p:cNvSpPr/>
            <p:nvPr/>
          </p:nvSpPr>
          <p:spPr>
            <a:xfrm>
              <a:off x="597960" y="5153040"/>
              <a:ext cx="824760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幻灯片目录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09680" y="2048040"/>
            <a:ext cx="8435880" cy="1114200"/>
            <a:chOff x="409680" y="2048040"/>
            <a:chExt cx="8435880" cy="1114200"/>
          </a:xfrm>
        </p:grpSpPr>
        <p:sp>
          <p:nvSpPr>
            <p:cNvPr id="141" name="圆角矩形 34"/>
            <p:cNvSpPr/>
            <p:nvPr/>
          </p:nvSpPr>
          <p:spPr>
            <a:xfrm>
              <a:off x="409680" y="2048040"/>
              <a:ext cx="8435880" cy="1114200"/>
            </a:xfrm>
            <a:prstGeom prst="roundRect">
              <a:avLst>
                <a:gd name="adj" fmla="val 27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9"/>
            <p:cNvSpPr/>
            <p:nvPr/>
          </p:nvSpPr>
          <p:spPr>
            <a:xfrm>
              <a:off x="597960" y="2360520"/>
              <a:ext cx="824760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、幻灯片目录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1"/>
          <p:cNvSpPr/>
          <p:nvPr/>
        </p:nvSpPr>
        <p:spPr>
          <a:xfrm>
            <a:off x="1676520" y="289080"/>
            <a:ext cx="71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056-1460-49B7-9C82-0375CE9F8EF7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1471680" y="31104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方正粗宋简体"/>
                <a:ea typeface="方正粗宋简体"/>
              </a:rPr>
              <a:t>一、内容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1FAB-4769-484B-86C0-E39B7EE0569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1" descr="04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38926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6" descr="12.png"/>
          <p:cNvPicPr/>
          <p:nvPr/>
        </p:nvPicPr>
        <p:blipFill>
          <a:blip r:embed="rId4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7" descr=""/>
          <p:cNvPicPr/>
          <p:nvPr/>
        </p:nvPicPr>
        <p:blipFill>
          <a:blip r:embed="rId5"/>
          <a:srcRect l="0" t="19162" r="0" b="31378"/>
          <a:stretch/>
        </p:blipFill>
        <p:spPr>
          <a:xfrm>
            <a:off x="1177920" y="1454040"/>
            <a:ext cx="6788160" cy="2105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3"/>
          <p:cNvSpPr/>
          <p:nvPr/>
        </p:nvSpPr>
        <p:spPr>
          <a:xfrm>
            <a:off x="-4680" y="6354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Calibri"/>
                <a:ea typeface="华文中宋"/>
              </a:rPr>
              <a:t>第一</a:t>
            </a:r>
            <a:r>
              <a:rPr b="0" lang="en-US" sz="2000" spc="-1" strike="noStrike">
                <a:solidFill>
                  <a:srgbClr val="ff6600"/>
                </a:solidFill>
                <a:latin typeface="Calibri"/>
                <a:ea typeface="华文中宋"/>
              </a:rPr>
              <a:t>PPT</a:t>
            </a:r>
            <a:r>
              <a:rPr b="0" lang="zh-CN" sz="2000" spc="-1" strike="noStrike">
                <a:solidFill>
                  <a:srgbClr val="ff6600"/>
                </a:solidFill>
                <a:latin typeface="Calibri"/>
                <a:ea typeface="华文中宋"/>
              </a:rPr>
              <a:t>模板网，</a:t>
            </a:r>
            <a:r>
              <a:rPr b="0" lang="en-US" sz="2000" spc="-1" strike="noStrike">
                <a:solidFill>
                  <a:srgbClr val="ff6600"/>
                </a:solidFill>
                <a:latin typeface="Calibri"/>
                <a:ea typeface="华文中宋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C6B3-3178-493D-BB4F-6AC2AF5773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6:51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9:54Z</dcterms:modified>
  <cp:revision>1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