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5ECEA-178A-4912-BAF5-B3E7BB765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0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834F1-69B1-4D46-B9A8-6E8E9D23F8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453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0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453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5D39-87D4-4E0F-8F24-6FBB94B48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020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0636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04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020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0636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F5A3-4C78-4E3B-A3A3-96CB51E05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BD27C-6305-4BEF-8FC5-DFB1BB44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40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BE03C-25A8-48CD-B520-D933E807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FFD5E-CF78-4B21-A546-C1B1F92C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453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987C4-51B9-46FF-81EB-97BEE8FC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60E79-1061-4ACD-B0DB-B52AE446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040" y="434340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355C9-CB38-4EA9-94F6-DAC8EA61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453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D0AB0-C80A-43ED-BB29-81C7A921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0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3243-F6AD-4873-8B21-E5AC54EA0B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453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6A123-1407-464A-9529-C759FBD8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453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0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DE24D-701B-452F-BD8E-55310A58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40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873CC-3728-4DCB-A2C8-2048C713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453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40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453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738C4-89FE-4F0E-8BFB-292B3861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020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06360" y="533412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404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020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06360" y="55332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803DC-0D26-40F8-91CE-6472CD35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FB50-704C-46CE-BAFB-9525C3952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53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431CC-7D47-45EB-A6C3-8F34A0EEC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171E-DA5A-41B2-A313-DD24FA348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040" y="4343400"/>
            <a:ext cx="7086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AEFB-34B7-43A5-A59D-D0A5D7210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4536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4BAD2-A58A-47C2-9EE3-A08732368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453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45360" y="55332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B7D2-304D-4B5C-8194-2FAAD018B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45360" y="533412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040" y="55332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ACDC-37D8-46F9-ADF5-CF31ED7E63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727600"/>
            <a:ext cx="9144000" cy="1130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4680"/>
            <a:ext cx="9144000" cy="98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480" y="993600"/>
            <a:ext cx="9156600" cy="88920"/>
            <a:chOff x="6480" y="993600"/>
            <a:chExt cx="9156600" cy="88920"/>
          </a:xfrm>
        </p:grpSpPr>
        <p:sp>
          <p:nvSpPr>
            <p:cNvPr id="3" name=""/>
            <p:cNvSpPr/>
            <p:nvPr/>
          </p:nvSpPr>
          <p:spPr>
            <a:xfrm>
              <a:off x="2398680" y="993600"/>
              <a:ext cx="6764400" cy="88920"/>
            </a:xfrm>
            <a:prstGeom prst="rect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92280" y="993600"/>
              <a:ext cx="808200" cy="88920"/>
            </a:xfrm>
            <a:prstGeom prst="rect">
              <a:avLst/>
            </a:prstGeom>
            <a:solidFill>
              <a:srgbClr val="9b9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08200" y="993600"/>
              <a:ext cx="804960" cy="88920"/>
            </a:xfrm>
            <a:prstGeom prst="rect">
              <a:avLst/>
            </a:prstGeom>
            <a:solidFill>
              <a:srgbClr val="6d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993600"/>
              <a:ext cx="806400" cy="88920"/>
            </a:xfrm>
            <a:prstGeom prst="rect">
              <a:avLst/>
            </a:prstGeom>
            <a:solidFill>
              <a:srgbClr val="d58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419040" y="6504120"/>
            <a:ext cx="8280360" cy="42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372440" y="360360"/>
            <a:ext cx="1554120" cy="741240"/>
          </a:xfrm>
          <a:prstGeom prst="triangle">
            <a:avLst>
              <a:gd name="adj" fmla="val 50000"/>
            </a:avLst>
          </a:prstGeom>
          <a:solidFill>
            <a:srgbClr val="fef9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533520" y="114300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58f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3c7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7c4d3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333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33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333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333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333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6477120" y="6552720"/>
            <a:ext cx="228600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4d36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3504960" y="6477120"/>
            <a:ext cx="19047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c4d3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5FD8-4C1C-461A-B50E-B29FC995DAF2}" type="slidenum">
              <a:rPr b="0" lang="en-US" sz="1200" spc="-1" strike="noStrike">
                <a:solidFill>
                  <a:srgbClr val="7c4d3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9e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13" name=""/>
          <p:cNvSpPr/>
          <p:nvPr/>
        </p:nvSpPr>
        <p:spPr>
          <a:xfrm>
            <a:off x="7467480" y="685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rot="10800000">
            <a:off x="465120" y="3408120"/>
            <a:ext cx="5586480" cy="27558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322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5120" y="466560"/>
            <a:ext cx="5586480" cy="275616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3240000"/>
            <a:ext cx="9147240" cy="158760"/>
            <a:chOff x="0" y="3240000"/>
            <a:chExt cx="9147240" cy="158760"/>
          </a:xfrm>
        </p:grpSpPr>
        <p:sp>
          <p:nvSpPr>
            <p:cNvPr id="54" name=""/>
            <p:cNvSpPr/>
            <p:nvPr/>
          </p:nvSpPr>
          <p:spPr>
            <a:xfrm>
              <a:off x="2389320" y="3240000"/>
              <a:ext cx="6757920" cy="158760"/>
            </a:xfrm>
            <a:prstGeom prst="rect">
              <a:avLst/>
            </a:prstGeom>
            <a:solidFill>
              <a:srgbClr val="33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84360" y="3240000"/>
              <a:ext cx="806400" cy="158760"/>
            </a:xfrm>
            <a:prstGeom prst="rect">
              <a:avLst/>
            </a:prstGeom>
            <a:solidFill>
              <a:srgbClr val="9b9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3240000"/>
              <a:ext cx="804600" cy="158760"/>
            </a:xfrm>
            <a:prstGeom prst="rect">
              <a:avLst/>
            </a:prstGeom>
            <a:solidFill>
              <a:srgbClr val="6d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240000"/>
              <a:ext cx="804960" cy="158760"/>
            </a:xfrm>
            <a:prstGeom prst="rect">
              <a:avLst/>
            </a:prstGeom>
            <a:solidFill>
              <a:srgbClr val="d58f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0800000">
            <a:off x="6122520" y="3393720"/>
            <a:ext cx="1739880" cy="82692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24680" y="2394000"/>
            <a:ext cx="1739880" cy="826920"/>
          </a:xfrm>
          <a:prstGeom prst="triangle">
            <a:avLst>
              <a:gd name="adj" fmla="val 50000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dt" idx="3"/>
          </p:nvPr>
        </p:nvSpPr>
        <p:spPr>
          <a:xfrm>
            <a:off x="533520" y="6553080"/>
            <a:ext cx="21333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58f4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58f4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ftr" idx="4"/>
          </p:nvPr>
        </p:nvSpPr>
        <p:spPr>
          <a:xfrm>
            <a:off x="3188880" y="6553080"/>
            <a:ext cx="22971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58f4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58f4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5"/>
          </p:nvPr>
        </p:nvSpPr>
        <p:spPr>
          <a:xfrm>
            <a:off x="6095520" y="6553080"/>
            <a:ext cx="2057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58f4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F170-8AE6-4DCF-9E9B-9D4065546DC5}" type="slidenum">
              <a:rPr b="0" lang="en-US" sz="1400" spc="-1" strike="noStrike">
                <a:solidFill>
                  <a:srgbClr val="d58f4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title"/>
          </p:nvPr>
        </p:nvSpPr>
        <p:spPr>
          <a:xfrm>
            <a:off x="914040" y="4343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4d36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1174680" y="6183360"/>
            <a:ext cx="4197600" cy="67464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28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f9e2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c4d3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9520" y="3962520"/>
            <a:ext cx="5257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c4d36"/>
                </a:solidFill>
                <a:latin typeface="Arial"/>
              </a:rPr>
              <a:t>Template</a:t>
            </a:r>
            <a:endParaRPr b="1" lang="en-US" sz="6000" spc="-1" strike="noStrike">
              <a:solidFill>
                <a:srgbClr val="7c4d36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963440" y="362592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00"/>
                </a:solidFill>
                <a:latin typeface="Verdana"/>
              </a:rPr>
              <a:t>PowerPoint</a:t>
            </a:r>
            <a:endParaRPr b="0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40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3333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3333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69480" y="16002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简单三色企业</a:t>
            </a:r>
            <a:r>
              <a:rPr b="0" lang="zh-CN" sz="4000" spc="-1" strike="noStrike">
                <a:solidFill>
                  <a:srgbClr val="333300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9e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270" name=""/>
            <p:cNvSpPr/>
            <p:nvPr/>
          </p:nvSpPr>
          <p:spPr>
            <a:xfrm>
              <a:off x="2976840" y="317484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e3c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1440" y="317484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b9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b9d5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b9d5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516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53542c"/>
                </a:gs>
                <a:gs pos="50000">
                  <a:srgbClr val="9b9d53"/>
                </a:gs>
                <a:gs pos="100000">
                  <a:srgbClr val="5354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9b9d53">
                    <a:alpha val="0"/>
                  </a:srgbClr>
                </a:gs>
                <a:gs pos="100000">
                  <a:srgbClr val="6263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3840" y="266040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d9db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d9db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3a5461"/>
                </a:gs>
                <a:gs pos="50000">
                  <a:srgbClr val="6d9db5"/>
                </a:gs>
                <a:gs pos="100000">
                  <a:srgbClr val="3a546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22480" y="257148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6d9db5">
                    <a:alpha val="0"/>
                  </a:srgbClr>
                </a:gs>
                <a:gs pos="100000">
                  <a:srgbClr val="44637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283" name="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510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e3c795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685b44"/>
                </a:gs>
                <a:gs pos="100000">
                  <a:srgbClr val="e3c795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370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7a6b50"/>
                </a:gs>
                <a:gs pos="50000">
                  <a:srgbClr val="e3c795"/>
                </a:gs>
                <a:gs pos="100000">
                  <a:srgbClr val="7a6b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38520" y="257796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e3c795">
                    <a:alpha val="0"/>
                  </a:srgbClr>
                </a:gs>
                <a:gs pos="100000">
                  <a:srgbClr val="8f7d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2760" y="266040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293" name="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7674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298" name="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291360" y="268632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ef9e2"/>
            </a:soli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ef9e2"/>
            </a:soli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ef9e2"/>
            </a:solid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9e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143000" y="1542960"/>
            <a:ext cx="7086600" cy="4476600"/>
            <a:chOff x="1143000" y="1542960"/>
            <a:chExt cx="7086600" cy="4476600"/>
          </a:xfrm>
        </p:grpSpPr>
        <p:sp>
          <p:nvSpPr>
            <p:cNvPr id="310" name=""/>
            <p:cNvSpPr/>
            <p:nvPr/>
          </p:nvSpPr>
          <p:spPr>
            <a:xfrm>
              <a:off x="114300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b9d53"/>
                </a:gs>
                <a:gs pos="100000">
                  <a:srgbClr val="e3c795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62720" y="350496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d58f49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3324240" y="3752640"/>
              <a:ext cx="1704960" cy="2028960"/>
              <a:chOff x="3324240" y="3752640"/>
              <a:chExt cx="1704960" cy="2028960"/>
            </a:xfrm>
          </p:grpSpPr>
          <p:sp>
            <p:nvSpPr>
              <p:cNvPr id="313" name=""/>
              <p:cNvSpPr/>
              <p:nvPr/>
            </p:nvSpPr>
            <p:spPr>
              <a:xfrm rot="20876400">
                <a:off x="3392640" y="497196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24240" y="375264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344760" y="376200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362400" y="377820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454560" y="382248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741840" y="43797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1473120" y="3371760"/>
              <a:ext cx="1371240" cy="1718640"/>
              <a:chOff x="1473120" y="3371760"/>
              <a:chExt cx="1371240" cy="1718640"/>
            </a:xfrm>
          </p:grpSpPr>
          <p:sp>
            <p:nvSpPr>
              <p:cNvPr id="320" name=""/>
              <p:cNvSpPr/>
              <p:nvPr/>
            </p:nvSpPr>
            <p:spPr>
              <a:xfrm rot="20826600">
                <a:off x="1549440" y="436212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grpSp>
            <p:nvGrpSpPr>
              <p:cNvPr id="321" name=""/>
              <p:cNvGrpSpPr/>
              <p:nvPr/>
            </p:nvGrpSpPr>
            <p:grpSpPr>
              <a:xfrm>
                <a:off x="1473120" y="3371760"/>
                <a:ext cx="1371240" cy="1441080"/>
                <a:chOff x="1473120" y="3371760"/>
                <a:chExt cx="1371240" cy="14410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1473120" y="33717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491120" y="33800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504080" y="33933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575720" y="343008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53560" y="38779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" name=""/>
            <p:cNvGrpSpPr/>
            <p:nvPr/>
          </p:nvGrpSpPr>
          <p:grpSpPr>
            <a:xfrm>
              <a:off x="1371600" y="2000160"/>
              <a:ext cx="1100160" cy="1139760"/>
              <a:chOff x="1371600" y="2000160"/>
              <a:chExt cx="1100160" cy="1139760"/>
            </a:xfrm>
          </p:grpSpPr>
          <p:sp>
            <p:nvSpPr>
              <p:cNvPr id="328" name=""/>
              <p:cNvSpPr/>
              <p:nvPr/>
            </p:nvSpPr>
            <p:spPr>
              <a:xfrm>
                <a:off x="1371600" y="260676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447920" y="200016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60520" y="20048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471680" y="201600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525680" y="204156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644840" y="23493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2638440" y="1542960"/>
              <a:ext cx="804960" cy="762120"/>
              <a:chOff x="2638440" y="1542960"/>
              <a:chExt cx="804960" cy="762120"/>
            </a:xfrm>
          </p:grpSpPr>
          <p:sp>
            <p:nvSpPr>
              <p:cNvPr id="335" name=""/>
              <p:cNvSpPr/>
              <p:nvPr/>
            </p:nvSpPr>
            <p:spPr>
              <a:xfrm>
                <a:off x="2638440" y="2076480"/>
                <a:ext cx="68580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760840" y="154296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770200" y="1546200"/>
                <a:ext cx="66528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776680" y="1552320"/>
                <a:ext cx="63324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813040" y="1571400"/>
                <a:ext cx="56376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831040" y="176688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9e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43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e3c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e3c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e3c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e3c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e3c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e3c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58f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ea79c"/>
                </a:gs>
                <a:gs pos="100000">
                  <a:srgbClr val="7c4d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b9d5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54280" y="2895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b9d5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52560" y="3003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53542c"/>
                </a:gs>
                <a:gs pos="50000">
                  <a:srgbClr val="9b9d53"/>
                </a:gs>
                <a:gs pos="100000">
                  <a:srgbClr val="53542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57600" y="3003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d9f58"/>
                </a:gs>
                <a:gs pos="50000">
                  <a:srgbClr val="9b9d53">
                    <a:alpha val="0"/>
                  </a:srgbClr>
                </a:gs>
                <a:gs pos="100000">
                  <a:srgbClr val="9d9f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68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57200" y="1295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b9d53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3333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9e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376" name="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381" name="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389" name="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394" name="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402" name="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9e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15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16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9e2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9e2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8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grpSp>
              <p:nvGrpSpPr>
                <p:cNvPr id="474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75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9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9e2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82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83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84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87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9e2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02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58f49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58f49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58f49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d58f49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cxnSp>
            <p:nvCxnSpPr>
              <p:cNvPr id="506" name=""/>
              <p:cNvCxnSpPr>
                <a:stCxn id="502" idx="3"/>
                <a:endCxn id="503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d58f49"/>
                </a:solidFill>
                <a:miter/>
                <a:tailEnd len="med" type="triangle" w="med"/>
              </a:ln>
            </p:spPr>
          </p:cxnSp>
          <p:cxnSp>
            <p:nvCxnSpPr>
              <p:cNvPr id="507" name=""/>
              <p:cNvCxnSpPr>
                <a:stCxn id="503" idx="3"/>
                <a:endCxn id="504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d58f49"/>
                </a:solidFill>
                <a:miter/>
                <a:tailEnd len="med" type="triangle" w="med"/>
              </a:ln>
            </p:spPr>
          </p:cxnSp>
          <p:cxnSp>
            <p:nvCxnSpPr>
              <p:cNvPr id="508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d58f4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9e2"/>
                </a:solidFill>
                <a:latin typeface="Verdana"/>
              </a:rPr>
              <a:t>Progress Diagram</a:t>
            </a:r>
            <a:endParaRPr b="1" lang="en-US" sz="32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511" name="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28272"/>
                </a:gs>
                <a:gs pos="100000">
                  <a:srgbClr val="7c4d3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8b986"/>
                </a:gs>
                <a:gs pos="100000">
                  <a:srgbClr val="9b9d5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d7b4"/>
                </a:gs>
                <a:gs pos="100000">
                  <a:srgbClr val="e3c795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d7b4"/>
                </a:gs>
                <a:gs pos="100000">
                  <a:srgbClr val="e3c795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9e2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8b986"/>
                </a:gs>
                <a:gs pos="100000">
                  <a:srgbClr val="9b9d5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9e2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8272"/>
                </a:gs>
                <a:gs pos="100000">
                  <a:srgbClr val="7c4d3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ef9e2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9e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23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474826"/>
                </a:gs>
              </a:gsLst>
              <a:lin ang="198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25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e3c795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31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474826"/>
                </a:gs>
              </a:gsLst>
              <a:lin ang="1980000"/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536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37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1260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268"/>
                  </a:gs>
                  <a:gs pos="50000">
                    <a:srgbClr val="fef9e2"/>
                  </a:gs>
                  <a:gs pos="100000">
                    <a:srgbClr val="75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e3c795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9e2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8f4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8f4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8f4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8f49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9e2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ef9e2"/>
              </a:solidFill>
              <a:latin typeface="Verdana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990720" y="1752480"/>
          <a:ext cx="7138800" cy="3728880"/>
        </p:xfrm>
        <a:graphic>
          <a:graphicData uri="http://schemas.openxmlformats.org/drawingml/2006/table">
            <a:tbl>
              <a:tblPr/>
              <a:tblGrid>
                <a:gridCol w="1425240"/>
                <a:gridCol w="1143000"/>
                <a:gridCol w="1141560"/>
                <a:gridCol w="1141200"/>
                <a:gridCol w="1144800"/>
                <a:gridCol w="1143000"/>
              </a:tblGrid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00"/>
                      </a:solidFill>
                    </a:lnR>
                    <a:lnT>
                      <a:noFill/>
                    </a:lnT>
                    <a:lnB w="5760">
                      <a:solidFill>
                        <a:srgbClr val="33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EXT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EXT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EXT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EXT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ef9e2"/>
                          </a:solidFill>
                          <a:latin typeface="Verdana"/>
                        </a:rPr>
                        <a:t>TEXT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57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e3c795"/>
                        </a:gs>
                        <a:gs pos="50000">
                          <a:srgbClr val="efe1c7"/>
                        </a:gs>
                        <a:gs pos="100000">
                          <a:srgbClr val="e3c79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e3c795"/>
                        </a:gs>
                        <a:gs pos="50000">
                          <a:srgbClr val="efe1c7"/>
                        </a:gs>
                        <a:gs pos="100000">
                          <a:srgbClr val="e3c79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e3c795"/>
                        </a:gs>
                        <a:gs pos="50000">
                          <a:srgbClr val="efe1c7"/>
                        </a:gs>
                        <a:gs pos="100000">
                          <a:srgbClr val="e3c79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e3c795"/>
                        </a:gs>
                        <a:gs pos="50000">
                          <a:srgbClr val="efe1c7"/>
                        </a:gs>
                        <a:gs pos="100000">
                          <a:srgbClr val="e3c79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e3c795"/>
                        </a:gs>
                        <a:gs pos="50000">
                          <a:srgbClr val="efe1c7"/>
                        </a:gs>
                        <a:gs pos="100000">
                          <a:srgbClr val="e3c79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00"/>
                          </a:solidFill>
                          <a:latin typeface="Verdana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e3c795"/>
                        </a:gs>
                        <a:gs pos="50000">
                          <a:srgbClr val="efe1c7"/>
                        </a:gs>
                        <a:gs pos="100000">
                          <a:srgbClr val="e3c79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00"/>
                      </a:solidFill>
                    </a:lnL>
                    <a:lnR w="5760">
                      <a:solidFill>
                        <a:srgbClr val="333300"/>
                      </a:solidFill>
                    </a:lnR>
                    <a:lnT w="5760">
                      <a:solidFill>
                        <a:srgbClr val="333300"/>
                      </a:solidFill>
                    </a:lnT>
                    <a:lnB w="5760">
                      <a:solidFill>
                        <a:srgbClr val="3333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9e2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966240" y="1402200"/>
            <a:ext cx="6879600" cy="4804560"/>
            <a:chOff x="966240" y="1402200"/>
            <a:chExt cx="6879600" cy="4804560"/>
          </a:xfrm>
        </p:grpSpPr>
        <p:sp>
          <p:nvSpPr>
            <p:cNvPr id="554" name=""/>
            <p:cNvSpPr/>
            <p:nvPr/>
          </p:nvSpPr>
          <p:spPr>
            <a:xfrm>
              <a:off x="2163960" y="46180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ef9e2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01600">
              <a:off x="1308240" y="24285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601600">
              <a:off x="1365120" y="22665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01600">
              <a:off x="1279440" y="22525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rot="20602200">
              <a:off x="1257480" y="22834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601600">
              <a:off x="1289160" y="22636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rot="20602200">
              <a:off x="1271520" y="22712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282600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141280" y="3203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046400" y="22892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722560" y="27464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48440" y="32796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539200">
              <a:off x="1283760" y="22820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48160" y="37609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22560" y="37368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70080" y="4498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64960" y="4346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01600">
              <a:off x="2927520" y="32338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24560" y="41562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9e2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066680" y="1371600"/>
            <a:ext cx="7010280" cy="4419000"/>
            <a:chOff x="1066680" y="1371600"/>
            <a:chExt cx="7010280" cy="4419000"/>
          </a:xfrm>
        </p:grpSpPr>
        <p:sp>
          <p:nvSpPr>
            <p:cNvPr id="575" name=""/>
            <p:cNvSpPr/>
            <p:nvPr/>
          </p:nvSpPr>
          <p:spPr>
            <a:xfrm>
              <a:off x="1999080" y="2087280"/>
              <a:ext cx="5206320" cy="2576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fef9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83800" y="1371600"/>
              <a:ext cx="5451480" cy="53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b9d53"/>
                </a:gs>
                <a:gs pos="50000">
                  <a:srgbClr val="bdbf8f"/>
                </a:gs>
                <a:gs pos="100000">
                  <a:srgbClr val="9b9d5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f9e2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538800" y="266112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1066680" y="3846600"/>
              <a:ext cx="1486800" cy="1944000"/>
              <a:chOff x="1066680" y="3846600"/>
              <a:chExt cx="1486800" cy="19440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1066680" y="3846600"/>
                <a:ext cx="1398600" cy="1422360"/>
                <a:chOff x="1066680" y="3846600"/>
                <a:chExt cx="1398600" cy="1422360"/>
              </a:xfrm>
            </p:grpSpPr>
            <p:grpSp>
              <p:nvGrpSpPr>
                <p:cNvPr id="580" name=""/>
                <p:cNvGrpSpPr/>
                <p:nvPr/>
              </p:nvGrpSpPr>
              <p:grpSpPr>
                <a:xfrm>
                  <a:off x="1066680" y="3846600"/>
                  <a:ext cx="1398600" cy="1422360"/>
                  <a:chOff x="1066680" y="3846600"/>
                  <a:chExt cx="1398600" cy="142236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>
                    <a:off x="1066680" y="3846600"/>
                    <a:ext cx="1398600" cy="142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c4d36"/>
                      </a:gs>
                      <a:gs pos="100000">
                        <a:srgbClr val="4e302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1226520" y="3870000"/>
                    <a:ext cx="1078920" cy="5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c4d3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3" name=""/>
                <p:cNvSpPr/>
                <p:nvPr/>
              </p:nvSpPr>
              <p:spPr>
                <a:xfrm>
                  <a:off x="1182960" y="457056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4" name=""/>
              <p:cNvSpPr/>
              <p:nvPr/>
            </p:nvSpPr>
            <p:spPr>
              <a:xfrm>
                <a:off x="1066680" y="5379120"/>
                <a:ext cx="1486800" cy="411480"/>
              </a:xfrm>
              <a:prstGeom prst="ellipse">
                <a:avLst/>
              </a:prstGeom>
              <a:gradFill rotWithShape="0">
                <a:gsLst>
                  <a:gs pos="0">
                    <a:srgbClr val="fef9e2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2859840" y="3846600"/>
              <a:ext cx="1522080" cy="1944000"/>
              <a:chOff x="2859840" y="3846600"/>
              <a:chExt cx="1522080" cy="194400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2859840" y="3846600"/>
                <a:ext cx="1433880" cy="1428480"/>
                <a:chOff x="2859840" y="3846600"/>
                <a:chExt cx="1433880" cy="14284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2859840" y="3846600"/>
                  <a:ext cx="1433880" cy="14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9d53"/>
                    </a:gs>
                    <a:gs pos="100000">
                      <a:srgbClr val="4f50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23640" y="38700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b9d5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931480" y="4532040"/>
                <a:ext cx="12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895480" y="5379120"/>
                <a:ext cx="1486440" cy="411480"/>
              </a:xfrm>
              <a:prstGeom prst="ellipse">
                <a:avLst/>
              </a:prstGeom>
              <a:gradFill rotWithShape="0">
                <a:gsLst>
                  <a:gs pos="0">
                    <a:srgbClr val="fef9e2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4797000" y="3805200"/>
              <a:ext cx="1535760" cy="1985400"/>
              <a:chOff x="4797000" y="3805200"/>
              <a:chExt cx="1535760" cy="19854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4797000" y="3805200"/>
                <a:ext cx="1434240" cy="1428120"/>
                <a:chOff x="4797000" y="3805200"/>
                <a:chExt cx="1434240" cy="14281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4797000" y="380520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c795"/>
                    </a:gs>
                    <a:gs pos="100000">
                      <a:srgbClr val="7465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4960800" y="38286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e3c79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4868640" y="449064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846320" y="5379480"/>
                <a:ext cx="1486440" cy="411120"/>
              </a:xfrm>
              <a:prstGeom prst="ellipse">
                <a:avLst/>
              </a:prstGeom>
              <a:gradFill rotWithShape="0">
                <a:gsLst>
                  <a:gs pos="0">
                    <a:srgbClr val="fef9e2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6590160" y="3805200"/>
              <a:ext cx="1486800" cy="1985400"/>
              <a:chOff x="6590160" y="3805200"/>
              <a:chExt cx="1486800" cy="198540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6590160" y="3805200"/>
                <a:ext cx="1434240" cy="1438200"/>
                <a:chOff x="6590160" y="3805200"/>
                <a:chExt cx="1434240" cy="1438200"/>
              </a:xfrm>
            </p:grpSpPr>
            <p:grpSp>
              <p:nvGrpSpPr>
                <p:cNvPr id="599" name=""/>
                <p:cNvGrpSpPr/>
                <p:nvPr/>
              </p:nvGrpSpPr>
              <p:grpSpPr>
                <a:xfrm>
                  <a:off x="6590160" y="3805200"/>
                  <a:ext cx="1434240" cy="1438200"/>
                  <a:chOff x="6590160" y="3805200"/>
                  <a:chExt cx="1434240" cy="143820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6590160" y="3805200"/>
                    <a:ext cx="1434240" cy="143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d9db5"/>
                      </a:gs>
                      <a:gs pos="100000">
                        <a:srgbClr val="1a26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6753960" y="3828960"/>
                    <a:ext cx="110628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d9db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>
                  <a:off x="6689880" y="44755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6590160" y="53794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fef9e2"/>
                  </a:gs>
                  <a:gs pos="100000">
                    <a:srgbClr val="80808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</p:grpSp>
      <p:sp>
        <p:nvSpPr>
          <p:cNvPr id="604" name=""/>
          <p:cNvSpPr/>
          <p:nvPr/>
        </p:nvSpPr>
        <p:spPr>
          <a:xfrm>
            <a:off x="838080" y="2286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b9d53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3333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9e2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10" name="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11" name="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b9d53"/>
                  </a:gs>
                  <a:gs pos="100000">
                    <a:srgbClr val="474826"/>
                  </a:gs>
                </a:gsLst>
                <a:lin ang="135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d58f4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58f49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9e2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18" name="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119" name="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e3c795"/>
                  </a:gs>
                  <a:gs pos="100000">
                    <a:srgbClr val="685b44"/>
                  </a:gs>
                </a:gsLst>
                <a:lin ang="135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d58f4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58f49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9e2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26" name="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27" name="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9b9d53"/>
                  </a:gs>
                  <a:gs pos="100000">
                    <a:srgbClr val="474826"/>
                  </a:gs>
                </a:gsLst>
                <a:lin ang="135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d58f4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58f49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9e2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34" name="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e3c795"/>
                  </a:gs>
                  <a:gs pos="100000">
                    <a:srgbClr val="685b44"/>
                  </a:gs>
                </a:gsLst>
                <a:lin ang="13500000"/>
              </a:gra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d58f4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58f49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9e2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1600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b9d53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3333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f9e2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9b9d5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Verdana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B8DE-B2E5-4232-B72F-D68A010E54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2286000" y="3352680"/>
            <a:ext cx="4800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ef9e2"/>
                  </a:solidFill>
                  <a:miter/>
                </a:ln>
                <a:gradFill rotWithShape="0">
                  <a:gsLst>
                    <a:gs pos="0">
                      <a:srgbClr val="9b9d53"/>
                    </a:gs>
                    <a:gs pos="100000">
                      <a:srgbClr val="333300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ef9e2"/>
                </a:solidFill>
                <a:miter/>
              </a:ln>
              <a:gradFill rotWithShape="0">
                <a:gsLst>
                  <a:gs pos="0">
                    <a:srgbClr val="9b9d53"/>
                  </a:gs>
                  <a:gs pos="100000">
                    <a:srgbClr val="333300"/>
                  </a:gs>
                </a:gsLst>
                <a:lin ang="5400000"/>
              </a:gradFill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914040" y="53341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9e2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4800" y="1450440"/>
            <a:ext cx="76107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58f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8f49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d58f49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3333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3c7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e3c795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3333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e3c795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3333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e3c795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3333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e3c795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333300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556272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  <a:p>
            <a:pPr>
              <a:buClr>
                <a:srgbClr val="33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3333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9e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143000" y="3505320"/>
            <a:ext cx="2286000" cy="2666880"/>
            <a:chOff x="1143000" y="3505320"/>
            <a:chExt cx="2286000" cy="2666880"/>
          </a:xfrm>
        </p:grpSpPr>
        <p:sp>
          <p:nvSpPr>
            <p:cNvPr id="148" name=""/>
            <p:cNvSpPr/>
            <p:nvPr/>
          </p:nvSpPr>
          <p:spPr>
            <a:xfrm>
              <a:off x="114300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38400" y="370548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22272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b8d7e"/>
              </a:gs>
              <a:gs pos="100000">
                <a:srgbClr val="7c4d3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048120" y="1781280"/>
            <a:ext cx="2998440" cy="1601280"/>
            <a:chOff x="3048120" y="1781280"/>
            <a:chExt cx="2998440" cy="1601280"/>
          </a:xfrm>
        </p:grpSpPr>
        <p:grpSp>
          <p:nvGrpSpPr>
            <p:cNvPr id="152" name=""/>
            <p:cNvGrpSpPr/>
            <p:nvPr/>
          </p:nvGrpSpPr>
          <p:grpSpPr>
            <a:xfrm>
              <a:off x="3048120" y="1781280"/>
              <a:ext cx="2998440" cy="1601280"/>
              <a:chOff x="3048120" y="1781280"/>
              <a:chExt cx="2998440" cy="160128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3048120" y="1924200"/>
                <a:ext cx="2998440" cy="1458360"/>
                <a:chOff x="3048120" y="1924200"/>
                <a:chExt cx="2998440" cy="1458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080880" y="19706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b4c28"/>
                    </a:gs>
                    <a:gs pos="100000">
                      <a:srgbClr val="9b9d5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048120" y="19242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9d53"/>
                    </a:gs>
                    <a:gs pos="100000">
                      <a:srgbClr val="d1d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3189240" y="17812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e3c795"/>
                  </a:gs>
                  <a:gs pos="100000">
                    <a:srgbClr val="685b4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24160" y="17892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f4ead9"/>
                  </a:gs>
                  <a:gs pos="100000">
                    <a:srgbClr val="e3c795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51160" y="18018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e3c795">
                      <a:alpha val="48235"/>
                    </a:srgbClr>
                  </a:gs>
                  <a:gs pos="100000">
                    <a:srgbClr val="b39d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82920" y="18288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e3c795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3882960" y="19814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62720" y="3505320"/>
            <a:ext cx="2286000" cy="2666880"/>
            <a:chOff x="5562720" y="3505320"/>
            <a:chExt cx="2286000" cy="2666880"/>
          </a:xfrm>
        </p:grpSpPr>
        <p:sp>
          <p:nvSpPr>
            <p:cNvPr id="162" name=""/>
            <p:cNvSpPr/>
            <p:nvPr/>
          </p:nvSpPr>
          <p:spPr>
            <a:xfrm>
              <a:off x="5562720" y="35053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91320" y="37339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H="1">
            <a:off x="4874400" y="34084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edec7"/>
              </a:gs>
              <a:gs pos="100000">
                <a:srgbClr val="9b9d5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9e2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ef9e2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67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d7d7d7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b9d53"/>
                </a:gs>
                <a:gs pos="100000">
                  <a:srgbClr val="3535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e3c795"/>
                </a:gs>
                <a:gs pos="100000">
                  <a:srgbClr val="463e2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c4d36"/>
                </a:gs>
                <a:gs pos="100000">
                  <a:srgbClr val="2c1b1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d2d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d9db5"/>
                </a:gs>
                <a:gs pos="100000">
                  <a:srgbClr val="2535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63320" y="24433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82680" y="26449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8248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61576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9e2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cxnSp>
          <p:nvCxnSpPr>
            <p:cNvPr id="185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333300"/>
              </a:solidFill>
              <a:miter/>
            </a:ln>
          </p:spPr>
        </p:cxnSp>
        <p:sp>
          <p:nvSpPr>
            <p:cNvPr id="186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c4d3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9e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1905120"/>
            <a:ext cx="6476760" cy="4125600"/>
            <a:chOff x="1295280" y="1905120"/>
            <a:chExt cx="6476760" cy="4125600"/>
          </a:xfrm>
        </p:grpSpPr>
        <p:sp>
          <p:nvSpPr>
            <p:cNvPr id="189" name=""/>
            <p:cNvSpPr/>
            <p:nvPr/>
          </p:nvSpPr>
          <p:spPr>
            <a:xfrm>
              <a:off x="3759120" y="421020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59120" y="370404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59120" y="319716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4680" y="34160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34680" y="3922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34680" y="4429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25520" y="298008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85b44">
                    <a:alpha val="12156"/>
                  </a:srgbClr>
                </a:gs>
                <a:gs pos="100000">
                  <a:srgbClr val="e3c79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95280" y="247320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65480" y="269028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82560" y="2473200"/>
              <a:ext cx="1689480" cy="296748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480"/>
                <a:gd name="textAreaBottom" fmla="*/ 2885040 h 2967480"/>
              </a:gdLst>
              <a:ahLst/>
              <a:rect l="textAreaLeft" t="textAreaTop" r="textAreaRight" b="textAreaBottom"/>
              <a:pathLst>
                <a:path w="21600" h="37936">
                  <a:moveTo>
                    <a:pt x="3600" y="0"/>
                  </a:moveTo>
                  <a:arcTo wR="3600" hR="3600" stAng="16200000" swAng="-5400000"/>
                  <a:lnTo>
                    <a:pt x="0" y="34336"/>
                  </a:lnTo>
                  <a:arcTo wR="3600" hR="3600" stAng="10800000" swAng="-5400000"/>
                  <a:lnTo>
                    <a:pt x="18000" y="379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3120" y="269028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51840" y="298008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e3c795"/>
                </a:gs>
                <a:gs pos="100000">
                  <a:srgbClr val="685b44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55320" y="190512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92318"/>
                </a:gs>
                <a:gs pos="50000">
                  <a:srgbClr val="7c4d36"/>
                </a:gs>
                <a:gs pos="100000">
                  <a:srgbClr val="39231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28520" y="261828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e3c795"/>
                </a:gs>
                <a:gs pos="100000">
                  <a:srgbClr val="ecdaba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12720" y="211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25520" y="544104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12720" y="5662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08000" y="486180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cdaba">
                    <a:alpha val="12156"/>
                  </a:srgbClr>
                </a:gs>
                <a:gs pos="100000">
                  <a:srgbClr val="e3c7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9e2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9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10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edd2b6"/>
                  </a:gs>
                  <a:gs pos="100000">
                    <a:srgbClr val="d58f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edd2b6"/>
                  </a:gs>
                  <a:gs pos="100000">
                    <a:srgbClr val="d58f4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edd2b6"/>
                  </a:gs>
                  <a:gs pos="100000">
                    <a:srgbClr val="d58f4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ef9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b9d5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53542c"/>
                  </a:gs>
                  <a:gs pos="50000">
                    <a:srgbClr val="9b9d53"/>
                  </a:gs>
                  <a:gs pos="100000">
                    <a:srgbClr val="53542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3333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4853"/>
                </a:gs>
                <a:gs pos="50000">
                  <a:srgbClr val="6d9db5"/>
                </a:gs>
                <a:gs pos="100000">
                  <a:srgbClr val="3248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85b44"/>
                </a:gs>
                <a:gs pos="50000">
                  <a:srgbClr val="e3c795"/>
                </a:gs>
                <a:gs pos="100000">
                  <a:srgbClr val="685b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85b44"/>
                </a:gs>
                <a:gs pos="50000">
                  <a:srgbClr val="e3c795"/>
                </a:gs>
                <a:gs pos="100000">
                  <a:srgbClr val="685b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85b44"/>
                </a:gs>
                <a:gs pos="50000">
                  <a:srgbClr val="e3c795"/>
                </a:gs>
                <a:gs pos="100000">
                  <a:srgbClr val="685b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9e2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ef9e2"/>
            </a:solidFill>
            <a:ln w="381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948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9948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9948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69744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97440" y="33555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97440" y="3854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838080" y="1752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9b9d53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3333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9e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ef9e2"/>
              </a:solidFill>
              <a:latin typeface="Verdana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523520" y="2286000"/>
            <a:ext cx="6324840" cy="3352320"/>
            <a:chOff x="1523520" y="2286000"/>
            <a:chExt cx="6324840" cy="3352320"/>
          </a:xfrm>
        </p:grpSpPr>
        <p:sp>
          <p:nvSpPr>
            <p:cNvPr id="236" name=""/>
            <p:cNvSpPr/>
            <p:nvPr/>
          </p:nvSpPr>
          <p:spPr>
            <a:xfrm>
              <a:off x="7323120" y="2286000"/>
              <a:ext cx="51948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833000" y="2286000"/>
              <a:ext cx="30153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99680" y="3126600"/>
              <a:ext cx="519480" cy="8416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3480" y="3126600"/>
              <a:ext cx="3241800" cy="54000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75520" y="3958560"/>
              <a:ext cx="517320" cy="84492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54600" y="4791960"/>
              <a:ext cx="52056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3800" y="4797000"/>
              <a:ext cx="368136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23880" y="5632560"/>
              <a:ext cx="106992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523880" y="4791960"/>
              <a:ext cx="181800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523520" y="3962160"/>
              <a:ext cx="256644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523880" y="3133440"/>
              <a:ext cx="331488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523520" y="2291760"/>
              <a:ext cx="4063320" cy="0"/>
            </a:xfrm>
            <a:prstGeom prst="line">
              <a:avLst/>
            </a:prstGeom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85160" y="2286000"/>
              <a:ext cx="0" cy="87156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85160" y="3157560"/>
              <a:ext cx="0" cy="8164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85160" y="3974040"/>
              <a:ext cx="0" cy="8164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85160" y="4791960"/>
              <a:ext cx="0" cy="816480"/>
            </a:xfrm>
            <a:prstGeom prst="line">
              <a:avLst/>
            </a:prstGeom>
            <a:ln w="9360">
              <a:solidFill>
                <a:srgbClr val="33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7680" y="2449080"/>
              <a:ext cx="1657800" cy="272340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37680" y="2827440"/>
              <a:ext cx="2496960" cy="3034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84560" y="3666600"/>
              <a:ext cx="2720880" cy="29772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39720" y="3958560"/>
              <a:ext cx="3458880" cy="54504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41880" y="4502520"/>
              <a:ext cx="2944800" cy="2977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92720" y="5338440"/>
              <a:ext cx="3168720" cy="29736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9e2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25120" y="26100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58f49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25120" y="3436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58f49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25120" y="4300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58f49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25120" y="5106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d58f49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9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9e2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ef9e2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e3c795"/>
              </a:gs>
              <a:gs pos="100000">
                <a:srgbClr val="fef9e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7c4d36"/>
              </a:gs>
              <a:gs pos="100000">
                <a:srgbClr val="a28272"/>
              </a:gs>
            </a:gsLst>
            <a:lin ang="5400000"/>
          </a:gradFill>
          <a:ln w="25560">
            <a:solidFill>
              <a:srgbClr val="fef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9e2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ef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9e2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b9d53"/>
              </a:gs>
              <a:gs pos="100000">
                <a:srgbClr val="b8b986"/>
              </a:gs>
            </a:gsLst>
            <a:lin ang="5400000"/>
          </a:gradFill>
          <a:ln w="25560">
            <a:solidFill>
              <a:srgbClr val="fef9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9e2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dd Your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51Z</dcterms:modified>
  <cp:revision>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