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B92-D50D-4F4C-B262-66D52B65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B6C-D05C-4DCC-8BA6-84931A8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A0E-9BCC-4C63-BEE0-946A4873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DBF-D5B3-4CC5-A60B-D93F957F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B546-3F58-4C9B-99B0-D6629E83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E12A-8F25-455D-9E27-5DB420E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43C-F5DC-457E-B620-A257BC39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D39D-7B42-423A-B0C0-12D39449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798-916E-48DD-956E-B74CE6D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0920" y="210960"/>
            <a:ext cx="717084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A07-A20A-4218-B0EC-2DAFCCA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C87-5F96-4B72-994A-5E8C9B9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349-C0B0-4837-92E2-E1294E0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667D-0BF7-41C9-AFCA-8FD05A8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8703-6AF1-4966-A44C-DDDAB88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4E0C-93EE-452B-9ABD-0D509B7A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4FC-D151-48F5-A324-97AEC232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CC0-6547-4EAA-8BE6-A74B1CED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5B1-B6E1-4996-B5BA-2370B98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59F-060F-47BB-90A8-8D1315E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30F-28C0-4131-8A56-2EF8BB30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920" y="210960"/>
            <a:ext cx="717084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A91-5222-4F1E-9EEA-560F5C6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A65-2E09-4959-8D90-075E1D1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AF1-59BF-4651-A627-AE6C8EC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814-8FA7-44BE-AC82-51708C4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872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4000" y="6408720"/>
            <a:ext cx="3816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72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A54E-8C80-495D-BBAC-99E96F4BD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40872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664000" y="6408720"/>
            <a:ext cx="3816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40872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893-92DA-420F-8E31-2BF0A11FA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"/>
              </a:rPr>
              <a:t>经典商务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2816280"/>
            <a:ext cx="64008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dff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CE1-E559-4FCF-A163-88F9EA62333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754380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920" y="210960"/>
            <a:ext cx="717084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cdffc1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7:1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0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