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ACE-4A84-40D4-BFA1-782C0764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385-135E-490B-A9DF-806FDD59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CED-A7F6-4AA5-BD6D-DF84CBF5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81E-CDE0-4F1F-9AFC-B673002A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685-80A3-47DD-903A-F11432C3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7CC3-68A4-479D-8AB2-7E72329F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6B00-0992-487A-8EA2-3491F69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5344-9137-4553-87C4-6384572A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A075-F353-44E8-9852-7AF1B966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7AC9-F39D-461D-9535-3551A2F8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0BC2-AE54-4312-8EF9-C1FBF89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532-EFA7-4136-9A7E-944A6744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2880-2F9B-4096-A116-64B0E97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975D-4171-4E96-9FA1-99FBAE2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0C7-7491-437E-9DCA-0064EEB0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62CC-17D1-436A-AF73-97C5E0B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035D-E6BA-4CD8-A550-EFFA48B6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082-2E62-47E2-B77D-5A9AC608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4CF-85BF-4911-9E06-97BD54FA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6D0-91C9-4889-B6B8-BC759F8D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E6B-CA07-47BE-B577-0B79DB7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741-C3D8-4EED-841A-5B952A7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9D1-2200-46DD-899E-182CAD4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AE4-EC6C-4BF3-ABDB-56FEA3E0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larendon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81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81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C4B6-76CA-4F0C-93ED-0CF4A4889D0B}" type="slidenum"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231040" cy="309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883944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larendon Condense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-36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09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5348-D3BA-49E4-9401-185636FF5358}" type="slidenum"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200000"/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SzPct val="200000"/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200000"/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8231040" cy="30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larendon Condensed"/>
              </a:rPr>
              <a:t>Simple By Choice</a:t>
            </a: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1360" y="9144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简洁大方蓝色企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larendon Condensed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37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Transitional Pag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828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8080"/>
            <a:ext cx="9144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larendon Condensed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larendon Condensed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BB0-214A-4E0E-A5E5-47B8BD330CCC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larendon Condensed"/>
              </a:rPr>
              <a:t>Elements</a:t>
            </a:r>
            <a:endParaRPr b="1" lang="en-US" sz="4800" spc="-1" strike="noStrike">
              <a:solidFill>
                <a:srgbClr val="ffffff"/>
              </a:solidFill>
              <a:latin typeface="Clarendon Condense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31040" cy="30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52280" y="1981080"/>
            <a:ext cx="8839440" cy="78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0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