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D92-1A78-4788-A20F-1DE12FA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22A-8A71-4771-8057-80F1C0E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CC-3BC6-4FDB-8D99-0DA77149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AB1-A119-4FF5-B4DF-F3148B0F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202-774B-433F-9C36-809A1997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8662-F59C-4118-A536-199CDEA2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F975-0A79-417B-9E3C-18E7866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8E5-1398-417C-B1DA-4F72918C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345-F54E-495C-9B7E-3C98499D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BC85-C9EB-4337-9A09-4149DFA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D45-63D1-445A-8245-76538648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128-BECE-461B-AD5F-EB9265E9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3D8-A642-4020-A619-C0374AA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FA96-F623-4B52-8D88-8958B23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4BF-5755-4169-A478-6868B8B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C6CC-0117-479A-BD56-F7E0FEB3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0263-8271-4F86-BE80-BF9DC732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DA6-A13F-478F-9CF9-DD98C99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28B-88E7-4754-AAD3-0A69BDC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279-CC01-40EA-BFB9-66000C7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97A-DBD7-4CD9-ABB3-6EBA57D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237-D79F-4262-B282-94EE1E6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CD3-F5A5-4CA3-9BF2-03BF6023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4F1-4708-4322-8F51-CF69A7F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84720" y="5410080"/>
            <a:ext cx="5759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E93-ECCA-4F20-9631-F43DCAB64D0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2590920"/>
            <a:ext cx="8229600" cy="19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C2B5-060B-4B01-9803-B40C3A00207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00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00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简洁黄色商务书写报告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模板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imes New Roman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00b5b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980-6FB4-49B3-AEC6-60B6953E1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imes New Roman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00b5b"/>
              </a:solidFill>
              <a:latin typeface="Times New Roman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708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23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9-18T13:23:1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b200000000000001024140</vt:lpwstr>
  </property>
  <property fmtid="{D5CDD505-2E9C-101B-9397-08002B2CF9AE}" pid="4" name="Version">
    <vt:r8>1</vt:r8>
  </property>
</Properties>
</file>