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501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4501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457200"/>
            <a:ext cx="74185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450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紧急救护</a:t>
            </a: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医疗幻灯片下载</a:t>
            </a:r>
            <a:endParaRPr b="0" lang="en-US" sz="40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190760" y="990720"/>
            <a:ext cx="38862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4501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Microsoft Sans Serif"/>
                <a:ea typeface="宋体"/>
              </a:rPr>
              <a:t>Company name</a:t>
            </a:r>
            <a:endParaRPr b="0" lang="en-US" sz="18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4501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014501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26262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Microsoft Sans Serif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334120" cy="79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14501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Sans Serif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670572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Microsoft Sans Serif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62626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0:56:1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9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