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E5FC-8329-44CE-97BA-854727312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1960" y="599040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A845-7210-4F9E-AAA1-0DF919F7C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372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D0F5-42A2-4A10-895B-413EB9DA7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372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0548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196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372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0548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C88F-24CC-4AB9-98C4-9710B9B0E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268E2-2B01-46BD-9ABB-7C432CE0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361960" y="57913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6A60-F664-447B-939F-4F13795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B786B-7C7C-417D-BEC6-670319C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D9C00-0FB0-4500-A640-6F66520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A52C-0B68-4E7C-A77E-014D7B1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0080" y="2590920"/>
            <a:ext cx="71247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027B-3459-49CB-8D84-869E8BD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5251-045A-430D-A6AB-79157F4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1960" y="57913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94E9-272F-40FC-AD18-D02AC898E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372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44ACF-7FA3-42C7-9DD4-EC04E15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832FD-8625-47A7-B55B-E7F7401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61960" y="599040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037B9-8642-4519-96FA-0AF9192B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372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726CB-5B76-4BC9-9C4B-3A6A4191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3372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5480" y="579132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36196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3372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5480" y="5990400"/>
            <a:ext cx="1496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8C97-CF50-4E95-AB75-05E526D9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1CFB-C2BD-4121-B8A9-1793500EC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7EF0-9B2D-4674-A08E-A2C015BD6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AF51-B30C-4226-8B0F-ADDACEA50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080" y="2590920"/>
            <a:ext cx="71247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FEC4-6A54-4E13-AA45-364D94B38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A033-5946-4EB8-ADDC-7E471BB5A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3720" y="599040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377E-5D82-4618-B887-724A67115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3720" y="5791320"/>
            <a:ext cx="226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1960" y="5990400"/>
            <a:ext cx="4647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4728-BED0-4A11-8834-150399A3C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638680"/>
            <a:ext cx="9144000" cy="1219320"/>
          </a:xfrm>
          <a:custGeom>
            <a:avLst/>
            <a:gdLst/>
            <a:ahLst/>
            <a:rect l="l" t="t" r="r" b="b"/>
            <a:pathLst>
              <a:path w="5760" h="768">
                <a:moveTo>
                  <a:pt x="0" y="512"/>
                </a:moveTo>
                <a:lnTo>
                  <a:pt x="5120" y="512"/>
                </a:lnTo>
                <a:lnTo>
                  <a:pt x="5760" y="0"/>
                </a:lnTo>
                <a:lnTo>
                  <a:pt x="5760" y="768"/>
                </a:lnTo>
                <a:lnTo>
                  <a:pt x="0" y="768"/>
                </a:lnTo>
                <a:lnTo>
                  <a:pt x="0" y="512"/>
                </a:lnTo>
                <a:close/>
              </a:path>
            </a:pathLst>
          </a:cu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-3240"/>
            <a:ext cx="9147240" cy="1133640"/>
          </a:xfrm>
          <a:custGeom>
            <a:avLst/>
            <a:gdLst/>
            <a:ahLst/>
            <a:rect l="l" t="t" r="r" b="b"/>
            <a:pathLst>
              <a:path w="3790" h="714">
                <a:moveTo>
                  <a:pt x="0" y="0"/>
                </a:moveTo>
                <a:lnTo>
                  <a:pt x="3790" y="0"/>
                </a:lnTo>
                <a:lnTo>
                  <a:pt x="3790" y="232"/>
                </a:lnTo>
                <a:lnTo>
                  <a:pt x="3380" y="712"/>
                </a:lnTo>
                <a:lnTo>
                  <a:pt x="2" y="714"/>
                </a:lnTo>
                <a:lnTo>
                  <a:pt x="0" y="0"/>
                </a:lnTo>
                <a:close/>
              </a:path>
            </a:pathLst>
          </a:custGeom>
          <a:solidFill>
            <a:srgbClr val="1d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82720"/>
            <a:ext cx="7721640" cy="260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5772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809880" y="648288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D6B-1E82-457B-86CC-17C9227D8F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6215040" y="880920"/>
            <a:ext cx="2260800" cy="262080"/>
          </a:xfrm>
          <a:custGeom>
            <a:avLst/>
            <a:gdLst/>
            <a:ahLst/>
            <a:rect l="l" t="t" r="r" b="b"/>
            <a:pathLst>
              <a:path w="1424" h="165">
                <a:moveTo>
                  <a:pt x="0" y="165"/>
                </a:moveTo>
                <a:lnTo>
                  <a:pt x="1221" y="164"/>
                </a:lnTo>
                <a:lnTo>
                  <a:pt x="1424" y="0"/>
                </a:lnTo>
                <a:lnTo>
                  <a:pt x="189" y="0"/>
                </a:lnTo>
                <a:lnTo>
                  <a:pt x="0" y="165"/>
                </a:lnTo>
                <a:close/>
              </a:path>
            </a:pathLst>
          </a:cu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51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09880"/>
            <a:ext cx="9144000" cy="3048120"/>
          </a:xfrm>
          <a:custGeom>
            <a:avLst/>
            <a:gdLst/>
            <a:ahLst/>
            <a:rect l="l" t="t" r="r" b="b"/>
            <a:pathLst>
              <a:path w="5760" h="1920">
                <a:moveTo>
                  <a:pt x="0" y="0"/>
                </a:moveTo>
                <a:lnTo>
                  <a:pt x="0" y="1920"/>
                </a:lnTo>
                <a:lnTo>
                  <a:pt x="5760" y="1920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5045040" cy="390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3600" y="3429000"/>
            <a:ext cx="2195280" cy="390600"/>
          </a:xfrm>
          <a:custGeom>
            <a:avLst/>
            <a:gdLst/>
            <a:ahLst/>
            <a:rect l="l" t="t" r="r" b="b"/>
            <a:pathLst>
              <a:path w="1341" h="246">
                <a:moveTo>
                  <a:pt x="0" y="0"/>
                </a:moveTo>
                <a:lnTo>
                  <a:pt x="1341" y="0"/>
                </a:lnTo>
                <a:lnTo>
                  <a:pt x="1159" y="246"/>
                </a:lnTo>
                <a:lnTo>
                  <a:pt x="0" y="246"/>
                </a:lnTo>
                <a:lnTo>
                  <a:pt x="0" y="0"/>
                </a:lnTo>
                <a:close/>
              </a:path>
            </a:pathLst>
          </a:cu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7D5B-8004-49E7-A390-6E02B58F30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3886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62680" y="3429000"/>
            <a:ext cx="2281320" cy="390600"/>
          </a:xfrm>
          <a:custGeom>
            <a:avLst/>
            <a:gdLst/>
            <a:ahLst/>
            <a:rect l="l" t="t" r="r" b="b"/>
            <a:pathLst>
              <a:path w="1437" h="246">
                <a:moveTo>
                  <a:pt x="189" y="0"/>
                </a:moveTo>
                <a:lnTo>
                  <a:pt x="0" y="243"/>
                </a:lnTo>
                <a:lnTo>
                  <a:pt x="1437" y="246"/>
                </a:lnTo>
                <a:lnTo>
                  <a:pt x="1436" y="0"/>
                </a:lnTo>
                <a:lnTo>
                  <a:pt x="189" y="0"/>
                </a:lnTo>
                <a:close/>
              </a:path>
            </a:pathLst>
          </a:custGeom>
          <a:solidFill>
            <a:srgbClr val="1d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6865920" cy="1447920"/>
          </a:xfrm>
          <a:custGeom>
            <a:avLst/>
            <a:gdLst/>
            <a:ahLst/>
            <a:rect l="l" t="t" r="r" b="b"/>
            <a:pathLst>
              <a:path w="4337" h="912">
                <a:moveTo>
                  <a:pt x="0" y="0"/>
                </a:moveTo>
                <a:lnTo>
                  <a:pt x="4337" y="2"/>
                </a:lnTo>
                <a:lnTo>
                  <a:pt x="3658" y="906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762120"/>
            <a:ext cx="1981080" cy="266688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lnTo>
                  <a:pt x="1248" y="0"/>
                </a:lnTo>
                <a:lnTo>
                  <a:pt x="1248" y="1680"/>
                </a:lnTo>
                <a:lnTo>
                  <a:pt x="0" y="1680"/>
                </a:lnTo>
                <a:close/>
              </a:path>
            </a:pathLst>
          </a:cu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429000"/>
            <a:ext cx="914400" cy="380880"/>
          </a:xfrm>
          <a:prstGeom prst="parallelogram">
            <a:avLst>
              <a:gd name="adj" fmla="val 77113"/>
            </a:avLst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190080" y="2590920"/>
            <a:ext cx="7124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51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080" y="2819520"/>
            <a:ext cx="712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简洁蓝色企业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在线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1960" y="57913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2a4c41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2a4c41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52640" y="196848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52640" y="528156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25640" y="5370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1400" y="5370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94080" y="549900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3440" y="557532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25560" y="475776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414440" y="263520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88840" y="19875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1360" y="144792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316200" y="3652560"/>
            <a:ext cx="219240" cy="190440"/>
            <a:chOff x="6316200" y="3652560"/>
            <a:chExt cx="219240" cy="190440"/>
          </a:xfrm>
        </p:grpSpPr>
        <p:sp>
          <p:nvSpPr>
            <p:cNvPr id="294" name=""/>
            <p:cNvSpPr/>
            <p:nvPr/>
          </p:nvSpPr>
          <p:spPr>
            <a:xfrm flipV="1" rot="16200000">
              <a:off x="6301800" y="366660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16200000">
              <a:off x="6359400" y="366660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316560" y="2624040"/>
            <a:ext cx="236160" cy="193320"/>
            <a:chOff x="6316560" y="2624040"/>
            <a:chExt cx="236160" cy="193320"/>
          </a:xfrm>
        </p:grpSpPr>
        <p:sp>
          <p:nvSpPr>
            <p:cNvPr id="297" name=""/>
            <p:cNvSpPr/>
            <p:nvPr/>
          </p:nvSpPr>
          <p:spPr>
            <a:xfrm flipV="1" rot="16200000">
              <a:off x="6302520" y="26420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16200000">
              <a:off x="6377400" y="263808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543720" y="239076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3720" y="34178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11720" y="179712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1d518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41920" y="18176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316200" y="4749480"/>
            <a:ext cx="219240" cy="190440"/>
            <a:chOff x="6316200" y="4749480"/>
            <a:chExt cx="219240" cy="190440"/>
          </a:xfrm>
        </p:grpSpPr>
        <p:sp>
          <p:nvSpPr>
            <p:cNvPr id="304" name=""/>
            <p:cNvSpPr/>
            <p:nvPr/>
          </p:nvSpPr>
          <p:spPr>
            <a:xfrm flipV="1" rot="16200000">
              <a:off x="6301800" y="476352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6200000">
              <a:off x="6359400" y="476352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543720" y="451476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1320" y="3795840"/>
            <a:ext cx="1861920" cy="127764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67040" y="4734000"/>
            <a:ext cx="1312560" cy="504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rcRect l="0" t="14261" r="0" b="0"/>
          <a:stretch/>
        </p:blipFill>
        <p:spPr>
          <a:xfrm>
            <a:off x="3056040" y="2149560"/>
            <a:ext cx="2216160" cy="2001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553000" y="2978280"/>
            <a:ext cx="604800" cy="172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5461920" y="2309760"/>
            <a:ext cx="733320" cy="739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5553000" y="4040280"/>
            <a:ext cx="604800" cy="172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451480" y="3365640"/>
            <a:ext cx="741240" cy="7506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553000" y="5135400"/>
            <a:ext cx="604800" cy="173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497560" y="4489560"/>
            <a:ext cx="701640" cy="709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1d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0099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1d518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345" name="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518d">
                    <a:alpha val="90196"/>
                  </a:srgbClr>
                </a:gs>
                <a:gs pos="50000">
                  <a:srgbClr val="b2c3d7"/>
                </a:gs>
                <a:gs pos="100000">
                  <a:srgbClr val="1d518d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349" name="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ccff">
                    <a:alpha val="90196"/>
                  </a:srgbClr>
                </a:gs>
                <a:gs pos="50000">
                  <a:srgbClr val="a8ecfe"/>
                </a:gs>
                <a:gs pos="100000">
                  <a:srgbClr val="00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353" name="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648"/>
                </a:gs>
                <a:gs pos="50000">
                  <a:srgbClr val="0099cb"/>
                </a:gs>
                <a:gs pos="100000">
                  <a:srgbClr val="00364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b">
                    <a:alpha val="90196"/>
                  </a:srgbClr>
                </a:gs>
                <a:gs pos="50000">
                  <a:srgbClr val="a8dbec"/>
                </a:gs>
                <a:gs pos="100000">
                  <a:srgbClr val="0099cb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9c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d518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477520" y="1933560"/>
            <a:ext cx="4217760" cy="4161960"/>
            <a:chOff x="2477520" y="1933560"/>
            <a:chExt cx="4217760" cy="4161960"/>
          </a:xfrm>
        </p:grpSpPr>
        <p:sp>
          <p:nvSpPr>
            <p:cNvPr id="361" name=""/>
            <p:cNvSpPr/>
            <p:nvPr/>
          </p:nvSpPr>
          <p:spPr>
            <a:xfrm rot="10800000">
              <a:off x="3966840" y="5043240"/>
              <a:ext cx="1193040" cy="1052280"/>
            </a:xfrm>
            <a:prstGeom prst="triangle">
              <a:avLst>
                <a:gd name="adj" fmla="val 50000"/>
              </a:avLst>
            </a:prstGeom>
            <a:solidFill>
              <a:srgbClr val="749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84120" y="1933560"/>
              <a:ext cx="1193040" cy="1052640"/>
            </a:xfrm>
            <a:prstGeom prst="triangle">
              <a:avLst>
                <a:gd name="adj" fmla="val 50000"/>
              </a:avLst>
            </a:prstGeom>
            <a:solidFill>
              <a:srgbClr val="1d51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7186200">
              <a:off x="5344920" y="4246920"/>
              <a:ext cx="1193760" cy="1053000"/>
            </a:xfrm>
            <a:prstGeom prst="triangle">
              <a:avLst>
                <a:gd name="adj" fmla="val 50000"/>
              </a:avLst>
            </a:prstGeom>
            <a:solidFill>
              <a:srgbClr val="1d51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3597000">
              <a:off x="5342040" y="2713320"/>
              <a:ext cx="1192320" cy="1051560"/>
            </a:xfrm>
            <a:prstGeom prst="triangle">
              <a:avLst>
                <a:gd name="adj" fmla="val 50000"/>
              </a:avLst>
            </a:prstGeom>
            <a:solidFill>
              <a:srgbClr val="749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374200">
              <a:off x="2637000" y="4255560"/>
              <a:ext cx="1192320" cy="1053360"/>
            </a:xfrm>
            <a:prstGeom prst="triangle">
              <a:avLst>
                <a:gd name="adj" fmla="val 50000"/>
              </a:avLst>
            </a:prstGeom>
            <a:solidFill>
              <a:srgbClr val="1d51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7985000">
              <a:off x="2640960" y="2708640"/>
              <a:ext cx="1193760" cy="1053360"/>
            </a:xfrm>
            <a:prstGeom prst="triangle">
              <a:avLst>
                <a:gd name="adj" fmla="val 50000"/>
              </a:avLst>
            </a:prstGeom>
            <a:solidFill>
              <a:srgbClr val="749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8760" y="5429160"/>
              <a:ext cx="1183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84500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716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716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2188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2188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9320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64000" y="3081240"/>
            <a:ext cx="2093760" cy="1811520"/>
          </a:xfrm>
          <a:prstGeom prst="hexagon">
            <a:avLst>
              <a:gd name="adj" fmla="val 28895"/>
              <a:gd name="vf" fmla="val 115470"/>
            </a:avLst>
          </a:prstGeom>
          <a:noFill/>
          <a:ln w="936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33600" y="545796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66848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2584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5576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5576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89716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9716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28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928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99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 rot="18480600">
            <a:off x="134496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389" name="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7040" y="32050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2a4c4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386080" y="29671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2a4c41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2a4c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122480" y="42703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21504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53542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5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404" name=""/>
            <p:cNvGrpSpPr/>
            <p:nvPr/>
          </p:nvGrpSpPr>
          <p:grpSpPr>
            <a:xfrm>
              <a:off x="6549840" y="5281560"/>
              <a:ext cx="1080720" cy="491400"/>
              <a:chOff x="6549840" y="5281560"/>
              <a:chExt cx="1080720" cy="491400"/>
            </a:xfrm>
          </p:grpSpPr>
          <p:sp>
            <p:nvSpPr>
              <p:cNvPr id="405" name=""/>
              <p:cNvSpPr/>
              <p:nvPr/>
            </p:nvSpPr>
            <p:spPr>
              <a:xfrm flipH="1" flipV="1" rot="3964800">
                <a:off x="713808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 rot="4780200">
                <a:off x="701748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320520" y="5287680"/>
              <a:ext cx="1080000" cy="515880"/>
              <a:chOff x="6320520" y="5287680"/>
              <a:chExt cx="1080000" cy="515880"/>
            </a:xfrm>
          </p:grpSpPr>
          <p:sp>
            <p:nvSpPr>
              <p:cNvPr id="410" name=""/>
              <p:cNvSpPr/>
              <p:nvPr/>
            </p:nvSpPr>
            <p:spPr>
              <a:xfrm flipH="1" flipV="1" rot="5317800">
                <a:off x="690984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 rot="6133800">
                <a:off x="677880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743280" y="42703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235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2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420" name=""/>
            <p:cNvGrpSpPr/>
            <p:nvPr/>
          </p:nvGrpSpPr>
          <p:grpSpPr>
            <a:xfrm>
              <a:off x="4078080" y="5281560"/>
              <a:ext cx="1080720" cy="491400"/>
              <a:chOff x="4078080" y="5281560"/>
              <a:chExt cx="1080720" cy="491400"/>
            </a:xfrm>
          </p:grpSpPr>
          <p:sp>
            <p:nvSpPr>
              <p:cNvPr id="421" name=""/>
              <p:cNvSpPr/>
              <p:nvPr/>
            </p:nvSpPr>
            <p:spPr>
              <a:xfrm flipH="1" flipV="1" rot="3964800">
                <a:off x="4666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 rot="4780200">
                <a:off x="454572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848760" y="5287680"/>
              <a:ext cx="1080000" cy="515880"/>
              <a:chOff x="3848760" y="5287680"/>
              <a:chExt cx="1080000" cy="515880"/>
            </a:xfrm>
          </p:grpSpPr>
          <p:sp>
            <p:nvSpPr>
              <p:cNvPr id="426" name=""/>
              <p:cNvSpPr/>
              <p:nvPr/>
            </p:nvSpPr>
            <p:spPr>
              <a:xfrm flipH="1" flipV="1" rot="5317800">
                <a:off x="443808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 rot="6133800">
                <a:off x="430704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 rot="3050400">
            <a:off x="4367520" y="3561480"/>
            <a:ext cx="3255840" cy="441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435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436" name="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a8a8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a8a8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d518d">
                      <a:alpha val="90196"/>
                    </a:srgbClr>
                  </a:gs>
                  <a:gs pos="50000">
                    <a:srgbClr val="90a9c6"/>
                  </a:gs>
                  <a:gs pos="100000">
                    <a:srgbClr val="1d518d">
                      <a:alpha val="9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438280" y="22096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216800" y="5281560"/>
            <a:ext cx="1310040" cy="522000"/>
            <a:chOff x="1216800" y="5281560"/>
            <a:chExt cx="1310040" cy="522000"/>
          </a:xfrm>
        </p:grpSpPr>
        <p:grpSp>
          <p:nvGrpSpPr>
            <p:cNvPr id="441" name=""/>
            <p:cNvGrpSpPr/>
            <p:nvPr/>
          </p:nvGrpSpPr>
          <p:grpSpPr>
            <a:xfrm>
              <a:off x="1446120" y="5281560"/>
              <a:ext cx="1080720" cy="491400"/>
              <a:chOff x="1446120" y="5281560"/>
              <a:chExt cx="1080720" cy="491400"/>
            </a:xfrm>
          </p:grpSpPr>
          <p:sp>
            <p:nvSpPr>
              <p:cNvPr id="442" name=""/>
              <p:cNvSpPr/>
              <p:nvPr/>
            </p:nvSpPr>
            <p:spPr>
              <a:xfrm flipH="1" flipV="1" rot="3964800">
                <a:off x="20343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 rot="4780200">
                <a:off x="191376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 rot="5076000">
                <a:off x="183888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 rot="5608200">
                <a:off x="174852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216800" y="5287680"/>
              <a:ext cx="1080000" cy="515880"/>
              <a:chOff x="1216800" y="5287680"/>
              <a:chExt cx="1080000" cy="515880"/>
            </a:xfrm>
          </p:grpSpPr>
          <p:sp>
            <p:nvSpPr>
              <p:cNvPr id="447" name=""/>
              <p:cNvSpPr/>
              <p:nvPr/>
            </p:nvSpPr>
            <p:spPr>
              <a:xfrm flipH="1" flipV="1" rot="5317800">
                <a:off x="180612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 rot="6133800">
                <a:off x="167508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6429000">
                <a:off x="160236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 rot="6961200">
                <a:off x="151596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749bd4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0ccff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0099cb"/>
          </a:solidFill>
          <a:ln w="9360">
            <a:solidFill>
              <a:srgbClr val="0099cb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0099cb">
              <a:alpha val="50000"/>
            </a:srgbClr>
          </a:solidFill>
          <a:ln w="9360">
            <a:solidFill>
              <a:srgbClr val="009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749bd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474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c41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c41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c41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c41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9bd4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b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489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490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495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3825720"/>
            <a:ext cx="4362480" cy="126540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2536560" y="1866600"/>
            <a:ext cx="153648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2673360" y="1765440"/>
            <a:ext cx="1379160" cy="39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92e8fe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2610720" y="186588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749bd4"/>
              </a:gs>
              <a:gs pos="100000">
                <a:srgbClr val="bacde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2603160" y="185472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97d4e9"/>
              </a:gs>
              <a:gs pos="100000">
                <a:srgbClr val="0099c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14880" y="387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4920" y="35672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33960" y="400680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719600" y="42656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476440" y="3757680"/>
            <a:ext cx="1014480" cy="830160"/>
          </a:xfrm>
          <a:prstGeom prst="line">
            <a:avLst/>
          </a:prstGeom>
          <a:ln w="1260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6200000">
            <a:off x="2567520" y="148428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0e2948"/>
              </a:gs>
              <a:gs pos="100000">
                <a:srgbClr val="1d51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86400" y="321624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1d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2577600" y="131976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1d518d"/>
              </a:gs>
              <a:gs pos="100000">
                <a:srgbClr val="a3b8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2987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cxnSp>
        <p:nvCxnSpPr>
          <p:cNvPr id="515" name=""/>
          <p:cNvCxnSpPr>
            <a:endCxn id="514" idx="3"/>
          </p:cNvCxnSpPr>
          <p:nvPr/>
        </p:nvCxnSpPr>
        <p:spPr>
          <a:xfrm flipV="1" rot="10800000">
            <a:off x="3907800" y="230148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endCxn id="507" idx="3"/>
          </p:cNvCxnSpPr>
          <p:nvPr/>
        </p:nvCxnSpPr>
        <p:spPr>
          <a:xfrm rot="10800000">
            <a:off x="5250600" y="3718800"/>
            <a:ext cx="122652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3282840" y="39877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1204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324480" y="2119320"/>
            <a:ext cx="2028960" cy="482400"/>
            <a:chOff x="6324480" y="2119320"/>
            <a:chExt cx="2028960" cy="482400"/>
          </a:xfrm>
        </p:grpSpPr>
        <p:sp>
          <p:nvSpPr>
            <p:cNvPr id="520" name=""/>
            <p:cNvSpPr/>
            <p:nvPr/>
          </p:nvSpPr>
          <p:spPr>
            <a:xfrm>
              <a:off x="6444000" y="23972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24480" y="21193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63f6e"/>
                </a:gs>
                <a:gs pos="100000">
                  <a:srgbClr val="1d51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324480" y="3673440"/>
            <a:ext cx="2028960" cy="482400"/>
            <a:chOff x="6324480" y="3673440"/>
            <a:chExt cx="2028960" cy="482400"/>
          </a:xfrm>
        </p:grpSpPr>
        <p:sp>
          <p:nvSpPr>
            <p:cNvPr id="523" name=""/>
            <p:cNvSpPr/>
            <p:nvPr/>
          </p:nvSpPr>
          <p:spPr>
            <a:xfrm>
              <a:off x="6444000" y="39513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24480" y="3673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a0c8"/>
                </a:gs>
                <a:gs pos="100000">
                  <a:srgbClr val="00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324480" y="5045040"/>
            <a:ext cx="2028960" cy="482400"/>
            <a:chOff x="6324480" y="5045040"/>
            <a:chExt cx="2028960" cy="482400"/>
          </a:xfrm>
        </p:grpSpPr>
        <p:sp>
          <p:nvSpPr>
            <p:cNvPr id="526" name=""/>
            <p:cNvSpPr/>
            <p:nvPr/>
          </p:nvSpPr>
          <p:spPr>
            <a:xfrm>
              <a:off x="6444000" y="5322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24480" y="50450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b79a6"/>
                </a:gs>
                <a:gs pos="100000">
                  <a:srgbClr val="749b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143000" y="5273640"/>
            <a:ext cx="2028960" cy="482400"/>
            <a:chOff x="1143000" y="5273640"/>
            <a:chExt cx="2028960" cy="482400"/>
          </a:xfrm>
        </p:grpSpPr>
        <p:sp>
          <p:nvSpPr>
            <p:cNvPr id="529" name=""/>
            <p:cNvSpPr/>
            <p:nvPr/>
          </p:nvSpPr>
          <p:spPr>
            <a:xfrm>
              <a:off x="1262520" y="5551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3000" y="52736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789f"/>
                </a:gs>
                <a:gs pos="100000">
                  <a:srgbClr val="0099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cxnSp>
        <p:nvCxnSpPr>
          <p:cNvPr id="531" name=""/>
          <p:cNvCxnSpPr/>
          <p:nvPr/>
        </p:nvCxnSpPr>
        <p:spPr>
          <a:xfrm rot="10800000">
            <a:off x="4799880" y="405360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 flipH="1" flipV="1" rot="5400000">
            <a:off x="2698560" y="4755600"/>
            <a:ext cx="1204200" cy="25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6628320" y="4130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75840" y="25765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04280" y="55022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051640" y="2271600"/>
            <a:ext cx="996120" cy="1294560"/>
            <a:chOff x="2051640" y="2271600"/>
            <a:chExt cx="996120" cy="1294560"/>
          </a:xfrm>
        </p:grpSpPr>
        <p:grpSp>
          <p:nvGrpSpPr>
            <p:cNvPr id="537" name=""/>
            <p:cNvGrpSpPr/>
            <p:nvPr/>
          </p:nvGrpSpPr>
          <p:grpSpPr>
            <a:xfrm>
              <a:off x="2051640" y="2274120"/>
              <a:ext cx="991080" cy="1292040"/>
              <a:chOff x="2051640" y="2274120"/>
              <a:chExt cx="991080" cy="1292040"/>
            </a:xfrm>
          </p:grpSpPr>
          <p:sp>
            <p:nvSpPr>
              <p:cNvPr id="538" name=""/>
              <p:cNvSpPr/>
              <p:nvPr/>
            </p:nvSpPr>
            <p:spPr>
              <a:xfrm>
                <a:off x="2051640" y="2780640"/>
                <a:ext cx="99108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19480" y="227412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057400" y="2776320"/>
              <a:ext cx="99036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5180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2488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7348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305800" y="2277720"/>
              <a:ext cx="344880" cy="359280"/>
              <a:chOff x="2305800" y="2277720"/>
              <a:chExt cx="344880" cy="35928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314080" y="2277720"/>
                <a:ext cx="336600" cy="273960"/>
                <a:chOff x="2314080" y="2277720"/>
                <a:chExt cx="336600" cy="273960"/>
              </a:xfrm>
            </p:grpSpPr>
            <p:sp>
              <p:nvSpPr>
                <p:cNvPr id="546" name=""/>
                <p:cNvSpPr/>
                <p:nvPr/>
              </p:nvSpPr>
              <p:spPr>
                <a:xfrm flipH="1" rot="15040200">
                  <a:off x="246672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rot="14224200">
                  <a:off x="242748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rot="13928400">
                  <a:off x="2409120" y="227700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rot="13396200">
                  <a:off x="2387520" y="229932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2305800" y="2299320"/>
                <a:ext cx="271800" cy="337680"/>
                <a:chOff x="2305800" y="2299320"/>
                <a:chExt cx="271800" cy="337680"/>
              </a:xfrm>
            </p:grpSpPr>
            <p:sp>
              <p:nvSpPr>
                <p:cNvPr id="551" name=""/>
                <p:cNvSpPr/>
                <p:nvPr/>
              </p:nvSpPr>
              <p:spPr>
                <a:xfrm flipH="1" rot="13687200">
                  <a:off x="240228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rot="12871200">
                  <a:off x="2372040" y="2322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 rot="12576000">
                  <a:off x="2361600" y="23450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 rot="12043800">
                  <a:off x="235008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2125440" y="2813400"/>
              <a:ext cx="429120" cy="517320"/>
              <a:chOff x="2125440" y="2813400"/>
              <a:chExt cx="429120" cy="51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2125440" y="2813400"/>
                <a:ext cx="429120" cy="405000"/>
                <a:chOff x="2125440" y="2813400"/>
                <a:chExt cx="429120" cy="40500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4424600">
                  <a:off x="232128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3608600">
                  <a:off x="226908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rot="13313400">
                  <a:off x="224568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rot="12781200">
                  <a:off x="221760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126880" y="2841840"/>
                <a:ext cx="307800" cy="488880"/>
                <a:chOff x="2126880" y="2841840"/>
                <a:chExt cx="307800" cy="488880"/>
              </a:xfrm>
            </p:grpSpPr>
            <p:sp>
              <p:nvSpPr>
                <p:cNvPr id="562" name=""/>
                <p:cNvSpPr/>
                <p:nvPr/>
              </p:nvSpPr>
              <p:spPr>
                <a:xfrm flipH="1" rot="13071600">
                  <a:off x="223416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rot="12256200">
                  <a:off x="219852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rot="11960400">
                  <a:off x="218520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rot="11428200">
                  <a:off x="217260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6" name=""/>
          <p:cNvSpPr/>
          <p:nvPr/>
        </p:nvSpPr>
        <p:spPr>
          <a:xfrm>
            <a:off x="1596240" y="35672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518480" y="2271600"/>
            <a:ext cx="995760" cy="1294560"/>
            <a:chOff x="1518480" y="2271600"/>
            <a:chExt cx="995760" cy="1294560"/>
          </a:xfrm>
        </p:grpSpPr>
        <p:grpSp>
          <p:nvGrpSpPr>
            <p:cNvPr id="568" name=""/>
            <p:cNvGrpSpPr/>
            <p:nvPr/>
          </p:nvGrpSpPr>
          <p:grpSpPr>
            <a:xfrm>
              <a:off x="1518480" y="2274120"/>
              <a:ext cx="990720" cy="1292040"/>
              <a:chOff x="1518480" y="2274120"/>
              <a:chExt cx="990720" cy="1292040"/>
            </a:xfrm>
          </p:grpSpPr>
          <p:sp>
            <p:nvSpPr>
              <p:cNvPr id="569" name=""/>
              <p:cNvSpPr/>
              <p:nvPr/>
            </p:nvSpPr>
            <p:spPr>
              <a:xfrm>
                <a:off x="1518480" y="2780640"/>
                <a:ext cx="99072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85960" y="227412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1524240" y="2776320"/>
              <a:ext cx="99000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b"/>
                </a:gs>
                <a:gs pos="100000">
                  <a:srgbClr val="0028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282600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cb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91360" y="227160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571"/>
                </a:gs>
                <a:gs pos="50000">
                  <a:srgbClr val="0099cb"/>
                </a:gs>
                <a:gs pos="100000">
                  <a:srgbClr val="0055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40320" y="228060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cb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772280" y="2277720"/>
              <a:ext cx="344880" cy="359280"/>
              <a:chOff x="1772280" y="2277720"/>
              <a:chExt cx="344880" cy="35928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1780920" y="2277720"/>
                <a:ext cx="336240" cy="273960"/>
                <a:chOff x="1780920" y="2277720"/>
                <a:chExt cx="336240" cy="273960"/>
              </a:xfrm>
            </p:grpSpPr>
            <p:sp>
              <p:nvSpPr>
                <p:cNvPr id="577" name=""/>
                <p:cNvSpPr/>
                <p:nvPr/>
              </p:nvSpPr>
              <p:spPr>
                <a:xfrm flipH="1" rot="15040200">
                  <a:off x="1933200" y="22446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rot="14224200">
                  <a:off x="1893960" y="22600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rot="13928400">
                  <a:off x="1875240" y="22777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rot="13396200">
                  <a:off x="1854000" y="230004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1772280" y="2299320"/>
                <a:ext cx="271800" cy="337680"/>
                <a:chOff x="1772280" y="2299320"/>
                <a:chExt cx="271800" cy="337680"/>
              </a:xfrm>
            </p:grpSpPr>
            <p:sp>
              <p:nvSpPr>
                <p:cNvPr id="582" name=""/>
                <p:cNvSpPr/>
                <p:nvPr/>
              </p:nvSpPr>
              <p:spPr>
                <a:xfrm flipH="1" rot="13687200">
                  <a:off x="1868760" y="22928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rot="12871200">
                  <a:off x="1838880" y="23223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rot="12576000">
                  <a:off x="1828080" y="23457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 rot="12043800">
                  <a:off x="1816920" y="23745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6" name=""/>
            <p:cNvGrpSpPr/>
            <p:nvPr/>
          </p:nvGrpSpPr>
          <p:grpSpPr>
            <a:xfrm>
              <a:off x="1592280" y="2813400"/>
              <a:ext cx="429120" cy="517320"/>
              <a:chOff x="1592280" y="2813400"/>
              <a:chExt cx="429120" cy="51732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1592280" y="2813400"/>
                <a:ext cx="429120" cy="405000"/>
                <a:chOff x="1592280" y="2813400"/>
                <a:chExt cx="429120" cy="405000"/>
              </a:xfrm>
            </p:grpSpPr>
            <p:sp>
              <p:nvSpPr>
                <p:cNvPr id="588" name=""/>
                <p:cNvSpPr/>
                <p:nvPr/>
              </p:nvSpPr>
              <p:spPr>
                <a:xfrm flipH="1" rot="14424600">
                  <a:off x="1788120" y="276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rot="13608600">
                  <a:off x="1735920" y="279396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rot="13313400">
                  <a:off x="1712520" y="28202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rot="12781200">
                  <a:off x="1684440" y="285264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1593720" y="2841840"/>
                <a:ext cx="307800" cy="488880"/>
                <a:chOff x="1593720" y="2841840"/>
                <a:chExt cx="307800" cy="488880"/>
              </a:xfrm>
            </p:grpSpPr>
            <p:sp>
              <p:nvSpPr>
                <p:cNvPr id="593" name=""/>
                <p:cNvSpPr/>
                <p:nvPr/>
              </p:nvSpPr>
              <p:spPr>
                <a:xfrm flipH="1" rot="13071600">
                  <a:off x="1701000" y="283248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H="1" rot="12256200">
                  <a:off x="1665360" y="28818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rot="11960400">
                  <a:off x="1652040" y="2914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rot="11428200">
                  <a:off x="1639440" y="2955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7" name=""/>
          <p:cNvSpPr/>
          <p:nvPr/>
        </p:nvSpPr>
        <p:spPr>
          <a:xfrm>
            <a:off x="1446480" y="57610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0099cb"/>
              </a:gs>
              <a:gs pos="50000">
                <a:srgbClr val="5cbddd">
                  <a:alpha val="90196"/>
                </a:srgbClr>
              </a:gs>
              <a:gs pos="100000">
                <a:srgbClr val="0099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1d518d"/>
              </a:gs>
              <a:gs pos="50000">
                <a:srgbClr val="5179a7"/>
              </a:gs>
              <a:gs pos="100000">
                <a:srgbClr val="1d51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6083640" y="175320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0099cb"/>
              </a:gs>
              <a:gs pos="50000">
                <a:srgbClr val="82cce4">
                  <a:alpha val="90196"/>
                </a:srgbClr>
              </a:gs>
              <a:gs pos="100000">
                <a:srgbClr val="0099c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0099cb"/>
              </a:gs>
              <a:gs pos="50000">
                <a:srgbClr val="007ca5"/>
              </a:gs>
              <a:gs pos="100000">
                <a:srgbClr val="0099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0099cb"/>
              </a:gs>
              <a:gs pos="50000">
                <a:srgbClr val="5cbddd">
                  <a:alpha val="90196"/>
                </a:srgbClr>
              </a:gs>
              <a:gs pos="100000">
                <a:srgbClr val="0099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0099cb"/>
              </a:gs>
              <a:gs pos="50000">
                <a:srgbClr val="0085b1"/>
              </a:gs>
              <a:gs pos="100000">
                <a:srgbClr val="0099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1d518d"/>
              </a:gs>
              <a:gs pos="50000">
                <a:srgbClr val="5179a7"/>
              </a:gs>
              <a:gs pos="100000">
                <a:srgbClr val="1d51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0099cb"/>
              </a:gs>
              <a:gs pos="50000">
                <a:srgbClr val="0085b1"/>
              </a:gs>
              <a:gs pos="100000">
                <a:srgbClr val="0099c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c41"/>
                </a:solidFill>
                <a:latin typeface="Arial"/>
              </a:rPr>
              <a:t>ThemeGallery is 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c41"/>
                </a:solidFill>
                <a:latin typeface="Arial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 flipH="1" rot="17752800">
            <a:off x="5634360" y="26845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5400000">
            <a:off x="1816920" y="1270440"/>
            <a:ext cx="138096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789520" y="28670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886000" y="3808440"/>
            <a:ext cx="1201320" cy="479520"/>
            <a:chOff x="5886000" y="3808440"/>
            <a:chExt cx="1201320" cy="479520"/>
          </a:xfrm>
        </p:grpSpPr>
        <p:grpSp>
          <p:nvGrpSpPr>
            <p:cNvPr id="627" name=""/>
            <p:cNvGrpSpPr/>
            <p:nvPr/>
          </p:nvGrpSpPr>
          <p:grpSpPr>
            <a:xfrm>
              <a:off x="6096240" y="3808440"/>
              <a:ext cx="991080" cy="453240"/>
              <a:chOff x="6096240" y="3808440"/>
              <a:chExt cx="991080" cy="453240"/>
            </a:xfrm>
          </p:grpSpPr>
          <p:sp>
            <p:nvSpPr>
              <p:cNvPr id="628" name=""/>
              <p:cNvSpPr/>
              <p:nvPr/>
            </p:nvSpPr>
            <p:spPr>
              <a:xfrm flipH="1" flipV="1" rot="3964800">
                <a:off x="6633720" y="36745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4780200">
                <a:off x="6522120" y="3719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5076000">
                <a:off x="6453720" y="3728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 rot="5608200">
                <a:off x="6371280" y="37364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886000" y="3813480"/>
              <a:ext cx="988560" cy="474480"/>
              <a:chOff x="5886000" y="3813480"/>
              <a:chExt cx="988560" cy="474480"/>
            </a:xfrm>
          </p:grpSpPr>
          <p:sp>
            <p:nvSpPr>
              <p:cNvPr id="633" name=""/>
              <p:cNvSpPr/>
              <p:nvPr/>
            </p:nvSpPr>
            <p:spPr>
              <a:xfrm flipH="1" flipV="1" rot="5317800">
                <a:off x="6423840" y="37350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6133800">
                <a:off x="6304320" y="37328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6429000">
                <a:off x="6238080" y="37152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6961200">
                <a:off x="6158520" y="36910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920960" y="14032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645" name="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21600" y="3572280"/>
            <a:ext cx="1479240" cy="150120"/>
            <a:chOff x="4521600" y="3572280"/>
            <a:chExt cx="1479240" cy="150120"/>
          </a:xfrm>
        </p:grpSpPr>
        <p:sp>
          <p:nvSpPr>
            <p:cNvPr id="648" name=""/>
            <p:cNvSpPr/>
            <p:nvPr/>
          </p:nvSpPr>
          <p:spPr>
            <a:xfrm rot="5607000">
              <a:off x="5894640" y="36187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16242000">
              <a:off x="5201640" y="289980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1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67520" y="3944520"/>
            <a:ext cx="1455480" cy="579600"/>
            <a:chOff x="3467520" y="3944520"/>
            <a:chExt cx="1455480" cy="579600"/>
          </a:xfrm>
        </p:grpSpPr>
        <p:grpSp>
          <p:nvGrpSpPr>
            <p:cNvPr id="654" name=""/>
            <p:cNvGrpSpPr/>
            <p:nvPr/>
          </p:nvGrpSpPr>
          <p:grpSpPr>
            <a:xfrm>
              <a:off x="3722400" y="3944520"/>
              <a:ext cx="1200600" cy="547920"/>
              <a:chOff x="3722400" y="3944520"/>
              <a:chExt cx="1200600" cy="547920"/>
            </a:xfrm>
          </p:grpSpPr>
          <p:sp>
            <p:nvSpPr>
              <p:cNvPr id="655" name=""/>
              <p:cNvSpPr/>
              <p:nvPr/>
            </p:nvSpPr>
            <p:spPr>
              <a:xfrm flipH="1" flipV="1" rot="3964800">
                <a:off x="4374360" y="3782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 rot="4780200">
                <a:off x="4239000" y="38365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 rot="5076000">
                <a:off x="4155840" y="38462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 rot="5608200">
                <a:off x="4056480" y="38563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467520" y="3949560"/>
              <a:ext cx="1198080" cy="574560"/>
              <a:chOff x="3467520" y="3949560"/>
              <a:chExt cx="1198080" cy="574560"/>
            </a:xfrm>
          </p:grpSpPr>
          <p:sp>
            <p:nvSpPr>
              <p:cNvPr id="660" name=""/>
              <p:cNvSpPr/>
              <p:nvPr/>
            </p:nvSpPr>
            <p:spPr>
              <a:xfrm flipH="1" flipV="1" rot="5317800">
                <a:off x="4119840" y="3854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 rot="6133800">
                <a:off x="3975480" y="38530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 rot="6429000">
                <a:off x="3893760" y="38318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 rot="6961200">
                <a:off x="3799080" y="3800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500920" y="3888720"/>
            <a:ext cx="1258920" cy="1019520"/>
            <a:chOff x="2500920" y="3888720"/>
            <a:chExt cx="1258920" cy="1019520"/>
          </a:xfrm>
        </p:grpSpPr>
        <p:sp>
          <p:nvSpPr>
            <p:cNvPr id="666" name=""/>
            <p:cNvSpPr/>
            <p:nvPr/>
          </p:nvSpPr>
          <p:spPr>
            <a:xfrm rot="3460800">
              <a:off x="3585600" y="39398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rot="13956000">
              <a:off x="3058560" y="36925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 rot="5910600">
            <a:off x="1591200" y="42282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724040" y="44020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824120" y="5389200"/>
            <a:ext cx="1258560" cy="502200"/>
            <a:chOff x="1824120" y="5389200"/>
            <a:chExt cx="1258560" cy="502200"/>
          </a:xfrm>
        </p:grpSpPr>
        <p:grpSp>
          <p:nvGrpSpPr>
            <p:cNvPr id="674" name=""/>
            <p:cNvGrpSpPr/>
            <p:nvPr/>
          </p:nvGrpSpPr>
          <p:grpSpPr>
            <a:xfrm>
              <a:off x="2045160" y="5389200"/>
              <a:ext cx="1037520" cy="474840"/>
              <a:chOff x="2045160" y="5389200"/>
              <a:chExt cx="1037520" cy="474840"/>
            </a:xfrm>
          </p:grpSpPr>
          <p:sp>
            <p:nvSpPr>
              <p:cNvPr id="675" name=""/>
              <p:cNvSpPr/>
              <p:nvPr/>
            </p:nvSpPr>
            <p:spPr>
              <a:xfrm flipH="1" flipV="1" rot="3964800">
                <a:off x="2608200" y="52488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 rot="4780200">
                <a:off x="2491560" y="529596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flipV="1" rot="5076000">
                <a:off x="2420640" y="530568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 rot="5608200">
                <a:off x="2334240" y="53132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1824120" y="5394960"/>
              <a:ext cx="1036440" cy="496440"/>
              <a:chOff x="1824120" y="5394960"/>
              <a:chExt cx="1036440" cy="496440"/>
            </a:xfrm>
          </p:grpSpPr>
          <p:sp>
            <p:nvSpPr>
              <p:cNvPr id="680" name=""/>
              <p:cNvSpPr/>
              <p:nvPr/>
            </p:nvSpPr>
            <p:spPr>
              <a:xfrm flipH="1" flipV="1" rot="5317800">
                <a:off x="2388600" y="53128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 rot="6133800">
                <a:off x="2262960" y="531108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 rot="6429000">
                <a:off x="2192760" y="52927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 rot="6961200">
                <a:off x="2111040" y="52657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003760" y="2216520"/>
            <a:ext cx="1036080" cy="414360"/>
            <a:chOff x="2003760" y="2216520"/>
            <a:chExt cx="1036080" cy="414360"/>
          </a:xfrm>
        </p:grpSpPr>
        <p:grpSp>
          <p:nvGrpSpPr>
            <p:cNvPr id="686" name=""/>
            <p:cNvGrpSpPr/>
            <p:nvPr/>
          </p:nvGrpSpPr>
          <p:grpSpPr>
            <a:xfrm>
              <a:off x="2184840" y="2216520"/>
              <a:ext cx="855000" cy="390600"/>
              <a:chOff x="2184840" y="2216520"/>
              <a:chExt cx="855000" cy="390600"/>
            </a:xfrm>
          </p:grpSpPr>
          <p:sp>
            <p:nvSpPr>
              <p:cNvPr id="687" name=""/>
              <p:cNvSpPr/>
              <p:nvPr/>
            </p:nvSpPr>
            <p:spPr>
              <a:xfrm flipH="1" flipV="1" rot="3964800">
                <a:off x="2649240" y="21009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 rot="4780200">
                <a:off x="2553120" y="21398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 rot="5076000">
                <a:off x="2494080" y="21466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 rot="5608200">
                <a:off x="2423160" y="21538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003760" y="2221200"/>
              <a:ext cx="853200" cy="409680"/>
              <a:chOff x="2003760" y="2221200"/>
              <a:chExt cx="853200" cy="409680"/>
            </a:xfrm>
          </p:grpSpPr>
          <p:sp>
            <p:nvSpPr>
              <p:cNvPr id="692" name=""/>
              <p:cNvSpPr/>
              <p:nvPr/>
            </p:nvSpPr>
            <p:spPr>
              <a:xfrm flipH="1" flipV="1" rot="5317800">
                <a:off x="2468520" y="21538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 rot="6133800">
                <a:off x="2365200" y="21517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 rot="6429000">
                <a:off x="2307600" y="21369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 rot="6961200">
                <a:off x="2239200" y="21153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3497400" y="5153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699" name="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700" name="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704" name="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a4c41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719" name="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723" name="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730" name="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734" name="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741" name="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2a4c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98" name="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b"/>
                </a:gs>
                <a:gs pos="100000">
                  <a:srgbClr val="7bc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009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9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02" name=""/>
            <p:cNvSpPr/>
            <p:nvPr/>
          </p:nvSpPr>
          <p:spPr>
            <a:xfrm>
              <a:off x="10666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d518d"/>
                </a:gs>
                <a:gs pos="100000">
                  <a:srgbClr val="8aa4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1d5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1d51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06" name="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7be3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1d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009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4c4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BAEE-E736-43F5-9BCB-E511EF714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51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09120" y="350496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c41"/>
                </a:solidFill>
                <a:latin typeface="Verdana"/>
              </a:rPr>
              <a:t>Add your company slog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25909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1d518d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1d518d"/>
                  </a:gs>
                </a:gsLst>
                <a:lin ang="5400000"/>
              </a:gradFill>
              <a:effectLst>
                <a:outerShdw dist="71785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8840" y="1441080"/>
            <a:ext cx="782460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1d518d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1d518d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1d518d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d518d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20" name="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d518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d51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23" name="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26" name="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d518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d51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32" name="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33" name="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139" name="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145" name="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146" name="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152" name="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481560" y="1641600"/>
            <a:ext cx="1123920" cy="942840"/>
            <a:chOff x="3481560" y="1641600"/>
            <a:chExt cx="1123920" cy="942840"/>
          </a:xfrm>
        </p:grpSpPr>
        <p:sp>
          <p:nvSpPr>
            <p:cNvPr id="159" name=""/>
            <p:cNvSpPr/>
            <p:nvPr/>
          </p:nvSpPr>
          <p:spPr>
            <a:xfrm>
              <a:off x="3481560" y="18986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9080" y="16416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2920" y="19893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892680" y="1820880"/>
              <a:ext cx="30168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3760" y="3962520"/>
            <a:ext cx="7336080" cy="2259000"/>
          </a:xfrm>
          <a:prstGeom prst="rect">
            <a:avLst/>
          </a:prstGeom>
          <a:noFill/>
          <a:ln w="9360">
            <a:solidFill>
              <a:srgbClr val="0099c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46040" y="403848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1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8120" y="3206880"/>
            <a:ext cx="19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Product 3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8160" y="3260880"/>
            <a:ext cx="36720" cy="436320"/>
          </a:xfrm>
          <a:prstGeom prst="rect">
            <a:avLst/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41280" y="4119480"/>
            <a:ext cx="123840" cy="127080"/>
          </a:xfrm>
          <a:prstGeom prst="bevel">
            <a:avLst>
              <a:gd name="adj" fmla="val 12500"/>
            </a:avLst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46040" y="457056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2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41280" y="4651200"/>
            <a:ext cx="123840" cy="127080"/>
          </a:xfrm>
          <a:prstGeom prst="bevel">
            <a:avLst>
              <a:gd name="adj" fmla="val 12500"/>
            </a:avLst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6040" y="511164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3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41280" y="5192640"/>
            <a:ext cx="123840" cy="127080"/>
          </a:xfrm>
          <a:prstGeom prst="bevel">
            <a:avLst>
              <a:gd name="adj" fmla="val 12500"/>
            </a:avLst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53960" y="1247760"/>
            <a:ext cx="19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Product 1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4920" y="1298520"/>
            <a:ext cx="36720" cy="436680"/>
          </a:xfrm>
          <a:prstGeom prst="rect">
            <a:avLst/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99080" y="1641600"/>
            <a:ext cx="1123920" cy="942840"/>
            <a:chOff x="4699080" y="1641600"/>
            <a:chExt cx="1123920" cy="942840"/>
          </a:xfrm>
        </p:grpSpPr>
        <p:sp>
          <p:nvSpPr>
            <p:cNvPr id="175" name=""/>
            <p:cNvSpPr/>
            <p:nvPr/>
          </p:nvSpPr>
          <p:spPr>
            <a:xfrm>
              <a:off x="4699080" y="18986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46600" y="16416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0440" y="19893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110200" y="1820880"/>
              <a:ext cx="30168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481560" y="2448000"/>
            <a:ext cx="1123920" cy="942840"/>
            <a:chOff x="3481560" y="2448000"/>
            <a:chExt cx="1123920" cy="942840"/>
          </a:xfrm>
        </p:grpSpPr>
        <p:sp>
          <p:nvSpPr>
            <p:cNvPr id="180" name=""/>
            <p:cNvSpPr/>
            <p:nvPr/>
          </p:nvSpPr>
          <p:spPr>
            <a:xfrm>
              <a:off x="3481560" y="27050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9080" y="24480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2920" y="27957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92680" y="2627280"/>
              <a:ext cx="30168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699080" y="2448000"/>
            <a:ext cx="1123920" cy="942840"/>
            <a:chOff x="4699080" y="2448000"/>
            <a:chExt cx="1123920" cy="942840"/>
          </a:xfrm>
        </p:grpSpPr>
        <p:sp>
          <p:nvSpPr>
            <p:cNvPr id="185" name=""/>
            <p:cNvSpPr/>
            <p:nvPr/>
          </p:nvSpPr>
          <p:spPr>
            <a:xfrm>
              <a:off x="4699080" y="27050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bfbfb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6600" y="24480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0440" y="27957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10200" y="2627280"/>
              <a:ext cx="30168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10200" y="1219320"/>
            <a:ext cx="19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Product 2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64120" y="1270080"/>
            <a:ext cx="36720" cy="436320"/>
          </a:xfrm>
          <a:prstGeom prst="rect">
            <a:avLst/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39000" y="3206880"/>
            <a:ext cx="19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Product 4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04080" y="3260880"/>
            <a:ext cx="36360" cy="436320"/>
          </a:xfrm>
          <a:prstGeom prst="rect">
            <a:avLst/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46040" y="564372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4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41280" y="5724360"/>
            <a:ext cx="123840" cy="127080"/>
          </a:xfrm>
          <a:prstGeom prst="bevel">
            <a:avLst>
              <a:gd name="adj" fmla="val 12500"/>
            </a:avLst>
          </a:prstGeom>
          <a:solidFill>
            <a:srgbClr val="009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33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2a4c4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36720" y="1884960"/>
            <a:ext cx="3689640" cy="3697200"/>
            <a:chOff x="2736720" y="1884960"/>
            <a:chExt cx="3689640" cy="3697200"/>
          </a:xfrm>
        </p:grpSpPr>
        <p:sp>
          <p:nvSpPr>
            <p:cNvPr id="199" name="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917080" y="2061360"/>
              <a:ext cx="3328560" cy="33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3579"/>
                </a:path>
              </a:pathLst>
            </a:custGeom>
            <a:solidFill>
              <a:srgbClr val="749bd4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2908080" y="2058480"/>
              <a:ext cx="3342240" cy="333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5" y="2"/>
                  </a:moveTo>
                  <a:arcTo wR="10800" hR="10800" stAng="-5465392" swAng="547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5" y="2"/>
                  </a:moveTo>
                  <a:arcTo wR="10800" hR="10800" stAng="-5465392" swAng="5476597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 rot="5400000">
              <a:off x="2904840" y="2072160"/>
              <a:ext cx="3335400" cy="332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3" y="2"/>
                  </a:moveTo>
                  <a:arcTo wR="10800" hR="10800" stAng="-5332190" swAng="5362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3" y="2"/>
                  </a:moveTo>
                  <a:arcTo wR="10800" hR="10800" stAng="-5332190" swAng="5362650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419000">
              <a:off x="2911680" y="2059200"/>
              <a:ext cx="3339720" cy="33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7" y="65"/>
                  </a:moveTo>
                  <a:arcTo wR="10800" hR="10800" stAng="-5021536" swAng="5476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7" y="65"/>
                  </a:moveTo>
                  <a:arcTo wR="10800" hR="10800" stAng="-5021536" swAng="5476435"/>
                </a:path>
              </a:pathLst>
            </a:custGeom>
            <a:solidFill>
              <a:srgbClr val="749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2760000">
              <a:off x="316152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676680" y="2819880"/>
              <a:ext cx="1791000" cy="1841040"/>
              <a:chOff x="3676680" y="2819880"/>
              <a:chExt cx="1791000" cy="18410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6680" y="281988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676680" y="281988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61360" y="285516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3803040" y="4033800"/>
                <a:ext cx="1571760" cy="627120"/>
                <a:chOff x="3803040" y="4033800"/>
                <a:chExt cx="1571760" cy="627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077360" y="4033800"/>
                  <a:ext cx="1297440" cy="590040"/>
                  <a:chOff x="4077360" y="4033800"/>
                  <a:chExt cx="1297440" cy="5900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flipV="1" rot="3964800">
                    <a:off x="4783680" y="38570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flipV="1" rot="4780200">
                    <a:off x="4638240" y="391572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5076000">
                    <a:off x="4548600" y="392760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5608200">
                    <a:off x="4440240" y="39373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3803040" y="4042440"/>
                  <a:ext cx="1296000" cy="618480"/>
                  <a:chOff x="3803040" y="4042440"/>
                  <a:chExt cx="1296000" cy="6184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 rot="5317800">
                    <a:off x="4510440" y="393804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flipV="1" rot="6133800">
                    <a:off x="4353120" y="39355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6429000">
                    <a:off x="4265640" y="391212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6961200">
                    <a:off x="4162680" y="388008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4" name="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49bd4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b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b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49bd4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1d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724120" y="470376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3680" y="326376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82cce4"/>
              </a:gs>
              <a:gs pos="100000">
                <a:srgbClr val="0099c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9e7f4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764320" y="2583000"/>
            <a:ext cx="2458800" cy="2765160"/>
            <a:chOff x="5764320" y="2583000"/>
            <a:chExt cx="2458800" cy="2765160"/>
          </a:xfrm>
        </p:grpSpPr>
        <p:sp>
          <p:nvSpPr>
            <p:cNvPr id="238" name=""/>
            <p:cNvSpPr/>
            <p:nvPr/>
          </p:nvSpPr>
          <p:spPr>
            <a:xfrm rot="5400000">
              <a:off x="5610960" y="2736000"/>
              <a:ext cx="2765160" cy="245880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8520" y="2589120"/>
              <a:ext cx="651960" cy="46800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0800000">
              <a:off x="6638400" y="4878360"/>
              <a:ext cx="497880" cy="46800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23040" y="2585880"/>
            <a:ext cx="2459160" cy="2766600"/>
            <a:chOff x="923040" y="2585880"/>
            <a:chExt cx="2459160" cy="2766600"/>
          </a:xfrm>
        </p:grpSpPr>
        <p:sp>
          <p:nvSpPr>
            <p:cNvPr id="243" name=""/>
            <p:cNvSpPr/>
            <p:nvPr/>
          </p:nvSpPr>
          <p:spPr>
            <a:xfrm flipH="1" rot="16200000">
              <a:off x="770760" y="2737440"/>
              <a:ext cx="2762640" cy="245916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38320" y="2592000"/>
              <a:ext cx="652320" cy="4676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0800000">
              <a:off x="2019240" y="4884840"/>
              <a:ext cx="792000" cy="4676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c41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c41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36576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167652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dddddd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a4c4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258" name="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0e8f4"/>
                </a:gs>
                <a:gs pos="100000">
                  <a:srgbClr val="749b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261" name="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8f3fe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264" name="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8e8f3"/>
                </a:gs>
                <a:gs pos="100000">
                  <a:srgbClr val="0099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0099c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749bd4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1d518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827440" y="2384280"/>
            <a:ext cx="1149120" cy="8337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32320" y="2417400"/>
            <a:ext cx="1217880" cy="7650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533480" y="436716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616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b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99cb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8180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1d518d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535320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0:51:2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14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