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069E-3917-439C-AB89-8D79F9E40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1705-967F-491A-811D-E1FD3A890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D187-584A-4E18-BFF3-3070E042E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B8AB-80B0-42F1-8332-59909E7EA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D909-28F3-434D-8343-57D61F29C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CFDC-BB3B-47E5-967D-D0684FD5E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860F-147A-44D1-95A2-C6DAF46A4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8590-B198-4D8A-B484-53232CEEA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3923-AA58-4AA6-8ED0-645D17DC2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FD50-1C4D-45C3-A980-BF80A6A00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70DE-A1E4-425C-8CA2-2F36EF14E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735D-1296-46A1-B7F5-3BF0F655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" name="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1217520" y="-12600"/>
            <a:ext cx="7931160" cy="688824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cc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577A-60C1-4A5B-B858-2BCF298A3712}" type="slidenum">
              <a:rPr b="1" lang="en-US" sz="1400" spc="-1" strike="noStrike">
                <a:solidFill>
                  <a:srgbClr val="00cc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240" y="1589040"/>
            <a:ext cx="91519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1174680"/>
            <a:ext cx="915336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17640"/>
            <a:ext cx="9158400" cy="20480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6" name="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cc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紧急手术幻灯片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4000" y="566064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0" name="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575783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1" name="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2" name="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83af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3" name="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af57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006000" y="1474920"/>
            <a:ext cx="4678560" cy="46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4" y="2059"/>
                </a:moveTo>
                <a:arcTo wR="10800" hR="10800" stAng="-3241733" swAng="4321594"/>
                <a:lnTo>
                  <a:pt x="10800" y="10800"/>
                </a:lnTo>
                <a:close/>
              </a:path>
              <a:path fill="none" w="21600" h="21600">
                <a:moveTo>
                  <a:pt x="17144" y="2059"/>
                </a:moveTo>
                <a:arcTo wR="10800" hR="10800" stAng="-3241733" swAng="4321594"/>
              </a:path>
            </a:pathLst>
          </a:custGeom>
          <a:gradFill rotWithShape="0">
            <a:gsLst>
              <a:gs pos="0">
                <a:srgbClr val="00090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7" name=""/>
          <p:cNvSpPr/>
          <p:nvPr/>
        </p:nvSpPr>
        <p:spPr>
          <a:xfrm>
            <a:off x="2777040" y="1360440"/>
            <a:ext cx="468000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54" y="2061"/>
                </a:moveTo>
                <a:arcTo wR="10800" hR="10800" stAng="-7559284" swAng="4316764"/>
                <a:lnTo>
                  <a:pt x="10800" y="10800"/>
                </a:lnTo>
                <a:close/>
              </a:path>
              <a:path fill="none" w="21600" h="21600">
                <a:moveTo>
                  <a:pt x="4454" y="2061"/>
                </a:moveTo>
                <a:arcTo wR="10800" hR="10800" stAng="-7559284" swAng="4316764"/>
              </a:path>
            </a:pathLst>
          </a:custGeom>
          <a:gradFill rotWithShape="0">
            <a:gsLst>
              <a:gs pos="0">
                <a:srgbClr val="0c060f"/>
              </a:gs>
              <a:gs pos="100000">
                <a:srgbClr val="cc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510200"/>
            <a:ext cx="4682520" cy="46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7" y="14134"/>
                </a:moveTo>
                <a:arcTo wR="10800" hR="10800" stAng="9721189" swAng="4317465"/>
                <a:lnTo>
                  <a:pt x="10800" y="10800"/>
                </a:lnTo>
                <a:close/>
              </a:path>
              <a:path fill="none" w="21600" h="21600">
                <a:moveTo>
                  <a:pt x="527" y="14134"/>
                </a:moveTo>
                <a:arcTo wR="10800" hR="10800" stAng="9721189" swAng="4317465"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2643840" y="1687680"/>
            <a:ext cx="468468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31" swAng="4321432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31" swAng="4321432"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0606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2912040" y="1687680"/>
            <a:ext cx="468216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74" y="14130"/>
                </a:moveTo>
                <a:arcTo wR="10800" hR="10800" stAng="1077384" swAng="4322616"/>
                <a:lnTo>
                  <a:pt x="10800" y="10800"/>
                </a:lnTo>
                <a:close/>
              </a:path>
              <a:path fill="none" w="21600" h="21600">
                <a:moveTo>
                  <a:pt x="21074" y="14130"/>
                </a:moveTo>
                <a:arcTo wR="10800" hR="10800" stAng="1077384" swAng="4322616"/>
              </a:path>
            </a:pathLst>
          </a:custGeom>
          <a:gradFill rotWithShape="0">
            <a:gsLst>
              <a:gs pos="0">
                <a:srgbClr val="0a0f05"/>
              </a:gs>
              <a:gs pos="100000">
                <a:srgbClr val="a3f25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2" name="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3" name="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4" name="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5" name="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6" name="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77" name="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99cc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0" name="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25f"/>
              </a:gs>
              <a:gs pos="100000">
                <a:srgbClr val="91d854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1" name="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2" name="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3" name="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575783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4" name="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b6da"/>
              </a:gs>
              <a:gs pos="100000">
                <a:srgbClr val="0099c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5" name="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93fe"/>
              </a:gs>
              <a:gs pos="100000">
                <a:srgbClr val="cc66ff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6" name="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4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7" name="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8" name="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2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89" name="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2" name="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a3f25f"/>
          </a:solidFill>
          <a:ln w="12600">
            <a:solidFill>
              <a:srgbClr val="a3f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4" name="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5" name="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6" name="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cc66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7" name="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a3f25f"/>
          </a:solidFill>
          <a:ln w="12600">
            <a:solidFill>
              <a:srgbClr val="a3f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8" name="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99" name="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0" name="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1" name="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cc66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2" name="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3" name="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2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95D2-85AE-498E-A145-173EB1C6E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66699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153753" dir="2700000" blurRad="0" rotWithShape="0">
                  <a:srgbClr val="6666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14c"/>
              </a:gs>
              <a:gs pos="50000">
                <a:srgbClr val="878fa5"/>
              </a:gs>
              <a:gs pos="100000">
                <a:srgbClr val="3e414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7" name="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 may want to allocate one slide per competitor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r strengths relative to competitors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Your weaknesses relative to competitor</a:t>
            </a:r>
            <a:endParaRPr b="0" lang="en-US" sz="24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</a:rPr>
              <a:t>[Image information in product]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You may not extract the image for any other use.</a:t>
            </a:r>
            <a:endParaRPr b="0" lang="en-US" sz="14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1d1d1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5" name="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00cc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0c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11"/>
            </a:avLst>
          </a:pr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28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4" name="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666699"/>
              </a:gs>
              <a:gs pos="100000">
                <a:srgbClr val="5151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99cc"/>
              </a:gs>
              <a:gs pos="100000">
                <a:srgbClr val="0083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f7ae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842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3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60760" y="514836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5" name=""/>
          <p:cNvSpPr/>
          <p:nvPr/>
        </p:nvSpPr>
        <p:spPr>
          <a:xfrm>
            <a:off x="4460760" y="242244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6" name=""/>
          <p:cNvSpPr/>
          <p:nvPr/>
        </p:nvSpPr>
        <p:spPr>
          <a:xfrm>
            <a:off x="4460760" y="377352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793200" y="2130840"/>
            <a:ext cx="1023840" cy="3318120"/>
          </a:xfrm>
          <a:prstGeom prst="cube">
            <a:avLst>
              <a:gd name="adj" fmla="val 11666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89960" y="3508920"/>
            <a:ext cx="1030320" cy="3318120"/>
          </a:xfrm>
          <a:prstGeom prst="cube">
            <a:avLst>
              <a:gd name="adj" fmla="val 11666"/>
            </a:avLst>
          </a:prstGeom>
          <a:solidFill>
            <a:srgbClr val="a3f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66ff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666699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905400" y="3097800"/>
            <a:ext cx="3095640" cy="1741680"/>
          </a:xfrm>
          <a:prstGeom prst="cube">
            <a:avLst>
              <a:gd name="adj" fmla="val 1166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741760" y="3098160"/>
            <a:ext cx="3095640" cy="1741320"/>
          </a:xfrm>
          <a:prstGeom prst="cube">
            <a:avLst>
              <a:gd name="adj" fmla="val 1166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3" name="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6" name="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7" name="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8" name="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db1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1" name="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7a9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1a1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  <p:sp>
        <p:nvSpPr>
          <p:cNvPr id="153" name="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0087a9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666699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2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