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12F-C2DB-4D79-88F5-98EA0F3E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45424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1A06-4E27-47B3-A0A4-5CCD3EDC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107-BFFB-439F-A4DB-1D280006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7CE-1725-4FC1-8DDE-05AD0276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B7C2-1CF2-4C75-B644-1716F697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3292-ACED-4490-B542-7CEF74C8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27CA-AE88-4920-AA26-CB5B7E1E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88D3-8F31-49DE-BF28-5681295D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B7E3-7B08-44C6-AF49-CD6CA870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5D88-1381-407E-9AB1-A802513C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A62E-F571-4F54-9651-3B059483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7B9-E615-4D84-9CE3-F3D5CC9E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FA72-C647-4F29-8BB7-CDE9ADA4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A0A7-4B86-4AB1-A943-11D13A70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45424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FFA6-8757-46BD-924E-20DDBEC4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1A40-AAF9-4A26-9DBF-600F7809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B515-1F00-4F08-B186-EE652661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B95-9B02-40EA-A38D-A194F890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1CF-75A1-440B-A4A9-65231123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BC5F-81B0-4B49-8195-D6ED55E1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D95F-6EC4-465E-8654-ABA812DE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B2AA-A128-4AB3-B849-E7B92713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A311-D7C2-4579-942A-0A121871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171-592A-4B31-BACF-3E80619A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Franklin Gothic Medium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8512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5B34-B498-4019-A511-2A7B4F069938}" type="slidenum">
              <a:rPr b="1" lang="en-US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07BB-8824-4D32-81D2-137CB6BA66F9}" type="slidenum">
              <a:rPr b="0" lang="en-US" sz="1000" spc="-1" strike="noStrike">
                <a:solidFill>
                  <a:srgbClr val="80808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808080"/>
              </a:buClr>
              <a:buSzPct val="200000"/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Franklin Gothic Medium"/>
              </a:rPr>
              <a:t>Melancholy Abstract</a:t>
            </a: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Your Subtitle Goes Here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64560" y="4572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简洁唯美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Franklin Gothic Medium"/>
              </a:rPr>
              <a:t>Your Topic Goes Here</a:t>
            </a: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52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Your subtopic goes here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Franklin Gothic Medium"/>
              </a:rPr>
              <a:t>Transitional Page</a:t>
            </a:r>
            <a:endParaRPr b="1" lang="en-US" sz="40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Franklin Gothic Medium"/>
              </a:rPr>
              <a:t>Your Topic Goes Here</a:t>
            </a: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52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Your subtopic goes here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99"/>
                </a:solidFill>
                <a:latin typeface="Franklin Gothic Medium"/>
              </a:rPr>
              <a:t>使用规范说明</a:t>
            </a: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0B0-0717-4E49-B206-8550BCD61944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Medium"/>
              </a:rPr>
              <a:t>Elements</a:t>
            </a:r>
            <a:endParaRPr b="1" lang="en-US" sz="4000" spc="-1" strike="noStrike">
              <a:solidFill>
                <a:srgbClr val="336699"/>
              </a:solidFill>
              <a:latin typeface="Franklin Gothic Medium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395440" y="5105520"/>
            <a:ext cx="2109960" cy="1582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38600" y="5105520"/>
            <a:ext cx="2109960" cy="1582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80320" y="5105520"/>
            <a:ext cx="2111400" cy="1582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52280" y="5105520"/>
            <a:ext cx="2111400" cy="1582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05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