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9098-79D7-4052-9F54-D489AD372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62355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4760" y="5873760"/>
            <a:ext cx="62355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3B31-9717-477B-91D8-E7F5A79CA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04760" y="587376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0120" y="587376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93C3-B324-4877-B3A5-004EB5D4F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3280" y="571464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1800" y="571464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04760" y="587376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13280" y="587376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1800" y="587376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3AFF-3E20-4B20-9EE3-14F6583D7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E430C-6766-4366-AFC5-A135C695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623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52103-6A1A-4A46-8DE4-BCCF4C51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6235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E9A3B-C6F0-4F84-9C2D-3531FB3B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5D955-A79E-489C-9BAB-A03F8915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BF585-53B6-4A59-9465-873F7FB0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905120" y="5105520"/>
            <a:ext cx="624816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1E614-DCAD-40A7-8864-A3B36280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4760" y="587376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78B10-F713-4BFA-8BDF-29507821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623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E6D9-C9B6-4AA4-817E-A92E55DC5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00120" y="587376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5D884-D6E5-491E-B154-1B843C7A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5873760"/>
            <a:ext cx="62355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8FDE0-CF23-499A-B844-FEC3EB46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62355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04760" y="5873760"/>
            <a:ext cx="62355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0BC75-A8D3-455A-B92A-932BC3FC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04760" y="587376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00120" y="587376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67228-80FA-4707-89AB-6A4EC0D5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3280" y="571464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1800" y="571464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04760" y="587376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013280" y="587376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1800" y="5873760"/>
            <a:ext cx="2007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97387-BF52-4A4F-B38C-7DAE68A0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6235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3FDB-7D00-49CF-A6C0-54D4245D5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803B-6D8A-4474-9CCF-23DBA3307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9732-7CAA-48B0-A452-7D986E17B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5120" y="5105520"/>
            <a:ext cx="624816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5407-F4BE-4775-A57F-9E3BB2FE6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04760" y="587376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1077-6EDA-4504-8C17-AFD3861BB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0120" y="587376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54ED-86E5-449F-B738-450C6CEBC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0120" y="5714640"/>
            <a:ext cx="30427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04760" y="5873760"/>
            <a:ext cx="62355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7FC8-8BC4-4096-8925-704EFB21F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3124080" cy="305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12408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5715000" y="6229440"/>
            <a:ext cx="3009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690B-7326-48A7-88C3-76B60280B9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533520" y="1447560"/>
            <a:ext cx="8076960" cy="471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7d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b7d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013600" y="444600"/>
            <a:ext cx="749520" cy="9270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905120" y="838080"/>
            <a:ext cx="61484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0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E11-5F01-408B-9145-A6320E72E9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4572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752480" y="5640120"/>
            <a:ext cx="6834240" cy="111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025640" y="5300640"/>
            <a:ext cx="749160" cy="92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51811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meGaller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Templa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48006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4846680"/>
            <a:ext cx="75960" cy="228600"/>
          </a:xfrm>
          <a:prstGeom prst="rect">
            <a:avLst/>
          </a:prstGeom>
          <a:solidFill>
            <a:srgbClr val="653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623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987200" y="1143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健康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12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5132"/>
                </a:gs>
                <a:gs pos="50000">
                  <a:srgbClr val="4cb06d"/>
                </a:gs>
                <a:gs pos="100000">
                  <a:srgbClr val="2351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4cb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5635"/>
                </a:gs>
                <a:gs pos="50000">
                  <a:srgbClr val="bbbb75"/>
                </a:gs>
                <a:gs pos="100000">
                  <a:srgbClr val="5656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bbb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4a4c"/>
                </a:gs>
                <a:gs pos="50000">
                  <a:srgbClr val="6ea1a6"/>
                </a:gs>
                <a:gs pos="100000">
                  <a:srgbClr val="324a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33963"/>
                </a:gs>
                <a:gs pos="50000">
                  <a:srgbClr val="2b7dd7"/>
                </a:gs>
                <a:gs pos="100000">
                  <a:srgbClr val="1339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2b7d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367f4e"/>
                </a:gs>
                <a:gs pos="50000">
                  <a:srgbClr val="4cb06d"/>
                </a:gs>
                <a:gs pos="100000">
                  <a:srgbClr val="367f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878754"/>
                </a:gs>
                <a:gs pos="50000">
                  <a:srgbClr val="bbbb75"/>
                </a:gs>
                <a:gs pos="100000">
                  <a:srgbClr val="8787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e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f7477"/>
                </a:gs>
                <a:gs pos="50000">
                  <a:srgbClr val="6ea1a6"/>
                </a:gs>
                <a:gs pos="100000">
                  <a:srgbClr val="4f74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f5a9b"/>
                </a:gs>
                <a:gs pos="50000">
                  <a:srgbClr val="2b7dd7"/>
                </a:gs>
                <a:gs pos="100000">
                  <a:srgbClr val="1f5a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327" name="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bbb75"/>
                </a:gs>
                <a:gs pos="100000">
                  <a:srgbClr val="c0c080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cb0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5132"/>
                </a:gs>
                <a:gs pos="50000">
                  <a:srgbClr val="4cb06d"/>
                </a:gs>
                <a:gs pos="100000">
                  <a:srgbClr val="2351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bbbb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65635"/>
                </a:gs>
                <a:gs pos="50000">
                  <a:srgbClr val="bbbb75"/>
                </a:gs>
                <a:gs pos="100000">
                  <a:srgbClr val="5656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ea1a6"/>
                </a:gs>
                <a:gs pos="100000">
                  <a:srgbClr val="aac8c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340" name="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ea1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3e40"/>
                  </a:gs>
                  <a:gs pos="50000">
                    <a:srgbClr val="6ea1a6"/>
                  </a:gs>
                  <a:gs pos="100000">
                    <a:srgbClr val="2a3e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28640" y="2057400"/>
            <a:ext cx="7639560" cy="4191120"/>
            <a:chOff x="728640" y="2057400"/>
            <a:chExt cx="7639560" cy="4191120"/>
          </a:xfrm>
        </p:grpSpPr>
        <p:sp>
          <p:nvSpPr>
            <p:cNvPr id="350" name=""/>
            <p:cNvSpPr/>
            <p:nvPr/>
          </p:nvSpPr>
          <p:spPr>
            <a:xfrm>
              <a:off x="2247840" y="5761080"/>
              <a:ext cx="4519800" cy="487440"/>
            </a:xfrm>
            <a:prstGeom prst="roundRect">
              <a:avLst>
                <a:gd name="adj" fmla="val 0"/>
              </a:avLst>
            </a:prstGeom>
            <a:solidFill>
              <a:srgbClr val="2b7d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cxnSp>
          <p:nvCxnSpPr>
            <p:cNvPr id="351" name=""/>
            <p:cNvCxnSpPr>
              <a:endCxn id="350" idx="1"/>
            </p:cNvCxnSpPr>
            <p:nvPr/>
          </p:nvCxnSpPr>
          <p:spPr>
            <a:xfrm flipH="1" flipV="1" rot="10800000">
              <a:off x="930600" y="4774680"/>
              <a:ext cx="1316160" cy="1231200"/>
            </a:xfrm>
            <a:prstGeom prst="bentConnector3">
              <a:avLst>
                <a:gd name="adj1" fmla="val -15376"/>
              </a:avLst>
            </a:prstGeom>
            <a:ln cap="rnd" w="28440">
              <a:solidFill>
                <a:srgbClr val="4d4d4d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352" name=""/>
            <p:cNvCxnSpPr>
              <a:endCxn id="350" idx="3"/>
            </p:cNvCxnSpPr>
            <p:nvPr/>
          </p:nvCxnSpPr>
          <p:spPr>
            <a:xfrm flipH="1">
              <a:off x="6766920" y="4775040"/>
              <a:ext cx="1399320" cy="1231200"/>
            </a:xfrm>
            <a:prstGeom prst="bentConnector3">
              <a:avLst>
                <a:gd name="adj1" fmla="val -14462"/>
              </a:avLst>
            </a:prstGeom>
            <a:ln cap="rnd" w="28440">
              <a:solidFill>
                <a:srgbClr val="4d4d4d"/>
              </a:solidFill>
              <a:custDash>
                <a:ds d="100000" sp="1000"/>
              </a:custDash>
              <a:miter/>
            </a:ln>
          </p:spPr>
        </p:cxnSp>
        <p:sp>
          <p:nvSpPr>
            <p:cNvPr id="353" name=""/>
            <p:cNvSpPr/>
            <p:nvPr/>
          </p:nvSpPr>
          <p:spPr>
            <a:xfrm>
              <a:off x="2873520" y="5832360"/>
              <a:ext cx="33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32040" y="4151160"/>
              <a:ext cx="1747800" cy="1249560"/>
            </a:xfrm>
            <a:prstGeom prst="can">
              <a:avLst>
                <a:gd name="adj" fmla="val 32083"/>
              </a:avLst>
            </a:prstGeom>
            <a:gradFill rotWithShape="0">
              <a:gsLst>
                <a:gs pos="0">
                  <a:srgbClr val="c0cdb3"/>
                </a:gs>
                <a:gs pos="50000">
                  <a:srgbClr val="fefefe"/>
                </a:gs>
                <a:gs pos="100000">
                  <a:srgbClr val="c0cdb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32040" y="4173480"/>
              <a:ext cx="1747800" cy="37620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2400" y="4178160"/>
              <a:ext cx="1550880" cy="36684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33560" y="2057400"/>
              <a:ext cx="1527120" cy="2303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68400" y="2754360"/>
              <a:ext cx="1622520" cy="14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product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busines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technology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content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9280" y="4151160"/>
              <a:ext cx="1758960" cy="1249560"/>
            </a:xfrm>
            <a:prstGeom prst="can">
              <a:avLst>
                <a:gd name="adj" fmla="val 32083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2789280" y="4173480"/>
              <a:ext cx="1758960" cy="376200"/>
              <a:chOff x="2789280" y="4173480"/>
              <a:chExt cx="1758960" cy="376200"/>
            </a:xfrm>
          </p:grpSpPr>
          <p:sp>
            <p:nvSpPr>
              <p:cNvPr id="361" name=""/>
              <p:cNvSpPr/>
              <p:nvPr/>
            </p:nvSpPr>
            <p:spPr>
              <a:xfrm>
                <a:off x="2789280" y="4173480"/>
                <a:ext cx="1758960" cy="37620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85760" y="4177440"/>
                <a:ext cx="1559520" cy="368280"/>
              </a:xfrm>
              <a:prstGeom prst="ellipse">
                <a:avLst/>
              </a:prstGeom>
              <a:solidFill>
                <a:srgbClr val="c9de9a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2892600" y="2057400"/>
              <a:ext cx="1535040" cy="2303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9de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01960" y="2754360"/>
              <a:ext cx="1593720" cy="14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product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busines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technology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content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59480" y="4151160"/>
              <a:ext cx="1728720" cy="1249560"/>
            </a:xfrm>
            <a:prstGeom prst="can">
              <a:avLst>
                <a:gd name="adj" fmla="val 32083"/>
              </a:avLst>
            </a:prstGeom>
            <a:gradFill rotWithShape="0">
              <a:gsLst>
                <a:gs pos="0">
                  <a:srgbClr val="c0cdb3"/>
                </a:gs>
                <a:gs pos="50000">
                  <a:srgbClr val="fefefe"/>
                </a:gs>
                <a:gs pos="100000">
                  <a:srgbClr val="c0cdb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59480" y="4173480"/>
              <a:ext cx="1728720" cy="37620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4749840" y="2057400"/>
              <a:ext cx="1535040" cy="2487240"/>
              <a:chOff x="4749840" y="2057400"/>
              <a:chExt cx="1535040" cy="2487240"/>
            </a:xfrm>
          </p:grpSpPr>
          <p:sp>
            <p:nvSpPr>
              <p:cNvPr id="368" name=""/>
              <p:cNvSpPr/>
              <p:nvPr/>
            </p:nvSpPr>
            <p:spPr>
              <a:xfrm>
                <a:off x="4749840" y="4176720"/>
                <a:ext cx="1535040" cy="367920"/>
              </a:xfrm>
              <a:prstGeom prst="ellipse">
                <a:avLst/>
              </a:prstGeom>
              <a:solidFill>
                <a:srgbClr val="e1c797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920" y="2057400"/>
                <a:ext cx="1511280" cy="230220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e1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4768920" y="2754360"/>
              <a:ext cx="1555560" cy="14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product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busines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technology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content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86480" y="4151160"/>
              <a:ext cx="1712880" cy="1249560"/>
            </a:xfrm>
            <a:prstGeom prst="can">
              <a:avLst>
                <a:gd name="adj" fmla="val 32083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486480" y="4173480"/>
              <a:ext cx="1712880" cy="376200"/>
              <a:chOff x="6486480" y="4173480"/>
              <a:chExt cx="1712880" cy="376200"/>
            </a:xfrm>
          </p:grpSpPr>
          <p:sp>
            <p:nvSpPr>
              <p:cNvPr id="373" name=""/>
              <p:cNvSpPr/>
              <p:nvPr/>
            </p:nvSpPr>
            <p:spPr>
              <a:xfrm>
                <a:off x="6486480" y="4173480"/>
                <a:ext cx="1712880" cy="37620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80440" y="4177440"/>
                <a:ext cx="1518840" cy="368280"/>
              </a:xfrm>
              <a:prstGeom prst="ellipse">
                <a:avLst/>
              </a:prstGeom>
              <a:solidFill>
                <a:srgbClr val="c9de9a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588000" y="2057400"/>
              <a:ext cx="1495440" cy="2303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9de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97720" y="2754360"/>
              <a:ext cx="1631880" cy="14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product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busines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technology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marL="115920" indent="-115920">
                <a:lnSpc>
                  <a:spcPct val="80000"/>
                </a:lnSpc>
                <a:buClr>
                  <a:srgbClr val="1c1c1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Arial"/>
                </a:rPr>
                <a:t>Description of the company’s content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14400" y="4695840"/>
              <a:ext cx="174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buClr>
                  <a:srgbClr val="3333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Description of the contents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86040" y="4668840"/>
              <a:ext cx="175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buClr>
                  <a:srgbClr val="3333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Description of the contents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37160" y="4641840"/>
              <a:ext cx="172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buClr>
                  <a:srgbClr val="3333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Description of the contents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7000" y="4616280"/>
              <a:ext cx="171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buClr>
                  <a:srgbClr val="3333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Description of the contents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b7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bbb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bbb7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bbb7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64643f"/>
              </a:gs>
              <a:gs pos="50000">
                <a:srgbClr val="bbbb75"/>
              </a:gs>
              <a:gs pos="100000">
                <a:srgbClr val="6464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bbbb75">
                  <a:alpha val="0"/>
                </a:srgbClr>
              </a:gs>
              <a:gs pos="100000">
                <a:srgbClr val="76764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ea1a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ea1a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b5659"/>
              </a:gs>
              <a:gs pos="50000">
                <a:srgbClr val="6ea1a6"/>
              </a:gs>
              <a:gs pos="100000">
                <a:srgbClr val="3b565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ea1a6">
                  <a:alpha val="0"/>
                </a:srgbClr>
              </a:gs>
              <a:gs pos="100000">
                <a:srgbClr val="45656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98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b7dd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33963"/>
              </a:gs>
              <a:gs pos="100000">
                <a:srgbClr val="2b7dd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74373"/>
              </a:gs>
              <a:gs pos="50000">
                <a:srgbClr val="2b7dd7"/>
              </a:gs>
              <a:gs pos="100000">
                <a:srgbClr val="1743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b7dd7">
                  <a:alpha val="0"/>
                </a:srgbClr>
              </a:gs>
              <a:gs pos="100000">
                <a:srgbClr val="1b4f8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408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413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1371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bbb7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505320" y="4257720"/>
            <a:ext cx="1841040" cy="1837800"/>
            <a:chOff x="3505320" y="4257720"/>
            <a:chExt cx="1841040" cy="1837800"/>
          </a:xfrm>
        </p:grpSpPr>
        <p:sp>
          <p:nvSpPr>
            <p:cNvPr id="423" name=""/>
            <p:cNvSpPr/>
            <p:nvPr/>
          </p:nvSpPr>
          <p:spPr>
            <a:xfrm>
              <a:off x="3505320" y="4257720"/>
              <a:ext cx="1841040" cy="1837800"/>
            </a:xfrm>
            <a:prstGeom prst="diamond">
              <a:avLst/>
            </a:prstGeom>
            <a:solidFill>
              <a:srgbClr val="9264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85560" y="4295520"/>
              <a:ext cx="880560" cy="453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fe8dc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991320" y="5608440"/>
              <a:ext cx="854640" cy="430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32e03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495600" y="2328840"/>
            <a:ext cx="1843200" cy="1843200"/>
            <a:chOff x="3495600" y="2328840"/>
            <a:chExt cx="1843200" cy="1843200"/>
          </a:xfrm>
        </p:grpSpPr>
        <p:sp>
          <p:nvSpPr>
            <p:cNvPr id="427" name=""/>
            <p:cNvSpPr/>
            <p:nvPr/>
          </p:nvSpPr>
          <p:spPr>
            <a:xfrm>
              <a:off x="3495600" y="2328840"/>
              <a:ext cx="1843200" cy="184320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87720" y="236520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981240" y="3683880"/>
              <a:ext cx="85752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34331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3735360" y="2762280"/>
            <a:ext cx="136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260960" y="3413160"/>
            <a:ext cx="567720" cy="453960"/>
            <a:chOff x="4260960" y="3413160"/>
            <a:chExt cx="567720" cy="453960"/>
          </a:xfrm>
        </p:grpSpPr>
        <p:sp>
          <p:nvSpPr>
            <p:cNvPr id="432" name=""/>
            <p:cNvSpPr/>
            <p:nvPr/>
          </p:nvSpPr>
          <p:spPr>
            <a:xfrm>
              <a:off x="4672440" y="3413160"/>
              <a:ext cx="156240" cy="15732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81920" y="3501720"/>
              <a:ext cx="367560" cy="30672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81920" y="3413160"/>
              <a:ext cx="306720" cy="31896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42400" y="3554280"/>
              <a:ext cx="378000" cy="25416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89040" y="3639240"/>
              <a:ext cx="216720" cy="2196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60960" y="3822840"/>
              <a:ext cx="52200" cy="4428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4d4d4d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299840" y="3727800"/>
              <a:ext cx="88560" cy="96840"/>
            </a:xfrm>
            <a:prstGeom prst="line">
              <a:avLst/>
            </a:prstGeom>
            <a:ln w="9360">
              <a:solidFill>
                <a:srgbClr val="ffffff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312080" y="3804480"/>
              <a:ext cx="134280" cy="45720"/>
            </a:xfrm>
            <a:prstGeom prst="line">
              <a:avLst/>
            </a:prstGeom>
            <a:ln w="9360">
              <a:solidFill>
                <a:srgbClr val="ffffff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507200">
              <a:off x="4729320" y="3465360"/>
              <a:ext cx="57600" cy="3600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4d4d4d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525760" y="3294000"/>
            <a:ext cx="1843200" cy="1843200"/>
            <a:chOff x="2525760" y="3294000"/>
            <a:chExt cx="1843200" cy="1843200"/>
          </a:xfrm>
        </p:grpSpPr>
        <p:sp>
          <p:nvSpPr>
            <p:cNvPr id="442" name=""/>
            <p:cNvSpPr/>
            <p:nvPr/>
          </p:nvSpPr>
          <p:spPr>
            <a:xfrm>
              <a:off x="2525760" y="3294000"/>
              <a:ext cx="1843200" cy="184320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17880" y="333036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ce6ef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011400" y="4649040"/>
              <a:ext cx="85752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32443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84520" y="3327480"/>
            <a:ext cx="1828440" cy="1799640"/>
            <a:chOff x="4484520" y="3327480"/>
            <a:chExt cx="1828440" cy="1799640"/>
          </a:xfrm>
        </p:grpSpPr>
        <p:sp>
          <p:nvSpPr>
            <p:cNvPr id="446" name=""/>
            <p:cNvSpPr/>
            <p:nvPr/>
          </p:nvSpPr>
          <p:spPr>
            <a:xfrm>
              <a:off x="4484520" y="3327480"/>
              <a:ext cx="1828440" cy="179964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61520" y="3364560"/>
              <a:ext cx="874440" cy="444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ad1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967280" y="4650840"/>
              <a:ext cx="848880" cy="421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94303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860560" y="376380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78280" y="37321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81520" y="510372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219480" y="4451400"/>
            <a:ext cx="393840" cy="396720"/>
            <a:chOff x="3219480" y="4451400"/>
            <a:chExt cx="393840" cy="396720"/>
          </a:xfrm>
        </p:grpSpPr>
        <p:sp>
          <p:nvSpPr>
            <p:cNvPr id="453" name=""/>
            <p:cNvSpPr/>
            <p:nvPr/>
          </p:nvSpPr>
          <p:spPr>
            <a:xfrm>
              <a:off x="3219480" y="445140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17840" y="4451400"/>
              <a:ext cx="0" cy="391320"/>
            </a:xfrm>
            <a:prstGeom prst="line">
              <a:avLst/>
            </a:prstGeom>
            <a:ln w="190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9480" y="4646880"/>
              <a:ext cx="393840" cy="0"/>
            </a:xfrm>
            <a:prstGeom prst="line">
              <a:avLst/>
            </a:prstGeom>
            <a:ln w="190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44120" y="4453920"/>
              <a:ext cx="81720" cy="3888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10560" y="4456800"/>
              <a:ext cx="88560" cy="391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3383640" y="461304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16200000">
              <a:off x="3386880" y="438804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097600" y="4414680"/>
            <a:ext cx="603000" cy="384480"/>
            <a:chOff x="5097600" y="4414680"/>
            <a:chExt cx="603000" cy="384480"/>
          </a:xfrm>
        </p:grpSpPr>
        <p:grpSp>
          <p:nvGrpSpPr>
            <p:cNvPr id="461" name=""/>
            <p:cNvGrpSpPr/>
            <p:nvPr/>
          </p:nvGrpSpPr>
          <p:grpSpPr>
            <a:xfrm>
              <a:off x="5097600" y="4414680"/>
              <a:ext cx="603000" cy="384480"/>
              <a:chOff x="5097600" y="4414680"/>
              <a:chExt cx="603000" cy="384480"/>
            </a:xfrm>
          </p:grpSpPr>
          <p:sp>
            <p:nvSpPr>
              <p:cNvPr id="462" name=""/>
              <p:cNvSpPr/>
              <p:nvPr/>
            </p:nvSpPr>
            <p:spPr>
              <a:xfrm>
                <a:off x="5097600" y="4414680"/>
                <a:ext cx="603000" cy="38448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4d4d4d">
                  <a:alpha val="24000"/>
                </a:srgbClr>
              </a:solidFill>
              <a:ln w="19080">
                <a:solidFill>
                  <a:srgbClr val="ffffff">
                    <a:alpha val="3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426640" y="4577040"/>
                <a:ext cx="263880" cy="21060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23160" y="4545000"/>
                <a:ext cx="310320" cy="168840"/>
              </a:xfrm>
              <a:prstGeom prst="line">
                <a:avLst/>
              </a:prstGeom>
              <a:ln w="1908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520960" y="470052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4d4d">
                <a:alpha val="24000"/>
              </a:srgbClr>
            </a:solidFill>
            <a:ln w="19080">
              <a:solidFill>
                <a:srgbClr val="4d4d4d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222800" y="4654440"/>
            <a:ext cx="358560" cy="390600"/>
            <a:chOff x="4222800" y="4654440"/>
            <a:chExt cx="358560" cy="390600"/>
          </a:xfrm>
        </p:grpSpPr>
        <p:sp>
          <p:nvSpPr>
            <p:cNvPr id="467" name=""/>
            <p:cNvSpPr/>
            <p:nvPr/>
          </p:nvSpPr>
          <p:spPr>
            <a:xfrm>
              <a:off x="4365360" y="465444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77160" y="480924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33400" y="474840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01640" y="500328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19280" y="4888800"/>
              <a:ext cx="0" cy="11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349880" y="4791600"/>
              <a:ext cx="92880" cy="2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4408560" y="4701240"/>
              <a:ext cx="36360" cy="4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37800" y="470736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77320" y="4868640"/>
              <a:ext cx="49680" cy="478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76960" y="4807440"/>
              <a:ext cx="15120" cy="7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495320" y="4726440"/>
              <a:ext cx="46080" cy="4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22800" y="474516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8000" y="4782240"/>
              <a:ext cx="367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422240" y="4902480"/>
              <a:ext cx="67320" cy="1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92360" y="490428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16560" y="4910760"/>
              <a:ext cx="1512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23400" y="49338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57200" y="52801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73760" y="535608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6320" y="3328920"/>
            <a:ext cx="1733400" cy="1730160"/>
            <a:chOff x="706320" y="3328920"/>
            <a:chExt cx="1733400" cy="1730160"/>
          </a:xfrm>
        </p:grpSpPr>
        <p:sp>
          <p:nvSpPr>
            <p:cNvPr id="487" name=""/>
            <p:cNvSpPr/>
            <p:nvPr/>
          </p:nvSpPr>
          <p:spPr>
            <a:xfrm>
              <a:off x="706320" y="3328920"/>
              <a:ext cx="1733400" cy="1730160"/>
            </a:xfrm>
            <a:prstGeom prst="diamond">
              <a:avLst/>
            </a:prstGeom>
            <a:solidFill>
              <a:srgbClr val="3908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58480" y="3364560"/>
              <a:ext cx="829080" cy="42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f9bd2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163880" y="4600440"/>
              <a:ext cx="804600" cy="40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a0343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394320" y="3367080"/>
            <a:ext cx="1739880" cy="1736640"/>
            <a:chOff x="6394320" y="3367080"/>
            <a:chExt cx="1739880" cy="1736640"/>
          </a:xfrm>
        </p:grpSpPr>
        <p:sp>
          <p:nvSpPr>
            <p:cNvPr id="491" name=""/>
            <p:cNvSpPr/>
            <p:nvPr/>
          </p:nvSpPr>
          <p:spPr>
            <a:xfrm>
              <a:off x="6394320" y="336708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a8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720" y="340128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4e4c3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6852600" y="4643640"/>
              <a:ext cx="80928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4303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903240" y="4071960"/>
            <a:ext cx="13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11920" y="3871800"/>
            <a:ext cx="9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363680" y="3643200"/>
            <a:ext cx="412560" cy="320400"/>
            <a:chOff x="1363680" y="3643200"/>
            <a:chExt cx="412560" cy="320400"/>
          </a:xfrm>
        </p:grpSpPr>
        <p:sp>
          <p:nvSpPr>
            <p:cNvPr id="497" name=""/>
            <p:cNvSpPr/>
            <p:nvPr/>
          </p:nvSpPr>
          <p:spPr>
            <a:xfrm flipV="1">
              <a:off x="1672920" y="3643200"/>
              <a:ext cx="0" cy="82080"/>
            </a:xfrm>
            <a:prstGeom prst="line">
              <a:avLst/>
            </a:prstGeom>
            <a:ln w="57240">
              <a:solidFill>
                <a:srgbClr val="4d4d4d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42240" y="387468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81760" y="380232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4d4d4d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24680" y="380232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4d4d4d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63680" y="3656520"/>
              <a:ext cx="412560" cy="307080"/>
            </a:xfrm>
            <a:prstGeom prst="upArrow">
              <a:avLst>
                <a:gd name="adj1" fmla="val 63676"/>
                <a:gd name="adj2" fmla="val 44657"/>
              </a:avLst>
            </a:prstGeom>
            <a:noFill/>
            <a:ln w="2844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7111080" y="4410000"/>
            <a:ext cx="483120" cy="378000"/>
            <a:chOff x="7111080" y="4410000"/>
            <a:chExt cx="483120" cy="378000"/>
          </a:xfrm>
        </p:grpSpPr>
        <p:sp>
          <p:nvSpPr>
            <p:cNvPr id="503" name=""/>
            <p:cNvSpPr/>
            <p:nvPr/>
          </p:nvSpPr>
          <p:spPr>
            <a:xfrm rot="1584000">
              <a:off x="7165440" y="4474080"/>
              <a:ext cx="18252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6480" y="4515120"/>
              <a:ext cx="163800" cy="81000"/>
            </a:xfrm>
            <a:prstGeom prst="line">
              <a:avLst/>
            </a:prstGeom>
            <a:ln w="19080">
              <a:solidFill>
                <a:srgbClr val="4d4d4d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289640" y="4490280"/>
              <a:ext cx="33120" cy="66240"/>
            </a:xfrm>
            <a:prstGeom prst="line">
              <a:avLst/>
            </a:prstGeom>
            <a:ln w="19080">
              <a:solidFill>
                <a:srgbClr val="4d4d4d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20600" y="4410000"/>
              <a:ext cx="27360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4d4d4d">
                  <a:alpha val="5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23880" y="1523880"/>
            <a:ext cx="555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r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43000" y="3403440"/>
            <a:ext cx="3471840" cy="2463840"/>
            <a:chOff x="1143000" y="3403440"/>
            <a:chExt cx="3471840" cy="2463840"/>
          </a:xfrm>
        </p:grpSpPr>
        <p:graphicFrame>
          <p:nvGraphicFramePr>
            <p:cNvPr id="510" name=""/>
            <p:cNvGraphicFramePr/>
            <p:nvPr/>
          </p:nvGraphicFramePr>
          <p:xfrm>
            <a:off x="1143000" y="3403440"/>
            <a:ext cx="3471840" cy="246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3403440"/>
                      <a:ext cx="3471840" cy="246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2" name=""/>
            <p:cNvGrpSpPr/>
            <p:nvPr/>
          </p:nvGrpSpPr>
          <p:grpSpPr>
            <a:xfrm>
              <a:off x="2021040" y="4981320"/>
              <a:ext cx="348840" cy="451080"/>
              <a:chOff x="2021040" y="4981320"/>
              <a:chExt cx="348840" cy="451080"/>
            </a:xfrm>
          </p:grpSpPr>
          <p:sp>
            <p:nvSpPr>
              <p:cNvPr id="513" name=""/>
              <p:cNvSpPr/>
              <p:nvPr/>
            </p:nvSpPr>
            <p:spPr>
              <a:xfrm>
                <a:off x="2160000" y="4981320"/>
                <a:ext cx="57240" cy="6516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73960" y="5159880"/>
                <a:ext cx="81000" cy="9216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226240" y="5089680"/>
                <a:ext cx="60480" cy="6876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097720" y="538416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15000" y="525168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2144880" y="5139720"/>
                <a:ext cx="9036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flipV="1">
                <a:off x="2202480" y="5035320"/>
                <a:ext cx="3528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27760" y="504252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269080" y="5228640"/>
                <a:ext cx="48240" cy="5508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268360" y="5158080"/>
                <a:ext cx="14760" cy="8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2286720" y="5064120"/>
                <a:ext cx="4464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21040" y="508608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45880" y="5128920"/>
                <a:ext cx="3600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2215800" y="5267880"/>
                <a:ext cx="6552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86280" y="526968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307240" y="5277240"/>
                <a:ext cx="1476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314080" y="530388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2522520" y="4856400"/>
              <a:ext cx="194760" cy="573840"/>
              <a:chOff x="2522520" y="4856400"/>
              <a:chExt cx="194760" cy="573840"/>
            </a:xfrm>
          </p:grpSpPr>
          <p:sp>
            <p:nvSpPr>
              <p:cNvPr id="531" name=""/>
              <p:cNvSpPr/>
              <p:nvPr/>
            </p:nvSpPr>
            <p:spPr>
              <a:xfrm rot="21490800">
                <a:off x="2527200" y="5143320"/>
                <a:ext cx="185400" cy="283680"/>
              </a:xfrm>
              <a:custGeom>
                <a:avLst/>
                <a:gdLst/>
                <a:ahLst/>
                <a:rect l="l" t="t" r="r" b="b"/>
                <a:pathLst>
                  <a:path w="768" h="1200">
                    <a:moveTo>
                      <a:pt x="204" y="12"/>
                    </a:moveTo>
                    <a:lnTo>
                      <a:pt x="202" y="1084"/>
                    </a:lnTo>
                    <a:cubicBezTo>
                      <a:pt x="63" y="1127"/>
                      <a:pt x="13" y="1113"/>
                      <a:pt x="0" y="1182"/>
                    </a:cubicBezTo>
                    <a:cubicBezTo>
                      <a:pt x="0" y="1182"/>
                      <a:pt x="198" y="1194"/>
                      <a:pt x="372" y="1194"/>
                    </a:cubicBezTo>
                    <a:cubicBezTo>
                      <a:pt x="576" y="1182"/>
                      <a:pt x="768" y="1200"/>
                      <a:pt x="750" y="1146"/>
                    </a:cubicBezTo>
                    <a:cubicBezTo>
                      <a:pt x="732" y="1092"/>
                      <a:pt x="624" y="1080"/>
                      <a:pt x="517" y="1067"/>
                    </a:cubicBezTo>
                    <a:lnTo>
                      <a:pt x="504" y="0"/>
                    </a:lnTo>
                    <a:lnTo>
                      <a:pt x="204" y="1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1490800">
                <a:off x="2522880" y="5290920"/>
                <a:ext cx="189720" cy="29520"/>
              </a:xfrm>
              <a:custGeom>
                <a:avLst/>
                <a:gdLst/>
                <a:ahLst/>
                <a:rect l="l" t="t" r="r" b="b"/>
                <a:pathLst>
                  <a:path w="787" h="114">
                    <a:moveTo>
                      <a:pt x="262" y="24"/>
                    </a:moveTo>
                    <a:cubicBezTo>
                      <a:pt x="262" y="24"/>
                      <a:pt x="0" y="45"/>
                      <a:pt x="28" y="60"/>
                    </a:cubicBezTo>
                    <a:cubicBezTo>
                      <a:pt x="56" y="75"/>
                      <a:pt x="46" y="114"/>
                      <a:pt x="430" y="114"/>
                    </a:cubicBezTo>
                    <a:cubicBezTo>
                      <a:pt x="555" y="109"/>
                      <a:pt x="769" y="49"/>
                      <a:pt x="778" y="30"/>
                    </a:cubicBezTo>
                    <a:cubicBezTo>
                      <a:pt x="787" y="11"/>
                      <a:pt x="570" y="1"/>
                      <a:pt x="484" y="0"/>
                    </a:cubicBezTo>
                    <a:lnTo>
                      <a:pt x="262" y="24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1490800">
                <a:off x="2566440" y="4993200"/>
                <a:ext cx="88200" cy="314640"/>
              </a:xfrm>
              <a:custGeom>
                <a:avLst/>
                <a:gdLst/>
                <a:ahLst/>
                <a:rect l="l" t="t" r="r" b="b"/>
                <a:pathLst>
                  <a:path w="366" h="1332">
                    <a:moveTo>
                      <a:pt x="102" y="0"/>
                    </a:moveTo>
                    <a:lnTo>
                      <a:pt x="102" y="102"/>
                    </a:lnTo>
                    <a:lnTo>
                      <a:pt x="0" y="204"/>
                    </a:lnTo>
                    <a:lnTo>
                      <a:pt x="0" y="1296"/>
                    </a:lnTo>
                    <a:cubicBezTo>
                      <a:pt x="90" y="1332"/>
                      <a:pt x="113" y="1321"/>
                      <a:pt x="174" y="1320"/>
                    </a:cubicBezTo>
                    <a:cubicBezTo>
                      <a:pt x="235" y="1319"/>
                      <a:pt x="324" y="1320"/>
                      <a:pt x="366" y="1290"/>
                    </a:cubicBezTo>
                    <a:lnTo>
                      <a:pt x="336" y="192"/>
                    </a:lnTo>
                    <a:lnTo>
                      <a:pt x="222" y="102"/>
                    </a:lnTo>
                    <a:lnTo>
                      <a:pt x="216" y="0"/>
                    </a:lnTo>
                    <a:lnTo>
                      <a:pt x="102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563920" y="5064840"/>
                <a:ext cx="4032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2565360" y="5104440"/>
                <a:ext cx="4032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566440" y="5140080"/>
                <a:ext cx="4032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2567520" y="5177880"/>
                <a:ext cx="40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2568600" y="5211720"/>
                <a:ext cx="40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2570760" y="5226840"/>
                <a:ext cx="2124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2570760" y="523512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2571120" y="524664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2569320" y="518580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2569680" y="519408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2570040" y="520560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2568240" y="5147280"/>
                <a:ext cx="2124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2568240" y="515592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2568600" y="516708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2567160" y="5113440"/>
                <a:ext cx="2124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2567160" y="512172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2567520" y="513324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2565720" y="507348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2566080" y="508212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2566440" y="5093640"/>
                <a:ext cx="2160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93800" y="4856400"/>
                <a:ext cx="5760" cy="137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2588040" y="5000400"/>
                <a:ext cx="2448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620880" y="4905360"/>
              <a:ext cx="511560" cy="485280"/>
              <a:chOff x="3620880" y="4905360"/>
              <a:chExt cx="511560" cy="485280"/>
            </a:xfrm>
          </p:grpSpPr>
          <p:sp>
            <p:nvSpPr>
              <p:cNvPr id="557" name=""/>
              <p:cNvSpPr/>
              <p:nvPr/>
            </p:nvSpPr>
            <p:spPr>
              <a:xfrm flipH="1">
                <a:off x="3620520" y="5004000"/>
                <a:ext cx="257400" cy="386640"/>
              </a:xfrm>
              <a:custGeom>
                <a:avLst/>
                <a:gdLst/>
                <a:ahLst/>
                <a:rect l="l" t="t" r="r" b="b"/>
                <a:pathLst>
                  <a:path w="2614" h="2630">
                    <a:moveTo>
                      <a:pt x="1176" y="0"/>
                    </a:moveTo>
                    <a:cubicBezTo>
                      <a:pt x="1196" y="78"/>
                      <a:pt x="1274" y="182"/>
                      <a:pt x="1316" y="180"/>
                    </a:cubicBezTo>
                    <a:cubicBezTo>
                      <a:pt x="1358" y="178"/>
                      <a:pt x="1412" y="78"/>
                      <a:pt x="1448" y="0"/>
                    </a:cubicBezTo>
                    <a:cubicBezTo>
                      <a:pt x="1976" y="0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2180" y="2278"/>
                    </a:lnTo>
                    <a:cubicBezTo>
                      <a:pt x="2210" y="2506"/>
                      <a:pt x="2116" y="2574"/>
                      <a:pt x="2048" y="2586"/>
                    </a:cubicBezTo>
                    <a:cubicBezTo>
                      <a:pt x="1982" y="2614"/>
                      <a:pt x="1826" y="2600"/>
                      <a:pt x="1770" y="2454"/>
                    </a:cubicBezTo>
                    <a:cubicBezTo>
                      <a:pt x="1681" y="2159"/>
                      <a:pt x="1592" y="1864"/>
                      <a:pt x="1592" y="1864"/>
                    </a:cubicBezTo>
                    <a:cubicBezTo>
                      <a:pt x="1520" y="1604"/>
                      <a:pt x="1380" y="1490"/>
                      <a:pt x="1304" y="1494"/>
                    </a:cubicBezTo>
                    <a:cubicBezTo>
                      <a:pt x="1164" y="1510"/>
                      <a:pt x="1062" y="1698"/>
                      <a:pt x="1006" y="1888"/>
                    </a:cubicBezTo>
                    <a:cubicBezTo>
                      <a:pt x="910" y="2176"/>
                      <a:pt x="900" y="2302"/>
                      <a:pt x="856" y="2396"/>
                    </a:cubicBezTo>
                    <a:cubicBezTo>
                      <a:pt x="816" y="2508"/>
                      <a:pt x="720" y="2630"/>
                      <a:pt x="570" y="2596"/>
                    </a:cubicBezTo>
                    <a:cubicBezTo>
                      <a:pt x="506" y="2564"/>
                      <a:pt x="376" y="2548"/>
                      <a:pt x="440" y="2256"/>
                    </a:cubicBez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76" y="0"/>
                      <a:pt x="1176" y="0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714480" y="4905360"/>
                <a:ext cx="68400" cy="1015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86200" y="5011200"/>
                <a:ext cx="246240" cy="370800"/>
              </a:xfrm>
              <a:custGeom>
                <a:avLst/>
                <a:gdLst/>
                <a:ahLst/>
                <a:rect l="l" t="t" r="r" b="b"/>
                <a:pathLst>
                  <a:path w="2614" h="2628">
                    <a:moveTo>
                      <a:pt x="1100" y="0"/>
                    </a:moveTo>
                    <a:cubicBezTo>
                      <a:pt x="1120" y="78"/>
                      <a:pt x="1193" y="183"/>
                      <a:pt x="1316" y="180"/>
                    </a:cubicBezTo>
                    <a:cubicBezTo>
                      <a:pt x="1439" y="177"/>
                      <a:pt x="1472" y="84"/>
                      <a:pt x="1508" y="6"/>
                    </a:cubicBezTo>
                    <a:cubicBezTo>
                      <a:pt x="2036" y="6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1985" y="1350"/>
                    </a:lnTo>
                    <a:lnTo>
                      <a:pt x="1805" y="1401"/>
                    </a:lnTo>
                    <a:lnTo>
                      <a:pt x="2093" y="2328"/>
                    </a:lnTo>
                    <a:cubicBezTo>
                      <a:pt x="2126" y="2457"/>
                      <a:pt x="2117" y="2547"/>
                      <a:pt x="2030" y="2598"/>
                    </a:cubicBezTo>
                    <a:cubicBezTo>
                      <a:pt x="1919" y="2628"/>
                      <a:pt x="1834" y="2552"/>
                      <a:pt x="1778" y="2406"/>
                    </a:cubicBezTo>
                    <a:cubicBezTo>
                      <a:pt x="1679" y="2219"/>
                      <a:pt x="1507" y="1628"/>
                      <a:pt x="1436" y="1476"/>
                    </a:cubicBezTo>
                    <a:lnTo>
                      <a:pt x="1136" y="1476"/>
                    </a:lnTo>
                    <a:cubicBezTo>
                      <a:pt x="1070" y="1668"/>
                      <a:pt x="926" y="2226"/>
                      <a:pt x="842" y="2412"/>
                    </a:cubicBezTo>
                    <a:cubicBezTo>
                      <a:pt x="802" y="2524"/>
                      <a:pt x="728" y="2616"/>
                      <a:pt x="635" y="2595"/>
                    </a:cubicBezTo>
                    <a:cubicBezTo>
                      <a:pt x="571" y="2563"/>
                      <a:pt x="488" y="2532"/>
                      <a:pt x="545" y="2316"/>
                    </a:cubicBezTo>
                    <a:lnTo>
                      <a:pt x="797" y="1416"/>
                    </a:lnTo>
                    <a:lnTo>
                      <a:pt x="602" y="1368"/>
                    </a:ln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60" y="0"/>
                      <a:pt x="1100" y="0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977640" y="4917960"/>
                <a:ext cx="64800" cy="957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086280" y="4865400"/>
              <a:ext cx="368280" cy="577080"/>
              <a:chOff x="3086280" y="4865400"/>
              <a:chExt cx="368280" cy="57708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3218400" y="4865400"/>
                <a:ext cx="110160" cy="471240"/>
                <a:chOff x="3218400" y="4865400"/>
                <a:chExt cx="110160" cy="471240"/>
              </a:xfrm>
            </p:grpSpPr>
            <p:sp>
              <p:nvSpPr>
                <p:cNvPr id="563" name=""/>
                <p:cNvSpPr/>
                <p:nvPr/>
              </p:nvSpPr>
              <p:spPr>
                <a:xfrm flipH="1">
                  <a:off x="3253320" y="4865400"/>
                  <a:ext cx="36000" cy="65160"/>
                </a:xfrm>
                <a:custGeom>
                  <a:avLst/>
                  <a:gdLst/>
                  <a:ahLst/>
                  <a:rect l="l" t="t" r="r" b="b"/>
                  <a:pathLst>
                    <a:path w="60" h="128">
                      <a:moveTo>
                        <a:pt x="30" y="0"/>
                      </a:moveTo>
                      <a:lnTo>
                        <a:pt x="0" y="128"/>
                      </a:lnTo>
                      <a:lnTo>
                        <a:pt x="60" y="12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>
                  <a:off x="3296880" y="4996080"/>
                  <a:ext cx="31680" cy="339840"/>
                </a:xfrm>
                <a:custGeom>
                  <a:avLst/>
                  <a:gdLst/>
                  <a:ahLst/>
                  <a:rect l="l" t="t" r="r" b="b"/>
                  <a:pathLst>
                    <a:path w="53" h="667">
                      <a:moveTo>
                        <a:pt x="3" y="0"/>
                      </a:moveTo>
                      <a:lnTo>
                        <a:pt x="0" y="640"/>
                      </a:lnTo>
                      <a:lnTo>
                        <a:pt x="51" y="667"/>
                      </a:lnTo>
                      <a:lnTo>
                        <a:pt x="53" y="3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3218040" y="4994280"/>
                  <a:ext cx="30600" cy="339840"/>
                </a:xfrm>
                <a:custGeom>
                  <a:avLst/>
                  <a:gdLst/>
                  <a:ahLst/>
                  <a:rect l="l" t="t" r="r" b="b"/>
                  <a:pathLst>
                    <a:path w="51" h="667">
                      <a:moveTo>
                        <a:pt x="48" y="0"/>
                      </a:moveTo>
                      <a:lnTo>
                        <a:pt x="51" y="640"/>
                      </a:lnTo>
                      <a:lnTo>
                        <a:pt x="0" y="667"/>
                      </a:lnTo>
                      <a:lnTo>
                        <a:pt x="0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249360" y="4995720"/>
                  <a:ext cx="50400" cy="340920"/>
                </a:xfrm>
                <a:custGeom>
                  <a:avLst/>
                  <a:gdLst/>
                  <a:ahLst/>
                  <a:rect l="l" t="t" r="r" b="b"/>
                  <a:pathLst>
                    <a:path w="84" h="669">
                      <a:moveTo>
                        <a:pt x="84" y="33"/>
                      </a:moveTo>
                      <a:lnTo>
                        <a:pt x="83" y="665"/>
                      </a:lnTo>
                      <a:lnTo>
                        <a:pt x="0" y="669"/>
                      </a:lnTo>
                      <a:lnTo>
                        <a:pt x="5" y="40"/>
                      </a:lnTo>
                      <a:lnTo>
                        <a:pt x="47" y="0"/>
                      </a:lnTo>
                      <a:lnTo>
                        <a:pt x="84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3220560" y="4923360"/>
                  <a:ext cx="104760" cy="89640"/>
                </a:xfrm>
                <a:custGeom>
                  <a:avLst/>
                  <a:gdLst/>
                  <a:ahLst/>
                  <a:rect l="l" t="t" r="r" b="b"/>
                  <a:pathLst>
                    <a:path w="174" h="176">
                      <a:moveTo>
                        <a:pt x="118" y="0"/>
                      </a:moveTo>
                      <a:lnTo>
                        <a:pt x="60" y="2"/>
                      </a:lnTo>
                      <a:lnTo>
                        <a:pt x="0" y="143"/>
                      </a:lnTo>
                      <a:lnTo>
                        <a:pt x="49" y="176"/>
                      </a:lnTo>
                      <a:lnTo>
                        <a:pt x="90" y="138"/>
                      </a:lnTo>
                      <a:lnTo>
                        <a:pt x="130" y="171"/>
                      </a:lnTo>
                      <a:lnTo>
                        <a:pt x="174" y="141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3344400" y="4955400"/>
                <a:ext cx="110160" cy="471240"/>
                <a:chOff x="3344400" y="4955400"/>
                <a:chExt cx="110160" cy="471240"/>
              </a:xfrm>
            </p:grpSpPr>
            <p:sp>
              <p:nvSpPr>
                <p:cNvPr id="569" name=""/>
                <p:cNvSpPr/>
                <p:nvPr/>
              </p:nvSpPr>
              <p:spPr>
                <a:xfrm flipH="1">
                  <a:off x="3379320" y="4955400"/>
                  <a:ext cx="36000" cy="65160"/>
                </a:xfrm>
                <a:custGeom>
                  <a:avLst/>
                  <a:gdLst/>
                  <a:ahLst/>
                  <a:rect l="l" t="t" r="r" b="b"/>
                  <a:pathLst>
                    <a:path w="60" h="128">
                      <a:moveTo>
                        <a:pt x="30" y="0"/>
                      </a:moveTo>
                      <a:lnTo>
                        <a:pt x="0" y="128"/>
                      </a:lnTo>
                      <a:lnTo>
                        <a:pt x="60" y="12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3422880" y="5086080"/>
                  <a:ext cx="31680" cy="339840"/>
                </a:xfrm>
                <a:custGeom>
                  <a:avLst/>
                  <a:gdLst/>
                  <a:ahLst/>
                  <a:rect l="l" t="t" r="r" b="b"/>
                  <a:pathLst>
                    <a:path w="53" h="667">
                      <a:moveTo>
                        <a:pt x="3" y="0"/>
                      </a:moveTo>
                      <a:lnTo>
                        <a:pt x="0" y="640"/>
                      </a:lnTo>
                      <a:lnTo>
                        <a:pt x="51" y="667"/>
                      </a:lnTo>
                      <a:lnTo>
                        <a:pt x="53" y="3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3344040" y="5084280"/>
                  <a:ext cx="30600" cy="339840"/>
                </a:xfrm>
                <a:custGeom>
                  <a:avLst/>
                  <a:gdLst/>
                  <a:ahLst/>
                  <a:rect l="l" t="t" r="r" b="b"/>
                  <a:pathLst>
                    <a:path w="51" h="667">
                      <a:moveTo>
                        <a:pt x="48" y="0"/>
                      </a:moveTo>
                      <a:lnTo>
                        <a:pt x="51" y="640"/>
                      </a:lnTo>
                      <a:lnTo>
                        <a:pt x="0" y="667"/>
                      </a:lnTo>
                      <a:lnTo>
                        <a:pt x="0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3375360" y="5085720"/>
                  <a:ext cx="50400" cy="340920"/>
                </a:xfrm>
                <a:custGeom>
                  <a:avLst/>
                  <a:gdLst/>
                  <a:ahLst/>
                  <a:rect l="l" t="t" r="r" b="b"/>
                  <a:pathLst>
                    <a:path w="84" h="669">
                      <a:moveTo>
                        <a:pt x="84" y="33"/>
                      </a:moveTo>
                      <a:lnTo>
                        <a:pt x="83" y="665"/>
                      </a:lnTo>
                      <a:lnTo>
                        <a:pt x="0" y="669"/>
                      </a:lnTo>
                      <a:lnTo>
                        <a:pt x="5" y="40"/>
                      </a:lnTo>
                      <a:lnTo>
                        <a:pt x="47" y="0"/>
                      </a:lnTo>
                      <a:lnTo>
                        <a:pt x="84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>
                  <a:off x="3346560" y="5013360"/>
                  <a:ext cx="104760" cy="89640"/>
                </a:xfrm>
                <a:custGeom>
                  <a:avLst/>
                  <a:gdLst/>
                  <a:ahLst/>
                  <a:rect l="l" t="t" r="r" b="b"/>
                  <a:pathLst>
                    <a:path w="174" h="176">
                      <a:moveTo>
                        <a:pt x="118" y="0"/>
                      </a:moveTo>
                      <a:lnTo>
                        <a:pt x="60" y="2"/>
                      </a:lnTo>
                      <a:lnTo>
                        <a:pt x="0" y="143"/>
                      </a:lnTo>
                      <a:lnTo>
                        <a:pt x="49" y="176"/>
                      </a:lnTo>
                      <a:lnTo>
                        <a:pt x="90" y="138"/>
                      </a:lnTo>
                      <a:lnTo>
                        <a:pt x="130" y="171"/>
                      </a:lnTo>
                      <a:lnTo>
                        <a:pt x="174" y="141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3086280" y="4971240"/>
                <a:ext cx="110160" cy="471240"/>
                <a:chOff x="3086280" y="4971240"/>
                <a:chExt cx="110160" cy="471240"/>
              </a:xfrm>
            </p:grpSpPr>
            <p:sp>
              <p:nvSpPr>
                <p:cNvPr id="575" name=""/>
                <p:cNvSpPr/>
                <p:nvPr/>
              </p:nvSpPr>
              <p:spPr>
                <a:xfrm flipH="1">
                  <a:off x="3121200" y="4971240"/>
                  <a:ext cx="36000" cy="65160"/>
                </a:xfrm>
                <a:custGeom>
                  <a:avLst/>
                  <a:gdLst/>
                  <a:ahLst/>
                  <a:rect l="l" t="t" r="r" b="b"/>
                  <a:pathLst>
                    <a:path w="60" h="128">
                      <a:moveTo>
                        <a:pt x="30" y="0"/>
                      </a:moveTo>
                      <a:lnTo>
                        <a:pt x="0" y="128"/>
                      </a:lnTo>
                      <a:lnTo>
                        <a:pt x="60" y="12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3164760" y="5102280"/>
                  <a:ext cx="31680" cy="340200"/>
                </a:xfrm>
                <a:custGeom>
                  <a:avLst/>
                  <a:gdLst/>
                  <a:ahLst/>
                  <a:rect l="l" t="t" r="r" b="b"/>
                  <a:pathLst>
                    <a:path w="53" h="667">
                      <a:moveTo>
                        <a:pt x="3" y="0"/>
                      </a:moveTo>
                      <a:lnTo>
                        <a:pt x="0" y="640"/>
                      </a:lnTo>
                      <a:lnTo>
                        <a:pt x="51" y="667"/>
                      </a:lnTo>
                      <a:lnTo>
                        <a:pt x="53" y="3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3085920" y="5100120"/>
                  <a:ext cx="30600" cy="340200"/>
                </a:xfrm>
                <a:custGeom>
                  <a:avLst/>
                  <a:gdLst/>
                  <a:ahLst/>
                  <a:rect l="l" t="t" r="r" b="b"/>
                  <a:pathLst>
                    <a:path w="51" h="667">
                      <a:moveTo>
                        <a:pt x="48" y="0"/>
                      </a:moveTo>
                      <a:lnTo>
                        <a:pt x="51" y="640"/>
                      </a:lnTo>
                      <a:lnTo>
                        <a:pt x="0" y="667"/>
                      </a:lnTo>
                      <a:lnTo>
                        <a:pt x="0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3117240" y="5101560"/>
                  <a:ext cx="50400" cy="340920"/>
                </a:xfrm>
                <a:custGeom>
                  <a:avLst/>
                  <a:gdLst/>
                  <a:ahLst/>
                  <a:rect l="l" t="t" r="r" b="b"/>
                  <a:pathLst>
                    <a:path w="84" h="669">
                      <a:moveTo>
                        <a:pt x="84" y="33"/>
                      </a:moveTo>
                      <a:lnTo>
                        <a:pt x="83" y="665"/>
                      </a:lnTo>
                      <a:lnTo>
                        <a:pt x="0" y="669"/>
                      </a:lnTo>
                      <a:lnTo>
                        <a:pt x="5" y="40"/>
                      </a:lnTo>
                      <a:lnTo>
                        <a:pt x="47" y="0"/>
                      </a:lnTo>
                      <a:lnTo>
                        <a:pt x="84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3088440" y="5029200"/>
                  <a:ext cx="104760" cy="89640"/>
                </a:xfrm>
                <a:custGeom>
                  <a:avLst/>
                  <a:gdLst/>
                  <a:ahLst/>
                  <a:rect l="l" t="t" r="r" b="b"/>
                  <a:pathLst>
                    <a:path w="174" h="176">
                      <a:moveTo>
                        <a:pt x="118" y="0"/>
                      </a:moveTo>
                      <a:lnTo>
                        <a:pt x="60" y="2"/>
                      </a:lnTo>
                      <a:lnTo>
                        <a:pt x="0" y="143"/>
                      </a:lnTo>
                      <a:lnTo>
                        <a:pt x="49" y="176"/>
                      </a:lnTo>
                      <a:lnTo>
                        <a:pt x="90" y="138"/>
                      </a:lnTo>
                      <a:lnTo>
                        <a:pt x="130" y="171"/>
                      </a:lnTo>
                      <a:lnTo>
                        <a:pt x="174" y="141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0" name=""/>
          <p:cNvGrpSpPr/>
          <p:nvPr/>
        </p:nvGrpSpPr>
        <p:grpSpPr>
          <a:xfrm>
            <a:off x="4876920" y="3352680"/>
            <a:ext cx="3502080" cy="2486160"/>
            <a:chOff x="4876920" y="3352680"/>
            <a:chExt cx="3502080" cy="2486160"/>
          </a:xfrm>
        </p:grpSpPr>
        <p:graphicFrame>
          <p:nvGraphicFramePr>
            <p:cNvPr id="581" name=""/>
            <p:cNvGraphicFramePr/>
            <p:nvPr/>
          </p:nvGraphicFramePr>
          <p:xfrm>
            <a:off x="4876920" y="3352680"/>
            <a:ext cx="3502080" cy="248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3352680"/>
                      <a:ext cx="3502080" cy="248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3" name=""/>
            <p:cNvGrpSpPr/>
            <p:nvPr/>
          </p:nvGrpSpPr>
          <p:grpSpPr>
            <a:xfrm>
              <a:off x="5788080" y="4876560"/>
              <a:ext cx="348840" cy="451080"/>
              <a:chOff x="5788080" y="4876560"/>
              <a:chExt cx="348840" cy="451080"/>
            </a:xfrm>
          </p:grpSpPr>
          <p:sp>
            <p:nvSpPr>
              <p:cNvPr id="584" name=""/>
              <p:cNvSpPr/>
              <p:nvPr/>
            </p:nvSpPr>
            <p:spPr>
              <a:xfrm>
                <a:off x="5927040" y="4876560"/>
                <a:ext cx="57240" cy="6516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841000" y="5055120"/>
                <a:ext cx="81000" cy="9216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993280" y="4984920"/>
                <a:ext cx="60480" cy="6876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64760" y="527940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82040" y="514692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911920" y="5034960"/>
                <a:ext cx="9036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flipV="1">
                <a:off x="5969520" y="4930560"/>
                <a:ext cx="3528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094800" y="493776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036120" y="5123880"/>
                <a:ext cx="48240" cy="5508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35400" y="5053320"/>
                <a:ext cx="14760" cy="8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053760" y="4959360"/>
                <a:ext cx="4464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88080" y="498132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812920" y="5024160"/>
                <a:ext cx="3600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982840" y="5163120"/>
                <a:ext cx="6552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53320" y="516492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74280" y="5172480"/>
                <a:ext cx="1476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081120" y="5199120"/>
                <a:ext cx="42120" cy="48240"/>
              </a:xfrm>
              <a:prstGeom prst="ellipse">
                <a:avLst/>
              </a:prstGeom>
              <a:solidFill>
                <a:srgbClr val="ffffff">
                  <a:alpha val="6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6278760" y="4870800"/>
              <a:ext cx="181080" cy="538200"/>
              <a:chOff x="6278760" y="4870800"/>
              <a:chExt cx="181080" cy="538200"/>
            </a:xfrm>
          </p:grpSpPr>
          <p:sp>
            <p:nvSpPr>
              <p:cNvPr id="602" name=""/>
              <p:cNvSpPr/>
              <p:nvPr/>
            </p:nvSpPr>
            <p:spPr>
              <a:xfrm rot="21490800">
                <a:off x="6282720" y="5140080"/>
                <a:ext cx="172800" cy="266040"/>
              </a:xfrm>
              <a:custGeom>
                <a:avLst/>
                <a:gdLst/>
                <a:ahLst/>
                <a:rect l="l" t="t" r="r" b="b"/>
                <a:pathLst>
                  <a:path w="768" h="1200">
                    <a:moveTo>
                      <a:pt x="204" y="12"/>
                    </a:moveTo>
                    <a:lnTo>
                      <a:pt x="202" y="1084"/>
                    </a:lnTo>
                    <a:cubicBezTo>
                      <a:pt x="63" y="1127"/>
                      <a:pt x="13" y="1113"/>
                      <a:pt x="0" y="1182"/>
                    </a:cubicBezTo>
                    <a:cubicBezTo>
                      <a:pt x="0" y="1182"/>
                      <a:pt x="198" y="1194"/>
                      <a:pt x="372" y="1194"/>
                    </a:cubicBezTo>
                    <a:cubicBezTo>
                      <a:pt x="576" y="1182"/>
                      <a:pt x="768" y="1200"/>
                      <a:pt x="750" y="1146"/>
                    </a:cubicBezTo>
                    <a:cubicBezTo>
                      <a:pt x="732" y="1092"/>
                      <a:pt x="624" y="1080"/>
                      <a:pt x="517" y="1067"/>
                    </a:cubicBezTo>
                    <a:lnTo>
                      <a:pt x="504" y="0"/>
                    </a:lnTo>
                    <a:lnTo>
                      <a:pt x="204" y="1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21490800">
                <a:off x="6279120" y="5279040"/>
                <a:ext cx="176760" cy="27720"/>
              </a:xfrm>
              <a:custGeom>
                <a:avLst/>
                <a:gdLst/>
                <a:ahLst/>
                <a:rect l="l" t="t" r="r" b="b"/>
                <a:pathLst>
                  <a:path w="787" h="114">
                    <a:moveTo>
                      <a:pt x="262" y="24"/>
                    </a:moveTo>
                    <a:cubicBezTo>
                      <a:pt x="262" y="24"/>
                      <a:pt x="0" y="45"/>
                      <a:pt x="28" y="60"/>
                    </a:cubicBezTo>
                    <a:cubicBezTo>
                      <a:pt x="56" y="75"/>
                      <a:pt x="46" y="114"/>
                      <a:pt x="430" y="114"/>
                    </a:cubicBezTo>
                    <a:cubicBezTo>
                      <a:pt x="555" y="109"/>
                      <a:pt x="769" y="49"/>
                      <a:pt x="778" y="30"/>
                    </a:cubicBezTo>
                    <a:cubicBezTo>
                      <a:pt x="787" y="11"/>
                      <a:pt x="570" y="1"/>
                      <a:pt x="484" y="0"/>
                    </a:cubicBezTo>
                    <a:lnTo>
                      <a:pt x="262" y="24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21490800">
                <a:off x="6319440" y="4999320"/>
                <a:ext cx="82080" cy="295560"/>
              </a:xfrm>
              <a:custGeom>
                <a:avLst/>
                <a:gdLst/>
                <a:ahLst/>
                <a:rect l="l" t="t" r="r" b="b"/>
                <a:pathLst>
                  <a:path w="366" h="1332">
                    <a:moveTo>
                      <a:pt x="102" y="0"/>
                    </a:moveTo>
                    <a:lnTo>
                      <a:pt x="102" y="102"/>
                    </a:lnTo>
                    <a:lnTo>
                      <a:pt x="0" y="204"/>
                    </a:lnTo>
                    <a:lnTo>
                      <a:pt x="0" y="1296"/>
                    </a:lnTo>
                    <a:cubicBezTo>
                      <a:pt x="90" y="1332"/>
                      <a:pt x="113" y="1321"/>
                      <a:pt x="174" y="1320"/>
                    </a:cubicBezTo>
                    <a:cubicBezTo>
                      <a:pt x="235" y="1319"/>
                      <a:pt x="324" y="1320"/>
                      <a:pt x="366" y="1290"/>
                    </a:cubicBezTo>
                    <a:lnTo>
                      <a:pt x="336" y="192"/>
                    </a:lnTo>
                    <a:lnTo>
                      <a:pt x="222" y="102"/>
                    </a:lnTo>
                    <a:lnTo>
                      <a:pt x="216" y="0"/>
                    </a:lnTo>
                    <a:lnTo>
                      <a:pt x="102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6317280" y="5066280"/>
                <a:ext cx="3780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6318360" y="5103720"/>
                <a:ext cx="3780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6319440" y="5136480"/>
                <a:ext cx="3780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6320520" y="5172480"/>
                <a:ext cx="3780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6321600" y="5204520"/>
                <a:ext cx="3780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6323040" y="521856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6323400" y="522648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323760" y="523728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321960" y="518004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6321960" y="518796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6322320" y="519876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6320520" y="514404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320880" y="515196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321240" y="516276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6319800" y="511200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6319800" y="511992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6320160" y="513072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318360" y="507456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318720" y="508284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319080" y="5093280"/>
                <a:ext cx="2016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344280" y="4870800"/>
                <a:ext cx="5400" cy="128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6339240" y="5006160"/>
                <a:ext cx="2268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7387920" y="4952880"/>
              <a:ext cx="521280" cy="477360"/>
              <a:chOff x="7387920" y="4952880"/>
              <a:chExt cx="521280" cy="477360"/>
            </a:xfrm>
          </p:grpSpPr>
          <p:sp>
            <p:nvSpPr>
              <p:cNvPr id="628" name=""/>
              <p:cNvSpPr/>
              <p:nvPr/>
            </p:nvSpPr>
            <p:spPr>
              <a:xfrm flipH="1">
                <a:off x="7387560" y="5050080"/>
                <a:ext cx="262440" cy="380160"/>
              </a:xfrm>
              <a:custGeom>
                <a:avLst/>
                <a:gdLst/>
                <a:ahLst/>
                <a:rect l="l" t="t" r="r" b="b"/>
                <a:pathLst>
                  <a:path w="2614" h="2630">
                    <a:moveTo>
                      <a:pt x="1176" y="0"/>
                    </a:moveTo>
                    <a:cubicBezTo>
                      <a:pt x="1196" y="78"/>
                      <a:pt x="1274" y="182"/>
                      <a:pt x="1316" y="180"/>
                    </a:cubicBezTo>
                    <a:cubicBezTo>
                      <a:pt x="1358" y="178"/>
                      <a:pt x="1412" y="78"/>
                      <a:pt x="1448" y="0"/>
                    </a:cubicBezTo>
                    <a:cubicBezTo>
                      <a:pt x="1976" y="0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2180" y="2278"/>
                    </a:lnTo>
                    <a:cubicBezTo>
                      <a:pt x="2210" y="2506"/>
                      <a:pt x="2116" y="2574"/>
                      <a:pt x="2048" y="2586"/>
                    </a:cubicBezTo>
                    <a:cubicBezTo>
                      <a:pt x="1982" y="2614"/>
                      <a:pt x="1826" y="2600"/>
                      <a:pt x="1770" y="2454"/>
                    </a:cubicBezTo>
                    <a:cubicBezTo>
                      <a:pt x="1681" y="2159"/>
                      <a:pt x="1592" y="1864"/>
                      <a:pt x="1592" y="1864"/>
                    </a:cubicBezTo>
                    <a:cubicBezTo>
                      <a:pt x="1520" y="1604"/>
                      <a:pt x="1380" y="1490"/>
                      <a:pt x="1304" y="1494"/>
                    </a:cubicBezTo>
                    <a:cubicBezTo>
                      <a:pt x="1164" y="1510"/>
                      <a:pt x="1062" y="1698"/>
                      <a:pt x="1006" y="1888"/>
                    </a:cubicBezTo>
                    <a:cubicBezTo>
                      <a:pt x="910" y="2176"/>
                      <a:pt x="900" y="2302"/>
                      <a:pt x="856" y="2396"/>
                    </a:cubicBezTo>
                    <a:cubicBezTo>
                      <a:pt x="816" y="2508"/>
                      <a:pt x="720" y="2630"/>
                      <a:pt x="570" y="2596"/>
                    </a:cubicBezTo>
                    <a:cubicBezTo>
                      <a:pt x="506" y="2564"/>
                      <a:pt x="376" y="2548"/>
                      <a:pt x="440" y="2256"/>
                    </a:cubicBez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76" y="0"/>
                      <a:pt x="1176" y="0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483320" y="4952880"/>
                <a:ext cx="69840" cy="1000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658280" y="5056920"/>
                <a:ext cx="250920" cy="364680"/>
              </a:xfrm>
              <a:custGeom>
                <a:avLst/>
                <a:gdLst/>
                <a:ahLst/>
                <a:rect l="l" t="t" r="r" b="b"/>
                <a:pathLst>
                  <a:path w="2614" h="2628">
                    <a:moveTo>
                      <a:pt x="1100" y="0"/>
                    </a:moveTo>
                    <a:cubicBezTo>
                      <a:pt x="1120" y="78"/>
                      <a:pt x="1193" y="183"/>
                      <a:pt x="1316" y="180"/>
                    </a:cubicBezTo>
                    <a:cubicBezTo>
                      <a:pt x="1439" y="177"/>
                      <a:pt x="1472" y="84"/>
                      <a:pt x="1508" y="6"/>
                    </a:cubicBezTo>
                    <a:cubicBezTo>
                      <a:pt x="2036" y="6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1985" y="1350"/>
                    </a:lnTo>
                    <a:lnTo>
                      <a:pt x="1805" y="1401"/>
                    </a:lnTo>
                    <a:lnTo>
                      <a:pt x="2093" y="2328"/>
                    </a:lnTo>
                    <a:cubicBezTo>
                      <a:pt x="2126" y="2457"/>
                      <a:pt x="2117" y="2547"/>
                      <a:pt x="2030" y="2598"/>
                    </a:cubicBezTo>
                    <a:cubicBezTo>
                      <a:pt x="1919" y="2628"/>
                      <a:pt x="1834" y="2552"/>
                      <a:pt x="1778" y="2406"/>
                    </a:cubicBezTo>
                    <a:cubicBezTo>
                      <a:pt x="1679" y="2219"/>
                      <a:pt x="1507" y="1628"/>
                      <a:pt x="1436" y="1476"/>
                    </a:cubicBezTo>
                    <a:lnTo>
                      <a:pt x="1136" y="1476"/>
                    </a:lnTo>
                    <a:cubicBezTo>
                      <a:pt x="1070" y="1668"/>
                      <a:pt x="926" y="2226"/>
                      <a:pt x="842" y="2412"/>
                    </a:cubicBezTo>
                    <a:cubicBezTo>
                      <a:pt x="802" y="2524"/>
                      <a:pt x="728" y="2616"/>
                      <a:pt x="635" y="2595"/>
                    </a:cubicBezTo>
                    <a:cubicBezTo>
                      <a:pt x="571" y="2563"/>
                      <a:pt x="488" y="2532"/>
                      <a:pt x="545" y="2316"/>
                    </a:cubicBezTo>
                    <a:lnTo>
                      <a:pt x="797" y="1416"/>
                    </a:lnTo>
                    <a:lnTo>
                      <a:pt x="602" y="1368"/>
                    </a:ln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60" y="0"/>
                      <a:pt x="1100" y="0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51520" y="4965120"/>
                <a:ext cx="66240" cy="943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6810480" y="4836960"/>
              <a:ext cx="368280" cy="577080"/>
              <a:chOff x="6810480" y="4836960"/>
              <a:chExt cx="368280" cy="5770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6942600" y="4836960"/>
                <a:ext cx="110160" cy="471240"/>
                <a:chOff x="6942600" y="4836960"/>
                <a:chExt cx="110160" cy="471240"/>
              </a:xfrm>
            </p:grpSpPr>
            <p:sp>
              <p:nvSpPr>
                <p:cNvPr id="634" name=""/>
                <p:cNvSpPr/>
                <p:nvPr/>
              </p:nvSpPr>
              <p:spPr>
                <a:xfrm flipH="1">
                  <a:off x="6977520" y="4836960"/>
                  <a:ext cx="36000" cy="65160"/>
                </a:xfrm>
                <a:custGeom>
                  <a:avLst/>
                  <a:gdLst/>
                  <a:ahLst/>
                  <a:rect l="l" t="t" r="r" b="b"/>
                  <a:pathLst>
                    <a:path w="60" h="128">
                      <a:moveTo>
                        <a:pt x="30" y="0"/>
                      </a:moveTo>
                      <a:lnTo>
                        <a:pt x="0" y="128"/>
                      </a:lnTo>
                      <a:lnTo>
                        <a:pt x="60" y="12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7021080" y="4967640"/>
                  <a:ext cx="31680" cy="339840"/>
                </a:xfrm>
                <a:custGeom>
                  <a:avLst/>
                  <a:gdLst/>
                  <a:ahLst/>
                  <a:rect l="l" t="t" r="r" b="b"/>
                  <a:pathLst>
                    <a:path w="53" h="667">
                      <a:moveTo>
                        <a:pt x="3" y="0"/>
                      </a:moveTo>
                      <a:lnTo>
                        <a:pt x="0" y="640"/>
                      </a:lnTo>
                      <a:lnTo>
                        <a:pt x="51" y="667"/>
                      </a:lnTo>
                      <a:lnTo>
                        <a:pt x="53" y="3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6942240" y="4965840"/>
                  <a:ext cx="30600" cy="339840"/>
                </a:xfrm>
                <a:custGeom>
                  <a:avLst/>
                  <a:gdLst/>
                  <a:ahLst/>
                  <a:rect l="l" t="t" r="r" b="b"/>
                  <a:pathLst>
                    <a:path w="51" h="667">
                      <a:moveTo>
                        <a:pt x="48" y="0"/>
                      </a:moveTo>
                      <a:lnTo>
                        <a:pt x="51" y="640"/>
                      </a:lnTo>
                      <a:lnTo>
                        <a:pt x="0" y="667"/>
                      </a:lnTo>
                      <a:lnTo>
                        <a:pt x="0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>
                  <a:off x="6973560" y="4967280"/>
                  <a:ext cx="50400" cy="340920"/>
                </a:xfrm>
                <a:custGeom>
                  <a:avLst/>
                  <a:gdLst/>
                  <a:ahLst/>
                  <a:rect l="l" t="t" r="r" b="b"/>
                  <a:pathLst>
                    <a:path w="84" h="669">
                      <a:moveTo>
                        <a:pt x="84" y="33"/>
                      </a:moveTo>
                      <a:lnTo>
                        <a:pt x="83" y="665"/>
                      </a:lnTo>
                      <a:lnTo>
                        <a:pt x="0" y="669"/>
                      </a:lnTo>
                      <a:lnTo>
                        <a:pt x="5" y="40"/>
                      </a:lnTo>
                      <a:lnTo>
                        <a:pt x="47" y="0"/>
                      </a:lnTo>
                      <a:lnTo>
                        <a:pt x="84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6944760" y="4894920"/>
                  <a:ext cx="104760" cy="89640"/>
                </a:xfrm>
                <a:custGeom>
                  <a:avLst/>
                  <a:gdLst/>
                  <a:ahLst/>
                  <a:rect l="l" t="t" r="r" b="b"/>
                  <a:pathLst>
                    <a:path w="174" h="176">
                      <a:moveTo>
                        <a:pt x="118" y="0"/>
                      </a:moveTo>
                      <a:lnTo>
                        <a:pt x="60" y="2"/>
                      </a:lnTo>
                      <a:lnTo>
                        <a:pt x="0" y="143"/>
                      </a:lnTo>
                      <a:lnTo>
                        <a:pt x="49" y="176"/>
                      </a:lnTo>
                      <a:lnTo>
                        <a:pt x="90" y="138"/>
                      </a:lnTo>
                      <a:lnTo>
                        <a:pt x="130" y="171"/>
                      </a:lnTo>
                      <a:lnTo>
                        <a:pt x="174" y="141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7068600" y="4926960"/>
                <a:ext cx="110160" cy="471240"/>
                <a:chOff x="7068600" y="4926960"/>
                <a:chExt cx="110160" cy="471240"/>
              </a:xfrm>
            </p:grpSpPr>
            <p:sp>
              <p:nvSpPr>
                <p:cNvPr id="640" name=""/>
                <p:cNvSpPr/>
                <p:nvPr/>
              </p:nvSpPr>
              <p:spPr>
                <a:xfrm flipH="1">
                  <a:off x="7103520" y="4926960"/>
                  <a:ext cx="36000" cy="65160"/>
                </a:xfrm>
                <a:custGeom>
                  <a:avLst/>
                  <a:gdLst/>
                  <a:ahLst/>
                  <a:rect l="l" t="t" r="r" b="b"/>
                  <a:pathLst>
                    <a:path w="60" h="128">
                      <a:moveTo>
                        <a:pt x="30" y="0"/>
                      </a:moveTo>
                      <a:lnTo>
                        <a:pt x="0" y="128"/>
                      </a:lnTo>
                      <a:lnTo>
                        <a:pt x="60" y="12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>
                  <a:off x="7147080" y="5057640"/>
                  <a:ext cx="31680" cy="339840"/>
                </a:xfrm>
                <a:custGeom>
                  <a:avLst/>
                  <a:gdLst/>
                  <a:ahLst/>
                  <a:rect l="l" t="t" r="r" b="b"/>
                  <a:pathLst>
                    <a:path w="53" h="667">
                      <a:moveTo>
                        <a:pt x="3" y="0"/>
                      </a:moveTo>
                      <a:lnTo>
                        <a:pt x="0" y="640"/>
                      </a:lnTo>
                      <a:lnTo>
                        <a:pt x="51" y="667"/>
                      </a:lnTo>
                      <a:lnTo>
                        <a:pt x="53" y="3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7068240" y="5055840"/>
                  <a:ext cx="30600" cy="339840"/>
                </a:xfrm>
                <a:custGeom>
                  <a:avLst/>
                  <a:gdLst/>
                  <a:ahLst/>
                  <a:rect l="l" t="t" r="r" b="b"/>
                  <a:pathLst>
                    <a:path w="51" h="667">
                      <a:moveTo>
                        <a:pt x="48" y="0"/>
                      </a:moveTo>
                      <a:lnTo>
                        <a:pt x="51" y="640"/>
                      </a:lnTo>
                      <a:lnTo>
                        <a:pt x="0" y="667"/>
                      </a:lnTo>
                      <a:lnTo>
                        <a:pt x="0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>
                  <a:off x="7099560" y="5057280"/>
                  <a:ext cx="50400" cy="340920"/>
                </a:xfrm>
                <a:custGeom>
                  <a:avLst/>
                  <a:gdLst/>
                  <a:ahLst/>
                  <a:rect l="l" t="t" r="r" b="b"/>
                  <a:pathLst>
                    <a:path w="84" h="669">
                      <a:moveTo>
                        <a:pt x="84" y="33"/>
                      </a:moveTo>
                      <a:lnTo>
                        <a:pt x="83" y="665"/>
                      </a:lnTo>
                      <a:lnTo>
                        <a:pt x="0" y="669"/>
                      </a:lnTo>
                      <a:lnTo>
                        <a:pt x="5" y="40"/>
                      </a:lnTo>
                      <a:lnTo>
                        <a:pt x="47" y="0"/>
                      </a:lnTo>
                      <a:lnTo>
                        <a:pt x="84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>
                  <a:off x="7070760" y="4984920"/>
                  <a:ext cx="104760" cy="89640"/>
                </a:xfrm>
                <a:custGeom>
                  <a:avLst/>
                  <a:gdLst/>
                  <a:ahLst/>
                  <a:rect l="l" t="t" r="r" b="b"/>
                  <a:pathLst>
                    <a:path w="174" h="176">
                      <a:moveTo>
                        <a:pt x="118" y="0"/>
                      </a:moveTo>
                      <a:lnTo>
                        <a:pt x="60" y="2"/>
                      </a:lnTo>
                      <a:lnTo>
                        <a:pt x="0" y="143"/>
                      </a:lnTo>
                      <a:lnTo>
                        <a:pt x="49" y="176"/>
                      </a:lnTo>
                      <a:lnTo>
                        <a:pt x="90" y="138"/>
                      </a:lnTo>
                      <a:lnTo>
                        <a:pt x="130" y="171"/>
                      </a:lnTo>
                      <a:lnTo>
                        <a:pt x="174" y="141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6810480" y="4942800"/>
                <a:ext cx="110160" cy="471240"/>
                <a:chOff x="6810480" y="4942800"/>
                <a:chExt cx="110160" cy="471240"/>
              </a:xfrm>
            </p:grpSpPr>
            <p:sp>
              <p:nvSpPr>
                <p:cNvPr id="646" name=""/>
                <p:cNvSpPr/>
                <p:nvPr/>
              </p:nvSpPr>
              <p:spPr>
                <a:xfrm flipH="1">
                  <a:off x="6845400" y="4942800"/>
                  <a:ext cx="36000" cy="65160"/>
                </a:xfrm>
                <a:custGeom>
                  <a:avLst/>
                  <a:gdLst/>
                  <a:ahLst/>
                  <a:rect l="l" t="t" r="r" b="b"/>
                  <a:pathLst>
                    <a:path w="60" h="128">
                      <a:moveTo>
                        <a:pt x="30" y="0"/>
                      </a:moveTo>
                      <a:lnTo>
                        <a:pt x="0" y="128"/>
                      </a:lnTo>
                      <a:lnTo>
                        <a:pt x="60" y="12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>
                  <a:off x="6888960" y="5073840"/>
                  <a:ext cx="31680" cy="340200"/>
                </a:xfrm>
                <a:custGeom>
                  <a:avLst/>
                  <a:gdLst/>
                  <a:ahLst/>
                  <a:rect l="l" t="t" r="r" b="b"/>
                  <a:pathLst>
                    <a:path w="53" h="667">
                      <a:moveTo>
                        <a:pt x="3" y="0"/>
                      </a:moveTo>
                      <a:lnTo>
                        <a:pt x="0" y="640"/>
                      </a:lnTo>
                      <a:lnTo>
                        <a:pt x="51" y="667"/>
                      </a:lnTo>
                      <a:lnTo>
                        <a:pt x="53" y="3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>
                  <a:off x="6810120" y="5071680"/>
                  <a:ext cx="30600" cy="340200"/>
                </a:xfrm>
                <a:custGeom>
                  <a:avLst/>
                  <a:gdLst/>
                  <a:ahLst/>
                  <a:rect l="l" t="t" r="r" b="b"/>
                  <a:pathLst>
                    <a:path w="51" h="667">
                      <a:moveTo>
                        <a:pt x="48" y="0"/>
                      </a:moveTo>
                      <a:lnTo>
                        <a:pt x="51" y="640"/>
                      </a:lnTo>
                      <a:lnTo>
                        <a:pt x="0" y="667"/>
                      </a:lnTo>
                      <a:lnTo>
                        <a:pt x="0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>
                  <a:off x="6841440" y="5073120"/>
                  <a:ext cx="50400" cy="340920"/>
                </a:xfrm>
                <a:custGeom>
                  <a:avLst/>
                  <a:gdLst/>
                  <a:ahLst/>
                  <a:rect l="l" t="t" r="r" b="b"/>
                  <a:pathLst>
                    <a:path w="84" h="669">
                      <a:moveTo>
                        <a:pt x="84" y="33"/>
                      </a:moveTo>
                      <a:lnTo>
                        <a:pt x="83" y="665"/>
                      </a:lnTo>
                      <a:lnTo>
                        <a:pt x="0" y="669"/>
                      </a:lnTo>
                      <a:lnTo>
                        <a:pt x="5" y="40"/>
                      </a:lnTo>
                      <a:lnTo>
                        <a:pt x="47" y="0"/>
                      </a:lnTo>
                      <a:lnTo>
                        <a:pt x="84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6812640" y="5000760"/>
                  <a:ext cx="104760" cy="89640"/>
                </a:xfrm>
                <a:custGeom>
                  <a:avLst/>
                  <a:gdLst/>
                  <a:ahLst/>
                  <a:rect l="l" t="t" r="r" b="b"/>
                  <a:pathLst>
                    <a:path w="174" h="176">
                      <a:moveTo>
                        <a:pt x="118" y="0"/>
                      </a:moveTo>
                      <a:lnTo>
                        <a:pt x="60" y="2"/>
                      </a:lnTo>
                      <a:lnTo>
                        <a:pt x="0" y="143"/>
                      </a:lnTo>
                      <a:lnTo>
                        <a:pt x="49" y="176"/>
                      </a:lnTo>
                      <a:lnTo>
                        <a:pt x="90" y="138"/>
                      </a:lnTo>
                      <a:lnTo>
                        <a:pt x="130" y="171"/>
                      </a:lnTo>
                      <a:lnTo>
                        <a:pt x="174" y="141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8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1" name=""/>
          <p:cNvSpPr/>
          <p:nvPr/>
        </p:nvSpPr>
        <p:spPr>
          <a:xfrm>
            <a:off x="1219320" y="1828800"/>
            <a:ext cx="358128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34f0"/>
                </a:solidFill>
                <a:latin typeface="Arial"/>
              </a:rPr>
              <a:t>1. Describe contents for a Chart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800600" y="1828800"/>
            <a:ext cx="358128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7dd7"/>
                </a:solidFill>
                <a:latin typeface="Arial"/>
              </a:rPr>
              <a:t>2. Describe contents for a Chart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e Char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"/>
          <p:cNvSpPr/>
          <p:nvPr/>
        </p:nvSpPr>
        <p:spPr>
          <a:xfrm>
            <a:off x="6153120" y="1906560"/>
            <a:ext cx="655560" cy="655560"/>
          </a:xfrm>
          <a:prstGeom prst="ellipse">
            <a:avLst/>
          </a:prstGeom>
          <a:solidFill>
            <a:srgbClr val="b2b2b2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51200" y="2235240"/>
            <a:ext cx="1425600" cy="1047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141800" y="1508040"/>
            <a:ext cx="655560" cy="655560"/>
          </a:xfrm>
          <a:prstGeom prst="ellipse">
            <a:avLst/>
          </a:prstGeom>
          <a:solidFill>
            <a:srgbClr val="b2b2b2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73680" y="224172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751200" y="2610000"/>
            <a:ext cx="140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751200" y="258912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751360" y="2633760"/>
            <a:ext cx="1425600" cy="1047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010200" y="263988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51360" y="3006720"/>
            <a:ext cx="140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751360" y="298764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838920" y="3798720"/>
            <a:ext cx="655560" cy="655920"/>
          </a:xfrm>
          <a:prstGeom prst="ellipse">
            <a:avLst/>
          </a:prstGeom>
          <a:solidFill>
            <a:srgbClr val="b2b2b2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577880" y="2492280"/>
            <a:ext cx="1425600" cy="1049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90800" y="1763640"/>
            <a:ext cx="655560" cy="655560"/>
          </a:xfrm>
          <a:prstGeom prst="ellipse">
            <a:avLst/>
          </a:prstGeom>
          <a:solidFill>
            <a:srgbClr val="b2b2b2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flipV="1" rot="3328800">
            <a:off x="2116800" y="1880640"/>
            <a:ext cx="407520" cy="40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a74200"/>
              </a:gs>
              <a:gs pos="100000">
                <a:srgbClr val="ff6600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6106200">
            <a:off x="6604920" y="3665880"/>
            <a:ext cx="741960" cy="6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545400"/>
              </a:gs>
              <a:gs pos="100000">
                <a:srgbClr val="808000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6094440" y="1940760"/>
            <a:ext cx="492120" cy="49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002165"/>
              </a:gs>
              <a:gs pos="100000">
                <a:srgbClr val="003399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047480" y="1665360"/>
            <a:ext cx="674640" cy="67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380038"/>
              </a:gs>
              <a:gs pos="100000">
                <a:srgbClr val="660066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86040" y="249876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77880" y="2867040"/>
            <a:ext cx="140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5076720" cy="27115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577880" y="284652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26360" y="4556160"/>
            <a:ext cx="1425240" cy="1073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53240" y="4562640"/>
            <a:ext cx="8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26360" y="4930920"/>
            <a:ext cx="146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26360" y="4910040"/>
            <a:ext cx="142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2309760" y="3533400"/>
            <a:ext cx="6984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922560" y="3301560"/>
            <a:ext cx="365400" cy="389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943520" y="3322440"/>
            <a:ext cx="776160" cy="51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53040" y="4464000"/>
            <a:ext cx="1208160" cy="43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e Char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3878280" y="5122800"/>
            <a:ext cx="2116080" cy="665280"/>
          </a:xfrm>
          <a:prstGeom prst="line">
            <a:avLst/>
          </a:prstGeom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50920" y="1979640"/>
            <a:ext cx="3095640" cy="920880"/>
          </a:xfrm>
          <a:prstGeom prst="line">
            <a:avLst/>
          </a:prstGeom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05520" y="3143160"/>
            <a:ext cx="2743200" cy="2590920"/>
          </a:xfrm>
          <a:prstGeom prst="ellipse">
            <a:avLst/>
          </a:prstGeom>
          <a:gradFill rotWithShape="0">
            <a:gsLst>
              <a:gs pos="0">
                <a:srgbClr val="0b6a99"/>
              </a:gs>
              <a:gs pos="100000">
                <a:srgbClr val="063b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rot="6625200">
            <a:off x="4916880" y="2626200"/>
            <a:ext cx="2976480" cy="3209760"/>
          </a:xfrm>
          <a:prstGeom prst="blockArc">
            <a:avLst>
              <a:gd name="adj1" fmla="val 20619484"/>
              <a:gd name="adj2" fmla="val 11780516"/>
              <a:gd name="adj3" fmla="val 44028"/>
            </a:avLst>
          </a:prstGeom>
          <a:gradFill rotWithShape="0">
            <a:gsLst>
              <a:gs pos="0">
                <a:srgbClr val="a29700"/>
              </a:gs>
              <a:gs pos="100000">
                <a:srgbClr val="eedd00"/>
              </a:gs>
            </a:gsLst>
            <a:lin ang="6876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299280" y="4140360"/>
            <a:ext cx="344520" cy="34416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86520" y="37004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57%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6940440" y="4070520"/>
            <a:ext cx="555840" cy="688320"/>
            <a:chOff x="6940440" y="4070520"/>
            <a:chExt cx="555840" cy="688320"/>
          </a:xfrm>
        </p:grpSpPr>
        <p:sp>
          <p:nvSpPr>
            <p:cNvPr id="691" name=""/>
            <p:cNvSpPr/>
            <p:nvPr/>
          </p:nvSpPr>
          <p:spPr>
            <a:xfrm>
              <a:off x="7145640" y="4070520"/>
              <a:ext cx="145440" cy="141840"/>
            </a:xfrm>
            <a:prstGeom prst="ellipse">
              <a:avLst/>
            </a:prstGeom>
            <a:solidFill>
              <a:srgbClr val="c0c0c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40440" y="4091040"/>
              <a:ext cx="555840" cy="66780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c0c0c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5100480" y="4276800"/>
            <a:ext cx="129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39760" y="1981080"/>
            <a:ext cx="2630520" cy="3364200"/>
          </a:xfrm>
          <a:prstGeom prst="rect">
            <a:avLst/>
          </a:prstGeom>
          <a:noFill/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2421000"/>
            <a:ext cx="220968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’s produc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’s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’s technolog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’s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066680" y="1654200"/>
            <a:ext cx="271152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7dd7"/>
              </a:gs>
              <a:gs pos="100000">
                <a:srgbClr val="a9caee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219320" y="1752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76920" y="2286000"/>
            <a:ext cx="2056320" cy="1253520"/>
            <a:chOff x="4876920" y="2286000"/>
            <a:chExt cx="2056320" cy="1253520"/>
          </a:xfrm>
        </p:grpSpPr>
        <p:grpSp>
          <p:nvGrpSpPr>
            <p:cNvPr id="699" name=""/>
            <p:cNvGrpSpPr/>
            <p:nvPr/>
          </p:nvGrpSpPr>
          <p:grpSpPr>
            <a:xfrm>
              <a:off x="4876920" y="2286000"/>
              <a:ext cx="1044000" cy="1253520"/>
              <a:chOff x="4876920" y="2286000"/>
              <a:chExt cx="1044000" cy="1253520"/>
            </a:xfrm>
          </p:grpSpPr>
          <p:sp>
            <p:nvSpPr>
              <p:cNvPr id="700" name=""/>
              <p:cNvSpPr/>
              <p:nvPr/>
            </p:nvSpPr>
            <p:spPr>
              <a:xfrm flipH="1">
                <a:off x="5253480" y="2286000"/>
                <a:ext cx="281160" cy="261720"/>
              </a:xfrm>
              <a:prstGeom prst="ellipse">
                <a:avLst/>
              </a:prstGeom>
              <a:gradFill rotWithShape="0">
                <a:gsLst>
                  <a:gs pos="0">
                    <a:srgbClr val="53a5ff"/>
                  </a:gs>
                  <a:gs pos="100000">
                    <a:srgbClr val="478d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876920" y="2541600"/>
                <a:ext cx="1044000" cy="997920"/>
              </a:xfrm>
              <a:custGeom>
                <a:avLst/>
                <a:gdLst/>
                <a:ahLst/>
                <a:rect l="l" t="t" r="r" b="b"/>
                <a:pathLst>
                  <a:path w="2614" h="2630">
                    <a:moveTo>
                      <a:pt x="1176" y="0"/>
                    </a:moveTo>
                    <a:cubicBezTo>
                      <a:pt x="1196" y="78"/>
                      <a:pt x="1274" y="182"/>
                      <a:pt x="1316" y="180"/>
                    </a:cubicBezTo>
                    <a:cubicBezTo>
                      <a:pt x="1358" y="178"/>
                      <a:pt x="1412" y="78"/>
                      <a:pt x="1448" y="0"/>
                    </a:cubicBezTo>
                    <a:cubicBezTo>
                      <a:pt x="1976" y="0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2180" y="2278"/>
                    </a:lnTo>
                    <a:cubicBezTo>
                      <a:pt x="2210" y="2506"/>
                      <a:pt x="2116" y="2574"/>
                      <a:pt x="2048" y="2586"/>
                    </a:cubicBezTo>
                    <a:cubicBezTo>
                      <a:pt x="1982" y="2614"/>
                      <a:pt x="1826" y="2600"/>
                      <a:pt x="1770" y="2454"/>
                    </a:cubicBezTo>
                    <a:cubicBezTo>
                      <a:pt x="1681" y="2159"/>
                      <a:pt x="1592" y="1864"/>
                      <a:pt x="1592" y="1864"/>
                    </a:cubicBezTo>
                    <a:cubicBezTo>
                      <a:pt x="1520" y="1604"/>
                      <a:pt x="1380" y="1490"/>
                      <a:pt x="1304" y="1494"/>
                    </a:cubicBezTo>
                    <a:cubicBezTo>
                      <a:pt x="1164" y="1510"/>
                      <a:pt x="1062" y="1698"/>
                      <a:pt x="1006" y="1888"/>
                    </a:cubicBezTo>
                    <a:cubicBezTo>
                      <a:pt x="910" y="2176"/>
                      <a:pt x="900" y="2302"/>
                      <a:pt x="856" y="2396"/>
                    </a:cubicBezTo>
                    <a:cubicBezTo>
                      <a:pt x="816" y="2508"/>
                      <a:pt x="720" y="2630"/>
                      <a:pt x="570" y="2596"/>
                    </a:cubicBezTo>
                    <a:cubicBezTo>
                      <a:pt x="506" y="2564"/>
                      <a:pt x="376" y="2548"/>
                      <a:pt x="440" y="2256"/>
                    </a:cubicBez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76" y="0"/>
                      <a:pt x="117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3a5ff"/>
                  </a:gs>
                  <a:gs pos="100000">
                    <a:srgbClr val="478d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5936400" y="2334240"/>
              <a:ext cx="996840" cy="1198800"/>
              <a:chOff x="5936400" y="2334240"/>
              <a:chExt cx="996840" cy="1198800"/>
            </a:xfrm>
          </p:grpSpPr>
          <p:sp>
            <p:nvSpPr>
              <p:cNvPr id="703" name=""/>
              <p:cNvSpPr/>
              <p:nvPr/>
            </p:nvSpPr>
            <p:spPr>
              <a:xfrm>
                <a:off x="5936400" y="2574720"/>
                <a:ext cx="996840" cy="958320"/>
              </a:xfrm>
              <a:custGeom>
                <a:avLst/>
                <a:gdLst/>
                <a:ahLst/>
                <a:rect l="l" t="t" r="r" b="b"/>
                <a:pathLst>
                  <a:path w="2614" h="2628">
                    <a:moveTo>
                      <a:pt x="1100" y="0"/>
                    </a:moveTo>
                    <a:cubicBezTo>
                      <a:pt x="1120" y="78"/>
                      <a:pt x="1193" y="183"/>
                      <a:pt x="1316" y="180"/>
                    </a:cubicBezTo>
                    <a:cubicBezTo>
                      <a:pt x="1439" y="177"/>
                      <a:pt x="1472" y="84"/>
                      <a:pt x="1508" y="6"/>
                    </a:cubicBezTo>
                    <a:cubicBezTo>
                      <a:pt x="2036" y="6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1985" y="1350"/>
                    </a:lnTo>
                    <a:lnTo>
                      <a:pt x="1805" y="1401"/>
                    </a:lnTo>
                    <a:lnTo>
                      <a:pt x="2093" y="2328"/>
                    </a:lnTo>
                    <a:cubicBezTo>
                      <a:pt x="2126" y="2457"/>
                      <a:pt x="2117" y="2547"/>
                      <a:pt x="2030" y="2598"/>
                    </a:cubicBezTo>
                    <a:cubicBezTo>
                      <a:pt x="1919" y="2628"/>
                      <a:pt x="1834" y="2552"/>
                      <a:pt x="1778" y="2406"/>
                    </a:cubicBezTo>
                    <a:cubicBezTo>
                      <a:pt x="1679" y="2219"/>
                      <a:pt x="1507" y="1628"/>
                      <a:pt x="1436" y="1476"/>
                    </a:cubicBezTo>
                    <a:lnTo>
                      <a:pt x="1136" y="1476"/>
                    </a:lnTo>
                    <a:cubicBezTo>
                      <a:pt x="1070" y="1668"/>
                      <a:pt x="926" y="2226"/>
                      <a:pt x="842" y="2412"/>
                    </a:cubicBezTo>
                    <a:cubicBezTo>
                      <a:pt x="802" y="2524"/>
                      <a:pt x="728" y="2616"/>
                      <a:pt x="635" y="2595"/>
                    </a:cubicBezTo>
                    <a:cubicBezTo>
                      <a:pt x="571" y="2563"/>
                      <a:pt x="488" y="2532"/>
                      <a:pt x="545" y="2316"/>
                    </a:cubicBezTo>
                    <a:lnTo>
                      <a:pt x="797" y="1416"/>
                    </a:lnTo>
                    <a:lnTo>
                      <a:pt x="602" y="1368"/>
                    </a:ln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60" y="0"/>
                      <a:pt x="11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b658"/>
                  </a:gs>
                  <a:gs pos="100000">
                    <a:srgbClr val="fe9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05760" y="2334240"/>
                <a:ext cx="262800" cy="246960"/>
              </a:xfrm>
              <a:prstGeom prst="ellipse">
                <a:avLst/>
              </a:prstGeom>
              <a:gradFill rotWithShape="0">
                <a:gsLst>
                  <a:gs pos="0">
                    <a:srgbClr val="fdb658"/>
                  </a:gs>
                  <a:gs pos="100000">
                    <a:srgbClr val="fe9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6496200" y="479916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4647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"/>
          <p:cNvSpPr/>
          <p:nvPr/>
        </p:nvSpPr>
        <p:spPr>
          <a:xfrm>
            <a:off x="534960" y="29955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5f7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432240" y="2467080"/>
            <a:ext cx="2095560" cy="2681280"/>
            <a:chOff x="3432240" y="2467080"/>
            <a:chExt cx="2095560" cy="2681280"/>
          </a:xfrm>
        </p:grpSpPr>
        <p:sp>
          <p:nvSpPr>
            <p:cNvPr id="709" name=""/>
            <p:cNvSpPr/>
            <p:nvPr/>
          </p:nvSpPr>
          <p:spPr>
            <a:xfrm>
              <a:off x="3432240" y="2881440"/>
              <a:ext cx="1038240" cy="2266920"/>
            </a:xfrm>
            <a:custGeom>
              <a:avLst/>
              <a:gdLst/>
              <a:ahLst/>
              <a:rect l="l" t="t" r="r" b="b"/>
              <a:pathLst>
                <a:path w="654" h="1428">
                  <a:moveTo>
                    <a:pt x="1" y="0"/>
                  </a:moveTo>
                  <a:lnTo>
                    <a:pt x="117" y="110"/>
                  </a:lnTo>
                  <a:lnTo>
                    <a:pt x="117" y="1026"/>
                  </a:lnTo>
                  <a:lnTo>
                    <a:pt x="649" y="1241"/>
                  </a:lnTo>
                  <a:lnTo>
                    <a:pt x="654" y="1428"/>
                  </a:lnTo>
                  <a:lnTo>
                    <a:pt x="0" y="11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62560" y="2889360"/>
              <a:ext cx="1065240" cy="2257560"/>
            </a:xfrm>
            <a:custGeom>
              <a:avLst/>
              <a:gdLst/>
              <a:ahLst/>
              <a:rect l="l" t="t" r="r" b="b"/>
              <a:pathLst>
                <a:path w="671" h="1422">
                  <a:moveTo>
                    <a:pt x="654" y="0"/>
                  </a:moveTo>
                  <a:lnTo>
                    <a:pt x="516" y="111"/>
                  </a:lnTo>
                  <a:lnTo>
                    <a:pt x="519" y="1008"/>
                  </a:lnTo>
                  <a:lnTo>
                    <a:pt x="0" y="1237"/>
                  </a:lnTo>
                  <a:lnTo>
                    <a:pt x="2" y="1422"/>
                  </a:lnTo>
                  <a:lnTo>
                    <a:pt x="671" y="1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b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33680" y="2467080"/>
              <a:ext cx="2070360" cy="598320"/>
            </a:xfrm>
            <a:custGeom>
              <a:avLst/>
              <a:gdLst/>
              <a:ahLst/>
              <a:rect l="l" t="t" r="r" b="b"/>
              <a:pathLst>
                <a:path w="1304" h="377">
                  <a:moveTo>
                    <a:pt x="0" y="261"/>
                  </a:moveTo>
                  <a:lnTo>
                    <a:pt x="117" y="374"/>
                  </a:lnTo>
                  <a:lnTo>
                    <a:pt x="638" y="155"/>
                  </a:lnTo>
                  <a:lnTo>
                    <a:pt x="1164" y="377"/>
                  </a:lnTo>
                  <a:lnTo>
                    <a:pt x="1304" y="266"/>
                  </a:lnTo>
                  <a:lnTo>
                    <a:pt x="633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ef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14760" y="2711520"/>
              <a:ext cx="839880" cy="1798560"/>
            </a:xfrm>
            <a:custGeom>
              <a:avLst/>
              <a:gdLst/>
              <a:ahLst/>
              <a:rect l="l" t="t" r="r" b="b"/>
              <a:pathLst>
                <a:path w="529" h="1133">
                  <a:moveTo>
                    <a:pt x="2" y="218"/>
                  </a:moveTo>
                  <a:lnTo>
                    <a:pt x="0" y="1133"/>
                  </a:lnTo>
                  <a:lnTo>
                    <a:pt x="529" y="878"/>
                  </a:lnTo>
                  <a:lnTo>
                    <a:pt x="524" y="0"/>
                  </a:lnTo>
                  <a:lnTo>
                    <a:pt x="2" y="218"/>
                  </a:lnTo>
                  <a:close/>
                </a:path>
              </a:pathLst>
            </a:custGeom>
            <a:solidFill>
              <a:srgbClr val="fde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48160" y="2713320"/>
              <a:ext cx="838440" cy="1782720"/>
            </a:xfrm>
            <a:custGeom>
              <a:avLst/>
              <a:gdLst/>
              <a:ahLst/>
              <a:rect l="l" t="t" r="r" b="b"/>
              <a:pathLst>
                <a:path w="528" h="1123">
                  <a:moveTo>
                    <a:pt x="527" y="222"/>
                  </a:moveTo>
                  <a:lnTo>
                    <a:pt x="528" y="1123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527" y="222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10080" y="4108680"/>
              <a:ext cx="1684440" cy="744480"/>
            </a:xfrm>
            <a:custGeom>
              <a:avLst/>
              <a:gdLst/>
              <a:ahLst/>
              <a:rect l="l" t="t" r="r" b="b"/>
              <a:pathLst>
                <a:path w="1061" h="469">
                  <a:moveTo>
                    <a:pt x="527" y="0"/>
                  </a:moveTo>
                  <a:lnTo>
                    <a:pt x="0" y="252"/>
                  </a:lnTo>
                  <a:lnTo>
                    <a:pt x="537" y="469"/>
                  </a:lnTo>
                  <a:lnTo>
                    <a:pt x="1061" y="24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fe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 flipV="1">
            <a:off x="2027160" y="464652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528880" y="464976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502240" y="14986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2015640" y="149220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3835440" y="4367160"/>
            <a:ext cx="1216080" cy="34776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3693960" y="3108240"/>
            <a:ext cx="1479600" cy="14814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3693960" y="3108240"/>
            <a:ext cx="1468440" cy="1484280"/>
          </a:xfrm>
          <a:prstGeom prst="ellipse">
            <a:avLst/>
          </a:prstGeom>
          <a:gradFill rotWithShape="0">
            <a:gsLst>
              <a:gs pos="0">
                <a:srgbClr val="004b66">
                  <a:alpha val="90196"/>
                </a:srgbClr>
              </a:gs>
              <a:gs pos="50000">
                <a:srgbClr val="6ac1fc">
                  <a:alpha val="55294"/>
                </a:srgbClr>
              </a:gs>
              <a:gs pos="100000">
                <a:srgbClr val="004b6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46600" y="3138480"/>
            <a:ext cx="1154160" cy="514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1560" y="30178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59280" y="293364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5f7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826240" y="29559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955960" y="150192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84040" y="349092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562720" y="342900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08280" y="531648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3576600" y="2951280"/>
            <a:ext cx="16970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85800" y="2994120"/>
            <a:ext cx="1657440" cy="1633320"/>
            <a:chOff x="685800" y="2994120"/>
            <a:chExt cx="1657440" cy="1633320"/>
          </a:xfrm>
        </p:grpSpPr>
        <p:pic>
          <p:nvPicPr>
            <p:cNvPr id="733" name="" descr=""/>
            <p:cNvPicPr/>
            <p:nvPr/>
          </p:nvPicPr>
          <p:blipFill>
            <a:blip r:embed="rId1"/>
            <a:stretch/>
          </p:blipFill>
          <p:spPr>
            <a:xfrm>
              <a:off x="685800" y="3006000"/>
              <a:ext cx="1657440" cy="16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07760" y="2994120"/>
              <a:ext cx="1635480" cy="163332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76320">
              <a:solidFill>
                <a:srgbClr val="eaeae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585120" y="2994120"/>
            <a:ext cx="1657080" cy="1633320"/>
            <a:chOff x="6585120" y="2994120"/>
            <a:chExt cx="1657080" cy="1633320"/>
          </a:xfrm>
        </p:grpSpPr>
        <p:pic>
          <p:nvPicPr>
            <p:cNvPr id="736" name="" descr=""/>
            <p:cNvPicPr/>
            <p:nvPr/>
          </p:nvPicPr>
          <p:blipFill>
            <a:blip r:embed="rId2"/>
            <a:stretch/>
          </p:blipFill>
          <p:spPr>
            <a:xfrm>
              <a:off x="6585120" y="3006000"/>
              <a:ext cx="1657080" cy="16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6606720" y="2994120"/>
              <a:ext cx="1635120" cy="163332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76320">
              <a:solidFill>
                <a:srgbClr val="eaeae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459160" y="3322800"/>
            <a:ext cx="4016160" cy="50148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689280" y="2293920"/>
            <a:ext cx="1519200" cy="80820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3689280" y="4626720"/>
            <a:ext cx="1519200" cy="80820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133720" y="5570640"/>
            <a:ext cx="4724280" cy="558720"/>
          </a:xfrm>
          <a:prstGeom prst="roundRect">
            <a:avLst>
              <a:gd name="adj" fmla="val 0"/>
            </a:avLst>
          </a:prstGeom>
          <a:solidFill>
            <a:srgbClr val="f8f8f8"/>
          </a:solidFill>
          <a:ln w="19080">
            <a:solidFill>
              <a:srgbClr val="eaeaea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742" name=""/>
          <p:cNvCxnSpPr>
            <a:stCxn id="734" idx="4"/>
            <a:endCxn id="741" idx="1"/>
          </p:cNvCxnSpPr>
          <p:nvPr/>
        </p:nvCxnSpPr>
        <p:spPr>
          <a:xfrm flipH="1" rot="16200000">
            <a:off x="1232640" y="4958640"/>
            <a:ext cx="1185120" cy="5986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743" name=""/>
          <p:cNvCxnSpPr>
            <a:stCxn id="737" idx="4"/>
            <a:endCxn id="741" idx="3"/>
          </p:cNvCxnSpPr>
          <p:nvPr/>
        </p:nvCxnSpPr>
        <p:spPr>
          <a:xfrm rot="5400000">
            <a:off x="6553080" y="4979160"/>
            <a:ext cx="1185120" cy="55800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744" name=""/>
          <p:cNvSpPr/>
          <p:nvPr/>
        </p:nvSpPr>
        <p:spPr>
          <a:xfrm flipH="1" flipV="1">
            <a:off x="2459160" y="3855960"/>
            <a:ext cx="4016160" cy="50184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30160" y="3435480"/>
            <a:ext cx="135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67640" y="3435480"/>
            <a:ext cx="135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44920" y="4184640"/>
            <a:ext cx="18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544920" y="3201840"/>
            <a:ext cx="18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133720" y="571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81080" y="1600200"/>
            <a:ext cx="4724640" cy="558720"/>
          </a:xfrm>
          <a:prstGeom prst="roundRect">
            <a:avLst>
              <a:gd name="adj" fmla="val 0"/>
            </a:avLst>
          </a:prstGeom>
          <a:solidFill>
            <a:srgbClr val="f8f8f8"/>
          </a:solidFill>
          <a:ln w="19080">
            <a:solidFill>
              <a:srgbClr val="eaeaea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133720" y="17524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752" name=""/>
          <p:cNvCxnSpPr>
            <a:stCxn id="733" idx="0"/>
            <a:endCxn id="750" idx="1"/>
          </p:cNvCxnSpPr>
          <p:nvPr/>
        </p:nvCxnSpPr>
        <p:spPr>
          <a:xfrm flipH="1" flipV="1" rot="5400000">
            <a:off x="1179360" y="2214000"/>
            <a:ext cx="1127880" cy="457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753" name=""/>
          <p:cNvCxnSpPr>
            <a:stCxn id="737" idx="0"/>
            <a:endCxn id="750" idx="3"/>
          </p:cNvCxnSpPr>
          <p:nvPr/>
        </p:nvCxnSpPr>
        <p:spPr>
          <a:xfrm flipV="1" rot="16200000">
            <a:off x="6531120" y="2062440"/>
            <a:ext cx="1077120" cy="7102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754" name=""/>
          <p:cNvSpPr/>
          <p:nvPr/>
        </p:nvSpPr>
        <p:spPr>
          <a:xfrm>
            <a:off x="2971800" y="1523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bbb75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06d"/>
                </a:gs>
                <a:gs pos="50000">
                  <a:srgbClr val="d8eddf"/>
                </a:gs>
                <a:gs pos="100000">
                  <a:srgbClr val="4cb06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4cb06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b7dd7"/>
                </a:gs>
                <a:gs pos="50000">
                  <a:srgbClr val="d1e2f5"/>
                </a:gs>
                <a:gs pos="100000">
                  <a:srgbClr val="2b7dd7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2b7d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8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bb75"/>
                </a:gs>
                <a:gs pos="50000">
                  <a:srgbClr val="efefe0"/>
                </a:gs>
                <a:gs pos="100000">
                  <a:srgbClr val="bbbb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bbbb7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a1a6"/>
                </a:gs>
                <a:gs pos="50000">
                  <a:srgbClr val="dfeaeb"/>
                </a:gs>
                <a:gs pos="100000">
                  <a:srgbClr val="6ea1a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ea1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bbbb7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7E0E-F491-4EB2-A22E-05A7060CC9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1981080" y="49528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b7dd7"/>
                    </a:gs>
                    <a:gs pos="100000">
                      <a:srgbClr val="4cb06d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b7dd7"/>
                  </a:gs>
                  <a:gs pos="100000">
                    <a:srgbClr val="4cb06d"/>
                  </a:gs>
                </a:gsLst>
                <a:lin ang="10800000"/>
              </a:gradFill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623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010280" cy="457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b7d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b7d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7dd7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cb06d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2b7dd7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cb06d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2b7dd7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cb06d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2b7dd7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cb06d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2b7dd7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2b7dd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[Image information in product]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●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Title Image – www.themegallery.com, www.photosclub.co.kr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●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You may not  extract the image for any other use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192480" y="17938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653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0640" y="24861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06560" y="24098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75160" y="28702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b6d2f0"/>
              </a:gs>
              <a:gs pos="100000">
                <a:srgbClr val="2b7dd7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653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84480" y="37227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4960" y="37227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7360" y="37227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815800" y="37227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204960" y="37227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34200" y="37227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76520" y="37227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469200" y="37227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92480" y="48769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6ea1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7440" y="35226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05160" y="21718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3320" y="54370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7339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3400" y="37432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11271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tents Title (20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00240" y="1209600"/>
            <a:ext cx="276480" cy="276480"/>
            <a:chOff x="3000240" y="1209600"/>
            <a:chExt cx="276480" cy="276480"/>
          </a:xfrm>
        </p:grpSpPr>
        <p:grpSp>
          <p:nvGrpSpPr>
            <p:cNvPr id="140" name=""/>
            <p:cNvGrpSpPr/>
            <p:nvPr/>
          </p:nvGrpSpPr>
          <p:grpSpPr>
            <a:xfrm>
              <a:off x="3000240" y="1209600"/>
              <a:ext cx="276480" cy="276480"/>
              <a:chOff x="3000240" y="1209600"/>
              <a:chExt cx="276480" cy="276480"/>
            </a:xfrm>
          </p:grpSpPr>
          <p:sp>
            <p:nvSpPr>
              <p:cNvPr id="141" name=""/>
              <p:cNvSpPr/>
              <p:nvPr/>
            </p:nvSpPr>
            <p:spPr>
              <a:xfrm>
                <a:off x="3000240" y="12096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07440" y="12150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18240" y="12258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25440" y="12315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28680" y="12351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033000" y="12398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ccca1"/>
              </a:gs>
              <a:gs pos="100000">
                <a:srgbClr val="4cb06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8e8d2"/>
              </a:gs>
              <a:gs pos="100000">
                <a:srgbClr val="bbbb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54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55" name="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a5a38"/>
                  </a:gs>
                  <a:gs pos="100000">
                    <a:srgbClr val="bbbb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bb75"/>
                  </a:gs>
                  <a:gs pos="100000">
                    <a:srgbClr val="dfdf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b7dd7"/>
                </a:gs>
                <a:gs pos="100000">
                  <a:srgbClr val="1339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4d0f0"/>
                </a:gs>
                <a:gs pos="100000">
                  <a:srgbClr val="2b7dd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2b7dd7">
                    <a:alpha val="48235"/>
                  </a:srgbClr>
                </a:gs>
                <a:gs pos="100000">
                  <a:srgbClr val="2162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2b7dd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rot="18900000">
            <a:off x="314784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1520" y="211608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34f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5328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34f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45360" y="205596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8284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82840" y="1917720"/>
            <a:ext cx="1214280" cy="1233360"/>
          </a:xfrm>
          <a:prstGeom prst="ellipse">
            <a:avLst/>
          </a:prstGeom>
          <a:solidFill>
            <a:srgbClr val="2b7dd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38428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384280" y="4543560"/>
            <a:ext cx="1216080" cy="1233360"/>
          </a:xfrm>
          <a:prstGeom prst="ellipse">
            <a:avLst/>
          </a:prstGeom>
          <a:solidFill>
            <a:srgbClr val="bbbb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129280" y="453564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129280" y="4522680"/>
            <a:ext cx="1216080" cy="1233720"/>
          </a:xfrm>
          <a:prstGeom prst="ellipse">
            <a:avLst/>
          </a:prstGeom>
          <a:solidFill>
            <a:srgbClr val="2b7dd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129280" y="1906560"/>
            <a:ext cx="1220760" cy="1227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129280" y="1905120"/>
            <a:ext cx="1216080" cy="1233360"/>
          </a:xfrm>
          <a:prstGeom prst="ellipse">
            <a:avLst/>
          </a:prstGeom>
          <a:solidFill>
            <a:srgbClr val="bbbb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1936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806560" y="2170080"/>
            <a:ext cx="360360" cy="363240"/>
            <a:chOff x="2806560" y="2170080"/>
            <a:chExt cx="360360" cy="363240"/>
          </a:xfrm>
        </p:grpSpPr>
        <p:sp>
          <p:nvSpPr>
            <p:cNvPr id="179" name=""/>
            <p:cNvSpPr/>
            <p:nvPr/>
          </p:nvSpPr>
          <p:spPr>
            <a:xfrm>
              <a:off x="280656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8800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0656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1212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9008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2956680" y="231840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16200000">
              <a:off x="296028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529240" y="4781520"/>
            <a:ext cx="487080" cy="390240"/>
            <a:chOff x="5529240" y="4781520"/>
            <a:chExt cx="487080" cy="390240"/>
          </a:xfrm>
        </p:grpSpPr>
        <p:sp>
          <p:nvSpPr>
            <p:cNvPr id="187" name=""/>
            <p:cNvSpPr/>
            <p:nvPr/>
          </p:nvSpPr>
          <p:spPr>
            <a:xfrm>
              <a:off x="588240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3292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3292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8476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336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2924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6272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57316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507200">
              <a:off x="593136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01880" y="4782960"/>
            <a:ext cx="409680" cy="355320"/>
            <a:chOff x="2801880" y="4782960"/>
            <a:chExt cx="409680" cy="355320"/>
          </a:xfrm>
        </p:grpSpPr>
        <p:sp>
          <p:nvSpPr>
            <p:cNvPr id="197" name=""/>
            <p:cNvSpPr/>
            <p:nvPr/>
          </p:nvSpPr>
          <p:spPr>
            <a:xfrm>
              <a:off x="288576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0188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0664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09024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98152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0744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02508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519880" y="2170080"/>
            <a:ext cx="519120" cy="330120"/>
            <a:chOff x="5519880" y="2170080"/>
            <a:chExt cx="519120" cy="330120"/>
          </a:xfrm>
        </p:grpSpPr>
        <p:grpSp>
          <p:nvGrpSpPr>
            <p:cNvPr id="205" name=""/>
            <p:cNvGrpSpPr/>
            <p:nvPr/>
          </p:nvGrpSpPr>
          <p:grpSpPr>
            <a:xfrm>
              <a:off x="5519880" y="2170080"/>
              <a:ext cx="519120" cy="330120"/>
              <a:chOff x="5519880" y="2170080"/>
              <a:chExt cx="519120" cy="330120"/>
            </a:xfrm>
          </p:grpSpPr>
          <p:sp>
            <p:nvSpPr>
              <p:cNvPr id="206" name=""/>
              <p:cNvSpPr/>
              <p:nvPr/>
            </p:nvSpPr>
            <p:spPr>
              <a:xfrm>
                <a:off x="551988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4d4d4d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0320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4184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588456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4d4d">
                <a:alpha val="60000"/>
              </a:srgbClr>
            </a:solidFill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36580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080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6580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5444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117440" y="2595600"/>
            <a:ext cx="163368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33560" y="2595600"/>
            <a:ext cx="34275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9520" y="2595600"/>
            <a:ext cx="146520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7440" y="5902200"/>
            <a:ext cx="163368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33560" y="5902200"/>
            <a:ext cx="34275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9520" y="5902200"/>
            <a:ext cx="146520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7440" y="4251240"/>
            <a:ext cx="1633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33560" y="4251240"/>
            <a:ext cx="34275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9520" y="4251240"/>
            <a:ext cx="146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25360" y="2692440"/>
            <a:ext cx="1608480" cy="1482840"/>
          </a:xfrm>
          <a:prstGeom prst="rect">
            <a:avLst/>
          </a:prstGeom>
          <a:solidFill>
            <a:srgbClr val="4cb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25360" y="4327560"/>
            <a:ext cx="1633680" cy="1482840"/>
          </a:xfrm>
          <a:prstGeom prst="rect">
            <a:avLst/>
          </a:prstGeom>
          <a:solidFill>
            <a:srgbClr val="4cb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19954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0400" y="2349360"/>
            <a:ext cx="6615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27160" y="2054160"/>
            <a:ext cx="88920" cy="301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33560" y="2692440"/>
            <a:ext cx="3426120" cy="1482840"/>
          </a:xfrm>
          <a:prstGeom prst="rect">
            <a:avLst/>
          </a:prstGeom>
          <a:solidFill>
            <a:srgbClr val="2b7dd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29520" y="2692440"/>
            <a:ext cx="1482480" cy="1482840"/>
          </a:xfrm>
          <a:prstGeom prst="rect">
            <a:avLst/>
          </a:prstGeom>
          <a:solidFill>
            <a:srgbClr val="6ea1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33560" y="4316400"/>
            <a:ext cx="3426120" cy="1482840"/>
          </a:xfrm>
          <a:prstGeom prst="rect">
            <a:avLst/>
          </a:prstGeom>
          <a:solidFill>
            <a:srgbClr val="2b7dd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9520" y="4316400"/>
            <a:ext cx="1482480" cy="1482840"/>
          </a:xfrm>
          <a:prstGeom prst="rect">
            <a:avLst/>
          </a:prstGeom>
          <a:solidFill>
            <a:srgbClr val="6ea1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03840" y="32320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03840" y="49309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9400" y="2865600"/>
            <a:ext cx="341820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68480" y="4584600"/>
            <a:ext cx="341820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048120"/>
            <a:ext cx="146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4622760"/>
            <a:ext cx="146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1600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bbb7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2411280"/>
            <a:ext cx="1990800" cy="330372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81d8f3"/>
              </a:gs>
              <a:gs pos="100000">
                <a:srgbClr val="c6ecf8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06560" y="2131920"/>
            <a:ext cx="1636560" cy="506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e9e9e9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97640" y="22096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73560" y="2487600"/>
            <a:ext cx="1990440" cy="330372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c5f381"/>
              </a:gs>
              <a:gs pos="100000">
                <a:srgbClr val="e4f8c6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40240" y="2208240"/>
            <a:ext cx="1638360" cy="506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e9e9e9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2760" y="2286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54760" y="2487600"/>
            <a:ext cx="1990800" cy="330372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f3c581"/>
              </a:gs>
              <a:gs pos="100000">
                <a:srgbClr val="f8e4c6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22880" y="2208240"/>
            <a:ext cx="1636920" cy="506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e9e9e9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10720" y="2286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8840" y="2867040"/>
            <a:ext cx="19400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00560" y="2946240"/>
            <a:ext cx="19364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6680" y="3260880"/>
            <a:ext cx="18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5704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33640" y="3726000"/>
            <a:ext cx="217440" cy="417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129120" y="3726000"/>
            <a:ext cx="217440" cy="417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491080" y="380196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85840" y="3801960"/>
            <a:ext cx="2156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434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3978360" y="1596960"/>
            <a:ext cx="917640" cy="852480"/>
          </a:xfrm>
          <a:prstGeom prst="pentagon">
            <a:avLst/>
          </a:prstGeom>
          <a:solidFill>
            <a:srgbClr val="0099cc">
              <a:alpha val="50000"/>
            </a:srgbClr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752480"/>
            <a:ext cx="7821000" cy="4451040"/>
            <a:chOff x="533520" y="1752480"/>
            <a:chExt cx="7821000" cy="4451040"/>
          </a:xfrm>
        </p:grpSpPr>
        <p:sp>
          <p:nvSpPr>
            <p:cNvPr id="260" name=""/>
            <p:cNvSpPr/>
            <p:nvPr/>
          </p:nvSpPr>
          <p:spPr>
            <a:xfrm flipV="1">
              <a:off x="3265560" y="2504520"/>
              <a:ext cx="913320" cy="6660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4739760" y="2504160"/>
              <a:ext cx="913680" cy="6735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1080" y="5081760"/>
              <a:ext cx="114264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489280" y="3740400"/>
              <a:ext cx="362160" cy="102492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8480" y="3740400"/>
              <a:ext cx="362160" cy="102492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6760" y="4748760"/>
              <a:ext cx="911880" cy="840960"/>
            </a:xfrm>
            <a:prstGeom prst="pentagon">
              <a:avLst/>
            </a:prstGeom>
            <a:solidFill>
              <a:srgbClr val="cc3300">
                <a:alpha val="50000"/>
              </a:srgbClr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7520" y="2840400"/>
              <a:ext cx="977040" cy="896400"/>
            </a:xfrm>
            <a:prstGeom prst="pentagon">
              <a:avLst/>
            </a:prstGeom>
            <a:solidFill>
              <a:srgbClr val="fcc704">
                <a:alpha val="50000"/>
              </a:srgbClr>
            </a:solidFill>
            <a:ln w="76320">
              <a:solidFill>
                <a:srgbClr val="2b7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45880" y="2848320"/>
              <a:ext cx="958680" cy="882360"/>
            </a:xfrm>
            <a:prstGeom prst="pentagon">
              <a:avLst/>
            </a:prstGeom>
            <a:solidFill>
              <a:srgbClr val="4cb06d">
                <a:alpha val="50000"/>
              </a:srgbClr>
            </a:solidFill>
            <a:ln w="76320">
              <a:solidFill>
                <a:srgbClr val="4cb0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21640" y="4742280"/>
              <a:ext cx="912240" cy="841320"/>
            </a:xfrm>
            <a:prstGeom prst="pentagon">
              <a:avLst/>
            </a:prstGeom>
            <a:solidFill>
              <a:srgbClr val="339966">
                <a:alpha val="50000"/>
              </a:srgbClr>
            </a:solidFill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2525040" y="3070800"/>
              <a:ext cx="509400" cy="496800"/>
              <a:chOff x="2525040" y="3070800"/>
              <a:chExt cx="509400" cy="496800"/>
            </a:xfrm>
          </p:grpSpPr>
          <p:sp>
            <p:nvSpPr>
              <p:cNvPr id="270" name=""/>
              <p:cNvSpPr/>
              <p:nvPr/>
            </p:nvSpPr>
            <p:spPr>
              <a:xfrm>
                <a:off x="2525040" y="3070800"/>
                <a:ext cx="509400" cy="493920"/>
              </a:xfrm>
              <a:prstGeom prst="ellipse">
                <a:avLst/>
              </a:prstGeom>
              <a:solidFill>
                <a:srgbClr val="292929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81360" y="3070800"/>
                <a:ext cx="0" cy="490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25040" y="3315960"/>
                <a:ext cx="509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15920" y="3074040"/>
                <a:ext cx="105480" cy="48708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42760" y="3077280"/>
                <a:ext cx="114480" cy="4903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5400000">
                <a:off x="2738160" y="3267360"/>
                <a:ext cx="64080" cy="3798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 rot="16200000">
                <a:off x="2742840" y="2985480"/>
                <a:ext cx="64080" cy="3798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183480" y="5006520"/>
              <a:ext cx="442800" cy="367920"/>
              <a:chOff x="3183480" y="5006520"/>
              <a:chExt cx="442800" cy="367920"/>
            </a:xfrm>
          </p:grpSpPr>
          <p:sp>
            <p:nvSpPr>
              <p:cNvPr id="278" name=""/>
              <p:cNvSpPr/>
              <p:nvPr/>
            </p:nvSpPr>
            <p:spPr>
              <a:xfrm>
                <a:off x="3273840" y="500652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292929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83480" y="526068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292929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94880" y="5317560"/>
                <a:ext cx="673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362400" y="5086800"/>
                <a:ext cx="1098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404880" y="5124600"/>
                <a:ext cx="67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3424320" y="5196240"/>
                <a:ext cx="478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4279680" y="1951920"/>
              <a:ext cx="388800" cy="372960"/>
            </a:xfrm>
            <a:prstGeom prst="cube">
              <a:avLst>
                <a:gd name="adj" fmla="val 25000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882760" y="3078360"/>
              <a:ext cx="498600" cy="456840"/>
              <a:chOff x="5882760" y="3078360"/>
              <a:chExt cx="498600" cy="456840"/>
            </a:xfrm>
          </p:grpSpPr>
          <p:sp>
            <p:nvSpPr>
              <p:cNvPr id="286" name=""/>
              <p:cNvSpPr/>
              <p:nvPr/>
            </p:nvSpPr>
            <p:spPr>
              <a:xfrm>
                <a:off x="5882760" y="3171600"/>
                <a:ext cx="498600" cy="363600"/>
              </a:xfrm>
              <a:prstGeom prst="roundRect">
                <a:avLst>
                  <a:gd name="adj" fmla="val 16667"/>
                </a:avLst>
              </a:prstGeom>
              <a:solidFill>
                <a:srgbClr val="292929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33600" y="3078360"/>
                <a:ext cx="184320" cy="164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292929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286600" y="4963320"/>
              <a:ext cx="407160" cy="487800"/>
              <a:chOff x="5286600" y="4963320"/>
              <a:chExt cx="407160" cy="487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286600" y="4978080"/>
                <a:ext cx="407160" cy="473040"/>
              </a:xfrm>
              <a:custGeom>
                <a:avLst/>
                <a:gdLst/>
                <a:ahLst/>
                <a:rect l="l" t="t" r="r" b="b"/>
                <a:pathLst>
                  <a:path w="3312" h="3962">
                    <a:moveTo>
                      <a:pt x="1376" y="696"/>
                    </a:moveTo>
                    <a:cubicBezTo>
                      <a:pt x="1401" y="795"/>
                      <a:pt x="1489" y="920"/>
                      <a:pt x="1639" y="920"/>
                    </a:cubicBezTo>
                    <a:cubicBezTo>
                      <a:pt x="1801" y="920"/>
                      <a:pt x="1876" y="795"/>
                      <a:pt x="1926" y="708"/>
                    </a:cubicBezTo>
                    <a:lnTo>
                      <a:pt x="2940" y="66"/>
                    </a:lnTo>
                    <a:cubicBezTo>
                      <a:pt x="3042" y="0"/>
                      <a:pt x="3142" y="16"/>
                      <a:pt x="3204" y="78"/>
                    </a:cubicBezTo>
                    <a:cubicBezTo>
                      <a:pt x="3267" y="140"/>
                      <a:pt x="3312" y="264"/>
                      <a:pt x="3072" y="444"/>
                    </a:cubicBezTo>
                    <a:lnTo>
                      <a:pt x="2139" y="1081"/>
                    </a:lnTo>
                    <a:lnTo>
                      <a:pt x="2476" y="2372"/>
                    </a:lnTo>
                    <a:lnTo>
                      <a:pt x="2251" y="2435"/>
                    </a:lnTo>
                    <a:lnTo>
                      <a:pt x="2614" y="3589"/>
                    </a:lnTo>
                    <a:cubicBezTo>
                      <a:pt x="2651" y="3751"/>
                      <a:pt x="2639" y="3863"/>
                      <a:pt x="2539" y="3925"/>
                    </a:cubicBezTo>
                    <a:cubicBezTo>
                      <a:pt x="2401" y="3962"/>
                      <a:pt x="2289" y="3863"/>
                      <a:pt x="2226" y="3689"/>
                    </a:cubicBezTo>
                    <a:cubicBezTo>
                      <a:pt x="2101" y="3453"/>
                      <a:pt x="1876" y="2720"/>
                      <a:pt x="1789" y="2534"/>
                    </a:cubicBezTo>
                    <a:lnTo>
                      <a:pt x="1414" y="2534"/>
                    </a:lnTo>
                    <a:cubicBezTo>
                      <a:pt x="1339" y="2770"/>
                      <a:pt x="1151" y="3465"/>
                      <a:pt x="1051" y="3689"/>
                    </a:cubicBezTo>
                    <a:cubicBezTo>
                      <a:pt x="1001" y="3838"/>
                      <a:pt x="914" y="3950"/>
                      <a:pt x="789" y="3925"/>
                    </a:cubicBezTo>
                    <a:cubicBezTo>
                      <a:pt x="714" y="3875"/>
                      <a:pt x="614" y="3838"/>
                      <a:pt x="676" y="3577"/>
                    </a:cubicBezTo>
                    <a:lnTo>
                      <a:pt x="1001" y="2459"/>
                    </a:lnTo>
                    <a:lnTo>
                      <a:pt x="751" y="2397"/>
                    </a:lnTo>
                    <a:lnTo>
                      <a:pt x="1126" y="1081"/>
                    </a:lnTo>
                    <a:lnTo>
                      <a:pt x="139" y="497"/>
                    </a:lnTo>
                    <a:cubicBezTo>
                      <a:pt x="54" y="402"/>
                      <a:pt x="0" y="342"/>
                      <a:pt x="60" y="180"/>
                    </a:cubicBezTo>
                    <a:cubicBezTo>
                      <a:pt x="186" y="102"/>
                      <a:pt x="214" y="112"/>
                      <a:pt x="389" y="162"/>
                    </a:cubicBezTo>
                    <a:lnTo>
                      <a:pt x="1376" y="696"/>
                    </a:lnTo>
                    <a:close/>
                  </a:path>
                </a:pathLst>
              </a:custGeom>
              <a:solidFill>
                <a:srgbClr val="292929">
                  <a:alpha val="5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37080" y="4963320"/>
                <a:ext cx="105840" cy="100800"/>
              </a:xfrm>
              <a:prstGeom prst="ellipse">
                <a:avLst/>
              </a:prstGeom>
              <a:solidFill>
                <a:srgbClr val="292929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536280" y="3141360"/>
              <a:ext cx="1854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ThemeGallery</a:t>
              </a: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ents mall developed by Guild Design Inc.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71640" y="1752480"/>
              <a:ext cx="1596600" cy="561600"/>
            </a:xfrm>
            <a:noFill/>
            <a:ln w="9360">
              <a:solidFill>
                <a:srgbClr val="6ea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 1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 company product description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520" y="3839760"/>
              <a:ext cx="1595160" cy="560160"/>
            </a:xfrm>
            <a:noFill/>
            <a:ln w="9360">
              <a:solidFill>
                <a:srgbClr val="2b7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 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 company product description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38240" y="5604840"/>
              <a:ext cx="1595160" cy="560160"/>
            </a:xfrm>
            <a:noFill/>
            <a:ln w="9360">
              <a:solidFill>
                <a:srgbClr val="6534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 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 company product description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18000" y="5641920"/>
              <a:ext cx="1595160" cy="561600"/>
            </a:xfrm>
            <a:noFill/>
            <a:ln w="9360">
              <a:solidFill>
                <a:srgbClr val="bbbb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 4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 company product description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59360" y="3809160"/>
              <a:ext cx="1595160" cy="560160"/>
            </a:xfrm>
            <a:noFill/>
            <a:ln w="9360">
              <a:solidFill>
                <a:srgbClr val="4cb0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 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 company product description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09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