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22CF4-4D04-4CB2-9348-9CB84B0505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58672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501000"/>
            <a:ext cx="58672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8AB1-EBC0-45EC-A83E-C7233811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532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50100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5320" y="350100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752D-0A36-4A67-9FDB-9BB6AEB6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12200" y="330156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196160" y="330156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50100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212200" y="350100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196160" y="350100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C139-6B33-4C05-8779-469FAF61C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9E043-F7D0-4876-9B2D-8AC0F529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330156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511B9-C92F-4BC8-8E1E-C194ED9E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98711-8DB0-411F-8F74-D9E994AE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28630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5320" y="3301560"/>
            <a:ext cx="28630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F71A2-94BA-42F9-BEB1-7A37BC3C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77F1A-C48B-4891-8AFA-EE43944E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42667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4A7E1-F14F-47A7-97F8-FCC0412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5320" y="3301560"/>
            <a:ext cx="28630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50100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59A28-4D20-4FA7-83FA-C5A91332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330156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43B5-EA28-48C3-9B5F-95A864BA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28630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532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35320" y="350100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5472F-7F51-480C-A71C-25A1498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532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501000"/>
            <a:ext cx="58672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CB292-E838-4E54-94F8-074349E9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58672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3501000"/>
            <a:ext cx="58672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C3A7B-9D13-4528-A199-79727CBB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32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350100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235320" y="350100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FD2A6-D36F-4EAB-9454-6D9FB1E3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212200" y="330156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196160" y="330156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350100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212200" y="350100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196160" y="3501000"/>
            <a:ext cx="188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4DA3D-9B01-48BA-B44C-E2F90DE4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2146-0B39-4EFE-B83E-742BAD66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28630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235320" y="3301560"/>
            <a:ext cx="28630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A5DB-E878-4B35-B414-160BDA80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73F8-CAED-4496-8CB4-B7BBE3ED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42667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FA74-15CF-4301-9012-D775AB28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5320" y="3301560"/>
            <a:ext cx="28630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50100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A4BD-C84C-42B8-B257-5C316BA5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28630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532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5320" y="350100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6D90-3A07-45EE-AE9C-A2AE04B1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5320" y="3301560"/>
            <a:ext cx="28630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501000"/>
            <a:ext cx="58672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DCE4-BFA2-487A-970A-A53B4533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1b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8A67-56B1-4DCE-988F-C88A3B7626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0" y="0"/>
            <a:ext cx="2286000" cy="1082520"/>
          </a:xfrm>
          <a:custGeom>
            <a:avLst/>
            <a:gdLst/>
            <a:ahLst/>
            <a:rect l="l" t="t" r="r" b="b"/>
            <a:pathLst>
              <a:path w="1137" h="682">
                <a:moveTo>
                  <a:pt x="1137" y="0"/>
                </a:moveTo>
                <a:lnTo>
                  <a:pt x="0" y="682"/>
                </a:lnTo>
                <a:lnTo>
                  <a:pt x="1137" y="682"/>
                </a:lnTo>
                <a:lnTo>
                  <a:pt x="1137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9144000" cy="184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616800" y="914400"/>
            <a:ext cx="2527200" cy="228600"/>
          </a:xfrm>
          <a:custGeom>
            <a:avLst/>
            <a:gdLst/>
            <a:ahLst/>
            <a:rect l="l" t="t" r="r" b="b"/>
            <a:pathLst>
              <a:path w="1592" h="144">
                <a:moveTo>
                  <a:pt x="369" y="0"/>
                </a:moveTo>
                <a:lnTo>
                  <a:pt x="0" y="144"/>
                </a:lnTo>
                <a:lnTo>
                  <a:pt x="1592" y="144"/>
                </a:lnTo>
                <a:lnTo>
                  <a:pt x="1592" y="0"/>
                </a:lnTo>
                <a:lnTo>
                  <a:pt x="369" y="0"/>
                </a:lnTo>
                <a:close/>
              </a:path>
            </a:pathLst>
          </a:custGeom>
          <a:solidFill>
            <a:srgbClr val="7a7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6680"/>
            <a:ext cx="9144000" cy="108000"/>
          </a:xfrm>
          <a:prstGeom prst="rect">
            <a:avLst/>
          </a:prstGeom>
          <a:gradFill rotWithShape="0">
            <a:gsLst>
              <a:gs pos="0">
                <a:srgbClr val="383623"/>
              </a:gs>
              <a:gs pos="100000">
                <a:srgbClr val="7a76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924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sp>
          <p:nvSpPr>
            <p:cNvPr id="47" name=""/>
            <p:cNvSpPr/>
            <p:nvPr/>
          </p:nvSpPr>
          <p:spPr>
            <a:xfrm>
              <a:off x="0" y="3733920"/>
              <a:ext cx="9144000" cy="3124080"/>
            </a:xfrm>
            <a:prstGeom prst="rect">
              <a:avLst/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73392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425211"/>
                </a:gs>
                <a:gs pos="100000">
                  <a:srgbClr val="91b3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477120" y="0"/>
            <a:ext cx="2666880" cy="3276720"/>
          </a:xfrm>
          <a:custGeom>
            <a:avLst/>
            <a:gdLst/>
            <a:ahLst/>
            <a:rect l="l" t="t" r="r" b="b"/>
            <a:pathLst>
              <a:path w="1680" h="2064">
                <a:moveTo>
                  <a:pt x="1680" y="0"/>
                </a:moveTo>
                <a:lnTo>
                  <a:pt x="0" y="2064"/>
                </a:lnTo>
                <a:lnTo>
                  <a:pt x="1680" y="2064"/>
                </a:lnTo>
                <a:lnTo>
                  <a:pt x="1680" y="0"/>
                </a:lnTo>
                <a:close/>
              </a:path>
            </a:pathLst>
          </a:custGeom>
          <a:solidFill>
            <a:srgbClr val="42a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4568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580920" y="6460920"/>
            <a:ext cx="266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7924320" y="646092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6767-8705-425B-BE75-5630C3E3DCE9}" type="slidenum"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2590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71680"/>
            <a:ext cx="6629400" cy="4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1720" y="3255840"/>
            <a:ext cx="3032280" cy="487440"/>
          </a:xfrm>
          <a:custGeom>
            <a:avLst/>
            <a:gdLst/>
            <a:ahLst/>
            <a:rect l="l" t="t" r="r" b="b"/>
            <a:pathLst>
              <a:path w="1910" h="304">
                <a:moveTo>
                  <a:pt x="243" y="0"/>
                </a:moveTo>
                <a:lnTo>
                  <a:pt x="0" y="303"/>
                </a:lnTo>
                <a:lnTo>
                  <a:pt x="1910" y="304"/>
                </a:lnTo>
                <a:lnTo>
                  <a:pt x="1910" y="0"/>
                </a:lnTo>
                <a:lnTo>
                  <a:pt x="243" y="0"/>
                </a:lnTo>
                <a:close/>
              </a:path>
            </a:pathLst>
          </a:custGeom>
          <a:solidFill>
            <a:srgbClr val="7a7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924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健康医院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8600" y="330156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lick to edit Master subtitle style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27" name=""/>
            <p:cNvSpPr/>
            <p:nvPr/>
          </p:nvSpPr>
          <p:spPr>
            <a:xfrm flipH="1" rot="16200000">
              <a:off x="2809440" y="32472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d6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rot="5400000">
              <a:off x="5680440" y="31928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d6"/>
                </a:gs>
                <a:gs pos="100000">
                  <a:srgbClr val="ffff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d6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63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52361b"/>
                </a:gs>
                <a:gs pos="50000">
                  <a:srgbClr val="996633"/>
                </a:gs>
                <a:gs pos="100000">
                  <a:srgbClr val="52361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245"/>
                </a:gs>
                <a:gs pos="50000">
                  <a:srgbClr val="36b297"/>
                </a:gs>
                <a:gs pos="100000">
                  <a:srgbClr val="1852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245"/>
                </a:gs>
                <a:gs pos="50000">
                  <a:srgbClr val="36b297"/>
                </a:gs>
                <a:gs pos="100000">
                  <a:srgbClr val="1852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245"/>
                </a:gs>
                <a:gs pos="50000">
                  <a:srgbClr val="36b297"/>
                </a:gs>
                <a:gs pos="100000">
                  <a:srgbClr val="1852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a58"/>
                </a:gs>
                <a:gs pos="50000">
                  <a:srgbClr val="42a2c0"/>
                </a:gs>
                <a:gs pos="100000">
                  <a:srgbClr val="1e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a58"/>
                </a:gs>
                <a:gs pos="50000">
                  <a:srgbClr val="42a2c0"/>
                </a:gs>
                <a:gs pos="100000">
                  <a:srgbClr val="1e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a58"/>
                </a:gs>
                <a:gs pos="50000">
                  <a:srgbClr val="42a2c0"/>
                </a:gs>
                <a:gs pos="100000">
                  <a:srgbClr val="1e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2f17"/>
                </a:gs>
                <a:gs pos="5000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52" name="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solidFill>
            <a:srgbClr val="ffff99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1b325"/>
              </a:gs>
              <a:gs pos="100000">
                <a:srgbClr val="42521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b297"/>
              </a:gs>
              <a:gs pos="100000">
                <a:srgbClr val="18524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286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63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663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52361b"/>
                </a:gs>
                <a:gs pos="50000">
                  <a:srgbClr val="996633"/>
                </a:gs>
                <a:gs pos="100000">
                  <a:srgbClr val="52361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6633">
                    <a:alpha val="0"/>
                  </a:srgbClr>
                </a:gs>
                <a:gs pos="100000">
                  <a:srgbClr val="6040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1b32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1b32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e6013"/>
                </a:gs>
                <a:gs pos="50000">
                  <a:srgbClr val="91b325"/>
                </a:gs>
                <a:gs pos="100000">
                  <a:srgbClr val="4e601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1b325">
                    <a:alpha val="0"/>
                  </a:srgbClr>
                </a:gs>
                <a:gs pos="100000">
                  <a:srgbClr val="5b71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299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2a2c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1e4a58"/>
                </a:gs>
                <a:gs pos="100000">
                  <a:srgbClr val="42a2c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35767"/>
                </a:gs>
                <a:gs pos="50000">
                  <a:srgbClr val="42a2c0"/>
                </a:gs>
                <a:gs pos="100000">
                  <a:srgbClr val="2357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2a2c0">
                    <a:alpha val="0"/>
                  </a:srgbClr>
                </a:gs>
                <a:gs pos="100000">
                  <a:srgbClr val="2966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09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14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066680" y="1498680"/>
            <a:ext cx="7010280" cy="4521240"/>
            <a:chOff x="1066680" y="1498680"/>
            <a:chExt cx="7010280" cy="4521240"/>
          </a:xfrm>
        </p:grpSpPr>
        <p:sp>
          <p:nvSpPr>
            <p:cNvPr id="326" name=""/>
            <p:cNvSpPr/>
            <p:nvPr/>
          </p:nvSpPr>
          <p:spPr>
            <a:xfrm>
              <a:off x="1066680" y="19814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42a2c0"/>
                </a:gs>
                <a:gs pos="100000">
                  <a:srgbClr val="36b297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6236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14520" y="3708360"/>
              <a:ext cx="1704960" cy="2028960"/>
              <a:chOff x="3314520" y="3708360"/>
              <a:chExt cx="1704960" cy="2028960"/>
            </a:xfrm>
          </p:grpSpPr>
          <p:sp>
            <p:nvSpPr>
              <p:cNvPr id="329" name=""/>
              <p:cNvSpPr/>
              <p:nvPr/>
            </p:nvSpPr>
            <p:spPr>
              <a:xfrm rot="20876400">
                <a:off x="3382920" y="49276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14520" y="37083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35040" y="37177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52680" y="37339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444840" y="37782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32120" y="43354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477800" y="3327480"/>
              <a:ext cx="1371240" cy="1718640"/>
              <a:chOff x="1477800" y="3327480"/>
              <a:chExt cx="1371240" cy="1718640"/>
            </a:xfrm>
          </p:grpSpPr>
          <p:sp>
            <p:nvSpPr>
              <p:cNvPr id="336" name=""/>
              <p:cNvSpPr/>
              <p:nvPr/>
            </p:nvSpPr>
            <p:spPr>
              <a:xfrm rot="20826600">
                <a:off x="1554120" y="43178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1477800" y="3327480"/>
                <a:ext cx="1371240" cy="1441080"/>
                <a:chOff x="1477800" y="3327480"/>
                <a:chExt cx="1371240" cy="14410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477800" y="33274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495800" y="33357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508760" y="33490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580400" y="33858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58240" y="38336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1218960" y="1955880"/>
              <a:ext cx="1100160" cy="1139760"/>
              <a:chOff x="1218960" y="1955880"/>
              <a:chExt cx="1100160" cy="1139760"/>
            </a:xfrm>
          </p:grpSpPr>
          <p:sp>
            <p:nvSpPr>
              <p:cNvPr id="344" name=""/>
              <p:cNvSpPr/>
              <p:nvPr/>
            </p:nvSpPr>
            <p:spPr>
              <a:xfrm>
                <a:off x="1218960" y="256248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95280" y="195588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07880" y="19605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19040" y="19717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73040" y="19972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92200" y="23050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514600" y="1498680"/>
              <a:ext cx="804240" cy="762120"/>
              <a:chOff x="2514600" y="1498680"/>
              <a:chExt cx="804240" cy="762120"/>
            </a:xfrm>
          </p:grpSpPr>
          <p:sp>
            <p:nvSpPr>
              <p:cNvPr id="351" name=""/>
              <p:cNvSpPr/>
              <p:nvPr/>
            </p:nvSpPr>
            <p:spPr>
              <a:xfrm>
                <a:off x="2514600" y="203220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636640" y="149868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46000" y="15019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52480" y="150804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688840" y="15271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06840" y="17226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914760" y="1905120"/>
            <a:ext cx="7282440" cy="3770280"/>
            <a:chOff x="914760" y="1905120"/>
            <a:chExt cx="7282440" cy="3770280"/>
          </a:xfrm>
        </p:grpSpPr>
        <p:sp>
          <p:nvSpPr>
            <p:cNvPr id="359" name=""/>
            <p:cNvSpPr/>
            <p:nvPr/>
          </p:nvSpPr>
          <p:spPr>
            <a:xfrm rot="17973000">
              <a:off x="4723560" y="26103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3465600">
              <a:off x="4773960" y="4720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4368800">
              <a:off x="3555000" y="2632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7534800">
              <a:off x="3516840" y="46872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56080" y="368784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0800000">
              <a:off x="2945880" y="368100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66880" y="193068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18240" y="19051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29160" y="19051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32640" y="36576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18240" y="5257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4760" y="36576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52840" y="5195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23960" y="3708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d8cb"/>
                </a:gs>
                <a:gs pos="100000">
                  <a:srgbClr val="36b29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38360" y="205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d8cb"/>
                </a:gs>
                <a:gs pos="100000">
                  <a:srgbClr val="36b29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3480" y="205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d8cb"/>
                </a:gs>
                <a:gs pos="100000">
                  <a:srgbClr val="36b29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62400" y="5257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cd8cb"/>
                </a:gs>
                <a:gs pos="100000">
                  <a:srgbClr val="36b29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43480" y="5257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d8cb"/>
                </a:gs>
                <a:gs pos="100000">
                  <a:srgbClr val="36b29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57880" y="3695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d8cb"/>
                </a:gs>
                <a:gs pos="100000">
                  <a:srgbClr val="36b29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06920" y="29606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1b32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06920" y="29606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1b32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17800" y="30704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e6013"/>
                </a:gs>
                <a:gs pos="50000">
                  <a:srgbClr val="91b325"/>
                </a:gs>
                <a:gs pos="100000">
                  <a:srgbClr val="4e601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19600" y="307368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1b325">
                    <a:alpha val="0"/>
                  </a:srgbClr>
                </a:gs>
                <a:gs pos="100000">
                  <a:srgbClr val="5b71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2320" y="314496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3913200" y="3164040"/>
              <a:ext cx="1290600" cy="1278000"/>
              <a:chOff x="3913200" y="3164040"/>
              <a:chExt cx="1290600" cy="1278000"/>
            </a:xfrm>
          </p:grpSpPr>
          <p:sp>
            <p:nvSpPr>
              <p:cNvPr id="384" name=""/>
              <p:cNvSpPr/>
              <p:nvPr/>
            </p:nvSpPr>
            <p:spPr>
              <a:xfrm>
                <a:off x="3913200" y="31640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9760" y="31708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834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012920" y="32158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4176360" y="3637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168560" y="2039760"/>
            <a:ext cx="2163600" cy="3165480"/>
            <a:chOff x="1168560" y="2039760"/>
            <a:chExt cx="2163600" cy="3165480"/>
          </a:xfrm>
        </p:grpSpPr>
        <p:sp>
          <p:nvSpPr>
            <p:cNvPr id="391" name=""/>
            <p:cNvSpPr/>
            <p:nvPr/>
          </p:nvSpPr>
          <p:spPr>
            <a:xfrm>
              <a:off x="11685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204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1932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/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1932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913040" y="2039760"/>
              <a:ext cx="642960" cy="642960"/>
              <a:chOff x="1913040" y="2039760"/>
              <a:chExt cx="642960" cy="642960"/>
            </a:xfrm>
          </p:grpSpPr>
          <p:sp>
            <p:nvSpPr>
              <p:cNvPr id="396" name=""/>
              <p:cNvSpPr/>
              <p:nvPr/>
            </p:nvSpPr>
            <p:spPr>
              <a:xfrm>
                <a:off x="191304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1952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2744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3392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6776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205308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4488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892840" y="2039760"/>
            <a:ext cx="2163600" cy="3165480"/>
            <a:chOff x="5892840" y="2039760"/>
            <a:chExt cx="2163600" cy="3165480"/>
          </a:xfrm>
        </p:grpSpPr>
        <p:sp>
          <p:nvSpPr>
            <p:cNvPr id="404" name=""/>
            <p:cNvSpPr/>
            <p:nvPr/>
          </p:nvSpPr>
          <p:spPr>
            <a:xfrm>
              <a:off x="58928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263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36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436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6637320" y="2039760"/>
              <a:ext cx="642960" cy="642960"/>
              <a:chOff x="6637320" y="2039760"/>
              <a:chExt cx="642960" cy="642960"/>
            </a:xfrm>
          </p:grpSpPr>
          <p:sp>
            <p:nvSpPr>
              <p:cNvPr id="409" name=""/>
              <p:cNvSpPr/>
              <p:nvPr/>
            </p:nvSpPr>
            <p:spPr>
              <a:xfrm>
                <a:off x="663732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4380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5172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5820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9204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67773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691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530520" y="2039760"/>
            <a:ext cx="2163600" cy="3165480"/>
            <a:chOff x="3530520" y="2039760"/>
            <a:chExt cx="2163600" cy="3165480"/>
          </a:xfrm>
        </p:grpSpPr>
        <p:sp>
          <p:nvSpPr>
            <p:cNvPr id="417" name=""/>
            <p:cNvSpPr/>
            <p:nvPr/>
          </p:nvSpPr>
          <p:spPr>
            <a:xfrm>
              <a:off x="3530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6400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8128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128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75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8148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8940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9552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3080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1504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0684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430" name="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96720" y="2292480"/>
              <a:ext cx="2183040" cy="3600720"/>
              <a:chOff x="396720" y="2292480"/>
              <a:chExt cx="2183040" cy="360072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873720" y="3211560"/>
                <a:ext cx="1706040" cy="2681640"/>
                <a:chOff x="873720" y="3211560"/>
                <a:chExt cx="1706040" cy="2681640"/>
              </a:xfrm>
            </p:grpSpPr>
            <p:grpSp>
              <p:nvGrpSpPr>
                <p:cNvPr id="434" name=""/>
                <p:cNvGrpSpPr/>
                <p:nvPr/>
              </p:nvGrpSpPr>
              <p:grpSpPr>
                <a:xfrm>
                  <a:off x="873720" y="3390480"/>
                  <a:ext cx="1578600" cy="2502720"/>
                  <a:chOff x="873720" y="3390480"/>
                  <a:chExt cx="1578600" cy="25027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rot="3876600">
                    <a:off x="41004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3876600">
                    <a:off x="191592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1368360" y="3211560"/>
                  <a:ext cx="1211400" cy="1920240"/>
                  <a:chOff x="1368360" y="3211560"/>
                  <a:chExt cx="1211400" cy="192024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V="1" rot="3876600">
                    <a:off x="101268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 rot="3876600">
                    <a:off x="215064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0" name=""/>
              <p:cNvGrpSpPr/>
              <p:nvPr/>
            </p:nvGrpSpPr>
            <p:grpSpPr>
              <a:xfrm>
                <a:off x="396720" y="2292480"/>
                <a:ext cx="1441800" cy="1440720"/>
                <a:chOff x="396720" y="2292480"/>
                <a:chExt cx="1441800" cy="14407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9212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9212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5404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571320" y="2467080"/>
                  <a:ext cx="1092240" cy="1092960"/>
                  <a:chOff x="571320" y="2467080"/>
                  <a:chExt cx="1092240" cy="10929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57132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8536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9652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65592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1" name=""/>
              <p:cNvSpPr/>
              <p:nvPr/>
            </p:nvSpPr>
            <p:spPr>
              <a:xfrm rot="3925800">
                <a:off x="89784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3925800">
                <a:off x="14018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379600" y="2292480"/>
              <a:ext cx="2183040" cy="3600720"/>
              <a:chOff x="2379600" y="2292480"/>
              <a:chExt cx="2183040" cy="360072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2856600" y="3211560"/>
                <a:ext cx="1706040" cy="2681640"/>
                <a:chOff x="2856600" y="3211560"/>
                <a:chExt cx="1706040" cy="2681640"/>
              </a:xfrm>
            </p:grpSpPr>
            <p:grpSp>
              <p:nvGrpSpPr>
                <p:cNvPr id="455" name=""/>
                <p:cNvGrpSpPr/>
                <p:nvPr/>
              </p:nvGrpSpPr>
              <p:grpSpPr>
                <a:xfrm>
                  <a:off x="2856600" y="3390480"/>
                  <a:ext cx="1578600" cy="2502720"/>
                  <a:chOff x="2856600" y="3390480"/>
                  <a:chExt cx="1578600" cy="25027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3876600">
                    <a:off x="239292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3876600">
                    <a:off x="389880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3351240" y="3211560"/>
                  <a:ext cx="1211400" cy="1920240"/>
                  <a:chOff x="3351240" y="3211560"/>
                  <a:chExt cx="1211400" cy="19202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V="1" rot="3876600">
                    <a:off x="299556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V="1" rot="3876600">
                    <a:off x="413352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2379600" y="2292480"/>
                <a:ext cx="1441800" cy="1440720"/>
                <a:chOff x="2379600" y="2292480"/>
                <a:chExt cx="1441800" cy="14407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47500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47500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53692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"/>
                <p:cNvGrpSpPr/>
                <p:nvPr/>
              </p:nvGrpSpPr>
              <p:grpSpPr>
                <a:xfrm>
                  <a:off x="2554200" y="2467080"/>
                  <a:ext cx="1092240" cy="1092960"/>
                  <a:chOff x="2554200" y="2467080"/>
                  <a:chExt cx="1092240" cy="109296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255420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56824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57940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63880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2" name=""/>
              <p:cNvSpPr/>
              <p:nvPr/>
            </p:nvSpPr>
            <p:spPr>
              <a:xfrm rot="3925800">
                <a:off x="28749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3925800">
                <a:off x="33782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427640" y="2292480"/>
              <a:ext cx="2182680" cy="3600720"/>
              <a:chOff x="4427640" y="2292480"/>
              <a:chExt cx="2182680" cy="360072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4904280" y="3211560"/>
                <a:ext cx="1706040" cy="2681640"/>
                <a:chOff x="4904280" y="3211560"/>
                <a:chExt cx="1706040" cy="2681640"/>
              </a:xfrm>
            </p:grpSpPr>
            <p:grpSp>
              <p:nvGrpSpPr>
                <p:cNvPr id="476" name=""/>
                <p:cNvGrpSpPr/>
                <p:nvPr/>
              </p:nvGrpSpPr>
              <p:grpSpPr>
                <a:xfrm>
                  <a:off x="4904280" y="3390480"/>
                  <a:ext cx="1578600" cy="2502720"/>
                  <a:chOff x="4904280" y="3390480"/>
                  <a:chExt cx="1578600" cy="250272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3876600">
                    <a:off x="444060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3876600">
                    <a:off x="594648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398920" y="3211560"/>
                  <a:ext cx="1211400" cy="1920240"/>
                  <a:chOff x="5398920" y="3211560"/>
                  <a:chExt cx="1211400" cy="192024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V="1" rot="3876600">
                    <a:off x="504324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V="1" rot="3876600">
                    <a:off x="618120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"/>
              <p:cNvGrpSpPr/>
              <p:nvPr/>
            </p:nvGrpSpPr>
            <p:grpSpPr>
              <a:xfrm>
                <a:off x="4427640" y="2292480"/>
                <a:ext cx="1441440" cy="1440720"/>
                <a:chOff x="4427640" y="2292480"/>
                <a:chExt cx="1441440" cy="14407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523040" y="23860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523040" y="23893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584960" y="24498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4602240" y="2467080"/>
                  <a:ext cx="1091880" cy="1092960"/>
                  <a:chOff x="4602240" y="2467080"/>
                  <a:chExt cx="1091880" cy="10929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4602240" y="24670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4616280" y="24732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4627440" y="24836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4686840" y="25113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3" name=""/>
              <p:cNvSpPr/>
              <p:nvPr/>
            </p:nvSpPr>
            <p:spPr>
              <a:xfrm rot="3925800">
                <a:off x="493200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3925800">
                <a:off x="54356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442200" y="2133720"/>
              <a:ext cx="2399760" cy="3832560"/>
              <a:chOff x="6442200" y="2133720"/>
              <a:chExt cx="2399760" cy="383256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7136280" y="3284640"/>
                <a:ext cx="1705680" cy="2681640"/>
                <a:chOff x="7136280" y="3284640"/>
                <a:chExt cx="1705680" cy="2681640"/>
              </a:xfrm>
            </p:grpSpPr>
            <p:grpSp>
              <p:nvGrpSpPr>
                <p:cNvPr id="497" name=""/>
                <p:cNvGrpSpPr/>
                <p:nvPr/>
              </p:nvGrpSpPr>
              <p:grpSpPr>
                <a:xfrm>
                  <a:off x="7136280" y="3463560"/>
                  <a:ext cx="1578600" cy="2502720"/>
                  <a:chOff x="7136280" y="3463560"/>
                  <a:chExt cx="1578600" cy="250272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rot="3876600">
                    <a:off x="6672600" y="443556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3876600">
                    <a:off x="8178480" y="54043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7630560" y="3284640"/>
                  <a:ext cx="1211400" cy="1920240"/>
                  <a:chOff x="7630560" y="3284640"/>
                  <a:chExt cx="1211400" cy="192024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V="1" rot="3876600">
                    <a:off x="7274880" y="403056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V="1" rot="3876600">
                    <a:off x="8412840" y="4782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3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8120" y="22464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59560" y="22496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32640" y="23227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6653160" y="2343240"/>
                <a:ext cx="1312920" cy="1310400"/>
                <a:chOff x="6653160" y="2343240"/>
                <a:chExt cx="1312920" cy="13104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653160" y="23432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669720" y="23504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683400" y="23630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754680" y="23965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 rot="3925800">
                <a:off x="7147080" y="43966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3925800">
                <a:off x="7649640" y="4105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19" name=""/>
            <p:cNvCxnSpPr>
              <a:stCxn id="515" idx="3"/>
              <a:endCxn id="516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16" idx="3"/>
              <a:endCxn id="517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7" idx="3"/>
              <a:endCxn id="518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52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142280" y="1173600"/>
            <a:ext cx="6879600" cy="4804560"/>
            <a:chOff x="1142280" y="1173600"/>
            <a:chExt cx="6879600" cy="4804560"/>
          </a:xfrm>
        </p:grpSpPr>
        <p:sp>
          <p:nvSpPr>
            <p:cNvPr id="525" name="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0000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154116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601600">
              <a:off x="145548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rot="20602200">
              <a:off x="143352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01600">
              <a:off x="146520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rot="20602200">
              <a:off x="144756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539200">
              <a:off x="145980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2420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7a764c"/>
                </a:gs>
                <a:gs pos="100000">
                  <a:srgbClr val="24231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6633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6b29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2a2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42a2c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36b29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996633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b297"/>
                </a:gs>
                <a:gs pos="100000">
                  <a:srgbClr val="d3ede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36b29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1b325"/>
                </a:gs>
                <a:gs pos="100000">
                  <a:srgbClr val="dfe9c2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91b32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b297"/>
                </a:gs>
                <a:gs pos="100000">
                  <a:srgbClr val="d3ede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6b29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1b325"/>
                </a:gs>
                <a:gs pos="100000">
                  <a:srgbClr val="e6edd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1b32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5383-4856-48B7-9CAE-B9C36707F6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924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762120" y="28195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42a2c0"/>
                    </a:gs>
                  </a:gsLst>
                  <a:lin ang="10800000"/>
                </a:gradFill>
                <a:effectLst>
                  <a:outerShdw dist="91658" dir="3382340" blurRad="0" rotWithShape="0">
                    <a:srgbClr val="080808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42a2c0"/>
                  </a:gs>
                </a:gsLst>
                <a:lin ang="10800000"/>
              </a:gradFill>
              <a:effectLst>
                <a:outerShdw dist="91658" dir="338234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28600" y="330156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74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ffff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ffff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ffff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ffff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579132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43000" y="3200400"/>
            <a:ext cx="2286000" cy="2666880"/>
            <a:chOff x="1143000" y="3200400"/>
            <a:chExt cx="2286000" cy="2666880"/>
          </a:xfrm>
        </p:grpSpPr>
        <p:sp>
          <p:nvSpPr>
            <p:cNvPr id="123" name=""/>
            <p:cNvSpPr/>
            <p:nvPr/>
          </p:nvSpPr>
          <p:spPr>
            <a:xfrm>
              <a:off x="114300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e2"/>
                </a:gs>
              </a:gsLst>
              <a:lin ang="5400000"/>
            </a:gra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38400" y="34005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cdbd"/>
              </a:gs>
              <a:gs pos="100000">
                <a:srgbClr val="9966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27" name="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3118"/>
                    </a:gs>
                    <a:gs pos="100000">
                      <a:srgbClr val="99663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d0baa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2a2c0"/>
                  </a:gs>
                  <a:gs pos="100000">
                    <a:srgbClr val="1e4a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cdde8"/>
                  </a:gs>
                  <a:gs pos="100000">
                    <a:srgbClr val="42a2c0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2a2c0">
                      <a:alpha val="48235"/>
                    </a:srgbClr>
                  </a:gs>
                  <a:gs pos="100000">
                    <a:srgbClr val="347f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2a2c0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562720" y="3200400"/>
            <a:ext cx="2286000" cy="2666880"/>
            <a:chOff x="5562720" y="3200400"/>
            <a:chExt cx="2286000" cy="2666880"/>
          </a:xfrm>
        </p:grpSpPr>
        <p:sp>
          <p:nvSpPr>
            <p:cNvPr id="137" name=""/>
            <p:cNvSpPr/>
            <p:nvPr/>
          </p:nvSpPr>
          <p:spPr>
            <a:xfrm>
              <a:off x="556272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fee2"/>
                </a:gs>
              </a:gsLst>
              <a:lin ang="5400000"/>
            </a:gra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5000" y="33814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2e0ea"/>
              </a:gs>
              <a:gs pos="100000">
                <a:srgbClr val="42a2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5600" y="1479600"/>
            <a:ext cx="7932240" cy="5225040"/>
            <a:chOff x="615600" y="1479600"/>
            <a:chExt cx="7932240" cy="5225040"/>
          </a:xfrm>
        </p:grpSpPr>
        <p:sp>
          <p:nvSpPr>
            <p:cNvPr id="142" name=""/>
            <p:cNvSpPr/>
            <p:nvPr/>
          </p:nvSpPr>
          <p:spPr>
            <a:xfrm rot="20241600">
              <a:off x="1236600" y="26902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36b297"/>
                </a:gs>
                <a:gs pos="100000">
                  <a:srgbClr val="ebf6f4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4572000" y="2666520"/>
              <a:ext cx="1066680" cy="30420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7467480" y="2895120"/>
              <a:ext cx="1067040" cy="30420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2971800" y="5866920"/>
              <a:ext cx="1066680" cy="30420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5714640" y="5257080"/>
              <a:ext cx="1066680" cy="30456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056200">
              <a:off x="2057040" y="4190400"/>
              <a:ext cx="1066680" cy="304560"/>
            </a:xfrm>
            <a:prstGeom prst="ellipse">
              <a:avLst/>
            </a:prstGeom>
            <a:solidFill>
              <a:srgbClr val="080808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8640" y="18284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7a764c"/>
                </a:gs>
                <a:gs pos="100000">
                  <a:srgbClr val="2928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54040" y="33526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42a2c0"/>
                </a:gs>
                <a:gs pos="100000">
                  <a:srgbClr val="1432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36760" y="50497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36b297"/>
                </a:gs>
                <a:gs pos="100000">
                  <a:srgbClr val="133f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1640" y="44193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02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40440" y="20570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91b325"/>
                </a:gs>
                <a:gs pos="100000">
                  <a:srgbClr val="313d0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23320" y="3809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7760" y="2285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41400" y="2563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50760" y="4876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29800" y="5500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7760" y="38145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31960" y="21157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0" name=""/>
            <p:cNvCxnSpPr/>
            <p:nvPr/>
          </p:nvCxnSpPr>
          <p:spPr>
            <a:xfrm flipH="1">
              <a:off x="615600" y="21153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741600" y="1676520"/>
              <a:ext cx="178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65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71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177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184" name="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185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296679"/>
                  </a:gs>
                  <a:gs pos="100000">
                    <a:srgbClr val="42a2c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a2dbce"/>
                  </a:gs>
                  <a:gs pos="100000">
                    <a:srgbClr val="36b29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c9af95"/>
                  </a:gs>
                  <a:gs pos="100000">
                    <a:srgbClr val="996633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425211"/>
                  </a:gs>
                  <a:gs pos="100000">
                    <a:srgbClr val="91b325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143000" y="1752480"/>
            <a:ext cx="7086600" cy="3833640"/>
            <a:chOff x="1143000" y="1752480"/>
            <a:chExt cx="7086600" cy="3833640"/>
          </a:xfrm>
        </p:grpSpPr>
        <p:sp>
          <p:nvSpPr>
            <p:cNvPr id="195" name=""/>
            <p:cNvSpPr/>
            <p:nvPr/>
          </p:nvSpPr>
          <p:spPr>
            <a:xfrm>
              <a:off x="1143000" y="17524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185245"/>
                </a:gs>
                <a:gs pos="50000">
                  <a:srgbClr val="36b297"/>
                </a:gs>
                <a:gs pos="100000">
                  <a:srgbClr val="1852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479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42a2c0"/>
                </a:gs>
                <a:gs pos="100000">
                  <a:srgbClr val="93c9d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527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f2"/>
                </a:gs>
                <a:gs pos="100000">
                  <a:srgbClr val="99663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832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8"/>
                </a:gs>
                <a:gs pos="100000">
                  <a:srgbClr val="ffff9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496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f2"/>
                </a:gs>
                <a:gs pos="100000">
                  <a:srgbClr val="99663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83200" y="4065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8"/>
                </a:gs>
                <a:gs pos="100000">
                  <a:srgbClr val="ffff9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27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f2"/>
                </a:gs>
                <a:gs pos="100000">
                  <a:srgbClr val="99663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7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23"/>
            </a:gs>
            <a:gs pos="100000">
              <a:srgbClr val="7a76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05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06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21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8:26:5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07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