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BD5E-E480-4D9B-AB27-F1797A4E3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9ADB-350A-426C-A84B-74B3836600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26240-F77A-47F2-A995-585DD82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57348-C686-412D-AE82-421DF3DD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0E6C2-8FA9-4A6D-9A81-3A6FF89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1687D-CFBE-4881-B317-C06D293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6C37E-61D0-481F-AE58-EEDDC19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520B8-B85C-4C72-B950-0D64205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A63C7-0BB0-45B5-865A-367E00D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86231-90F4-451E-83D7-E1EF9EA1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BB71A-076B-4552-A953-3407C5DE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B8D23-F62B-4BFD-898D-A8211D91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7323-0EF5-4174-8076-FCB863000F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2438B-170E-4C8C-8F00-BBEFCB9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8FABD-1CAC-421E-9742-DA65C0E9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18BBA-D066-4E8B-889D-69A08AF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A75CB-2C41-4A06-B3C7-D23C621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CA049-E2B8-468C-987F-CFC4D38A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D0449-F363-4369-AF99-1FD89A4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834DD-43C5-4DC8-8787-F65B27B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547C8-DF0B-4E7E-8178-02EB2BB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FE00B-E36C-4761-AB6F-4E4D9EA6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4C840-1270-4BE6-A735-F5673E9A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4885-FD2F-4479-81F0-068965FBA1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E8C88-4017-45B8-9F73-9D1BF060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1A2EA-2E62-4A33-A720-E17DB6CA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57F4D-F3BD-4037-809E-C3A4D18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E25A1-0C71-4A7D-8A2B-FC20DFCC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6A8A3-9460-4A8F-84FD-F0E0270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7EF6F-908F-4C08-A9E7-4B8E7BA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159D5-97B6-4151-9439-ED8770D2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CC2F0-3B62-413D-944B-72DA389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B7311-D9BE-4E8C-BAD1-AD788C4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D622C-A58E-49DE-97DE-5A435CF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A93B5-5648-4130-9422-0CDA19C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ADD0E-908B-4F72-A16D-4A56E9AA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66637-EB02-42EE-BFD0-C5EFBF2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63792-C44D-4582-9A53-658B453B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B664A-D692-45DF-8FCB-26E4FEB5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49B2D-F212-442A-B704-7D8BA6F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8390AA-0483-4D05-BB16-451CD40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72BD7-5495-46E5-874E-DED245F9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F8A9A-B736-4E7C-B8D6-CB0D5834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E1559-BF2A-4D74-9359-033E97F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5468C-2B8E-490C-83B4-CDDBB2D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47B7A-3BC5-4A2C-9815-E8C2F08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A1BD6-92D6-4D9B-9A5F-77C265E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10D87-A5A1-4197-8F39-B179F14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946FE-81C9-4D2F-BDC8-09AA1DA4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21C4C-EDD0-4C0F-B838-201A5A03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7C5A2-D2EC-46DC-AC94-04498F1A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92E12-DDEE-4740-A4A4-9E513E3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145EF-4C6E-44B0-A7CC-D67F5F5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32DC1-FA19-4A83-B9E8-2EAD605E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99F49-5CB4-4926-B0C5-3AACE9E2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6E602-C793-4788-9C82-D6F21D7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EB4FC-5E81-42A5-AE36-2A04EAC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8CD68-8A60-45A7-A7F9-508383A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D5AA3-01F0-4197-AB22-31AF6C3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AA603D-6F69-485D-B870-2F9B72BA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3BB36-8BB1-4709-AB19-9E066FD3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3A02A-7E7A-4D5C-BF6D-BBA979DB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886DEA-F296-436C-AAA8-CDF73A7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3C1D1-1746-44E7-9BB4-09A1F1AD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EE53A-3C66-4611-B09E-2CA7FC3B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94EA7A-0B54-4023-B6ED-7432FC4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EE4403-0702-4DFC-A520-FA300566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C5CE57-A4E8-44E3-B843-DC90957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F5F6D-E3EA-4372-83F1-B78D0B1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A0108D-47C3-4788-8C1F-2F4CC5F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C0BDE-1318-4B34-90A9-D406A86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9EAF3C-E283-409D-AD3E-63680452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05AC8-0554-44AC-9995-42892A7E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C4E1E-60A2-4CE7-A997-CA8DF04D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422174-72EF-449A-9EDC-351D2C70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02A68-0832-49DF-A998-DA07EFA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E57E57-3DF0-4561-8C0B-A8A9ABB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19935F-9352-494F-BA78-393B691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E2F62D-D896-4D58-A2C1-9035987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E0A640-0F57-411D-AC0E-AC93418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0C16-E918-444A-8EBC-99DB0C89B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4ACC29-B6AA-440A-B9AF-57C6351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B63ED-1B63-4AEE-B49D-5BCD22A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616F8-1885-4BA5-9DE6-5A2B041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F2A89-B3E4-43F5-9F91-739D9DC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0B4D25-EA35-45A3-8B0E-88E3BB3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730403-DF50-4363-811E-B358BA7C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FE0445-B5A2-4458-BF70-854D2AD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2D6671-C785-40B1-A064-BB709FD6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64FF55-6664-478D-9C71-492FBFE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FB37AE-75F7-48E0-B0AC-E074082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E3A9A-E863-4B93-A764-C3D63CF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D2F601-D8BC-4015-8D9B-EED1AE1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3F953D-91B0-4EC8-965A-5DCFB792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40402F-FB86-4AE7-AAFC-E038B64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6B39BE-FC0C-428A-9551-4B78683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EEF120-7B11-4AE8-938B-7F064F3D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A99ADB-3526-4843-91D3-F8EB2D47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0BEE6-333A-4EB0-9494-4F907B1E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78880-5FAC-4CA8-B40E-0CB321C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3FCA63-BE61-4E94-9BC6-E281F832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5839A-90BD-40B1-9EAA-EDB8E31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BEB445-2F96-452E-93A6-5EEB09D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AD10D-DCD6-4C36-847C-0CBD27F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DC3C1-F722-43A7-9323-CB77C35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2DF66-99A8-49BA-8467-EB8A0E5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5E89CB-43A9-4A18-8F6E-1BAC4D6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8781B-9CAB-4849-AAC3-130CA08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2BECC7-1D78-4FEC-B42D-7B037FE0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3E91F-7C33-41A3-8F20-208E92EA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CFC9DA-7A81-4C9D-86D7-F0AD0D22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13C6BF-991C-4437-A9ED-8FC454E6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073B12-FE84-41D5-A8E1-8424DA8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B5B635-72AA-4A60-B88A-4A9374F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C2152D-BC5C-481D-8D63-7F6F2F8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C9F93C-2F6B-422C-85F9-2715ADD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27C878-FBD9-43D7-93BA-E46EAEAA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262CF7-239D-488A-BF53-8B69F33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08ACDE-48E8-4224-B6CF-139D12F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FF9CF5-D7AD-4BCE-B0A1-C4B25E6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6DC6ED-D7CB-4AA4-A02A-1B645181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240545-2DDA-4603-9347-856607F2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3C75-60E5-42B8-87CD-2784226234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30A2-667F-4EC6-BB94-F9CA174074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C29E-4526-4D56-89A7-71C18FB1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78C8-3CA1-455F-A2ED-2309566148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28615-5EC2-41B6-9349-DEDCCAFD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E1F6E-D986-4B5B-BB57-A3EEF0B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E72F3-CC42-4C2E-A263-5DFEA5BA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8453-6BBC-41FD-AC24-8FCA221D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C6CB2-0CB8-4DE8-B0D0-691120E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17E12-3795-41FC-90D4-73C744C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3077B-A805-464B-83A8-643D19B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8C973-A726-4793-A9FF-B8A7566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33609-5B1D-4A01-9D00-A280A6F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8F4BE-FF23-4082-9A44-C44247E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DE4B-6DC1-4BE4-BD8A-31D9E5A3FA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8FC99-21A6-4F44-8D54-FC7DC91E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C268F-6996-4BFE-A0D4-5B0122A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45FA3-E437-476D-BE3C-D8DBF0A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11F65-7F4C-4CDE-BB7D-49FA6E8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EA6E2-70B7-409E-A711-380D2E8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BF0E8-AF15-4497-826D-2DCB2D58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CDF38-2DDA-4A0F-BCA9-F8363EEF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15E70-76FE-43CF-99AB-28F2EB7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FBCF2-50C9-4B92-B4FA-84B9937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3AEF8-7D2C-4AA0-A3AA-58DD086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19BF-D24F-461A-9066-28F5AE53AB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732DD-7FD7-42D1-8BDF-691BB7F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D2361-453B-42D0-B562-EB63DD8E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6FBB8-3227-40D9-BF62-81B8599C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F7647-84A4-4FE0-805F-A39FF963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1B75B-7D96-400F-A5F0-A6ABA78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C7F1D-8D30-471E-B7B9-0123E47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FDBF4-9956-4853-909A-246C7CFD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F5032-FFD9-441A-B280-346FFD86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6E55A-C658-47E1-9D11-C1C20CA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D045A-0815-4CC4-8396-A9805583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D9DD-5F72-46B1-9DA7-22B90DE7338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029FC-1CA3-4F33-9593-457CE7D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81DF4-A3DF-4DE8-8501-BB4B5E7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B3FB7-18AA-4267-9578-9AF94DF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19F42-D900-4AA7-899C-55625991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AB6C5-3823-4E5C-AE84-9D75ECA5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A627-1F9A-46AF-BE12-8FDF3048E7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6F6E7-D8B6-4D2C-8630-C06B8AD4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1B332-DCCF-4EFD-AB3B-03D0A62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DA0B9-AC47-43D1-A3FD-5B9433E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DF0-7843-40DB-9B7E-DE6BC5D0B60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361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2600" y="711360"/>
              <a:ext cx="67694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2600" y="733680"/>
              <a:ext cx="670140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99320" y="73368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93560" y="749520"/>
              <a:ext cx="12754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79160" y="692280"/>
              <a:ext cx="232668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2600" y="3275280"/>
              <a:ext cx="9092880" cy="1936080"/>
              <a:chOff x="12600" y="3275280"/>
              <a:chExt cx="9092880" cy="193608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2600" y="44971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15480" y="3851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5480" y="3275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12240" y="27831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12240" y="23101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2240" y="1876680"/>
              <a:ext cx="909324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3640" y="153216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2600" y="8272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2240" y="7653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1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AB59-1ED8-498C-AF12-C3022D3317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412" name="未知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 flipH="1">
              <a:off x="12960" y="0"/>
              <a:ext cx="913104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18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9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0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D24-2AED-4ECF-BD4E-179739ADB1CE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LOG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067E-1981-4C9C-966F-207D87CCC8FD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38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LOG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4880" y="269244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1F8-9956-40E4-943A-C34A06B263FC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062-2316-4874-89D7-1F17028D4F4E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EA4-6021-4F49-87AC-47AF8D67F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A28F-F98C-464B-9032-F2C5653043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48E-E42A-4F23-8836-1D6FF3969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lnSpc>
                <a:spcPct val="150000"/>
              </a:lnSpc>
              <a:spcBef>
                <a:spcPts val="400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B32-8191-4189-92FE-74AAC3204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1984cc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3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4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CD9-A723-4B97-BB7F-DE51A653792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16BE-8FA5-4103-BDBF-18FA8D80853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Num" idx="10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057-37C9-4B68-9F51-C460965FC0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2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3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4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D1DC-6C5C-4AE5-B1C5-D2CFE3760C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2160" cy="6877080"/>
          </a:xfrm>
          <a:prstGeom prst="rect">
            <a:avLst/>
          </a:prstGeom>
          <a:ln w="0">
            <a:noFill/>
          </a:ln>
        </p:spPr>
      </p:pic>
      <p:pic>
        <p:nvPicPr>
          <p:cNvPr id="859" name="至上励合 - 咬耳朵" descr="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68436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66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442960" y="1773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99"/>
                </a:solidFill>
                <a:latin typeface="Arial"/>
              </a:rPr>
              <a:t>简历</a:t>
            </a:r>
            <a:r>
              <a:rPr b="0" lang="zh-CN" sz="4000" spc="-1" strike="noStrike">
                <a:solidFill>
                  <a:srgbClr val="6666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666699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2A0DAD-5500-4905-8B51-43D1A69AF256}" type="slidenum">
              <a:t>10</a:t>
            </a:fld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个人概况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文本占位符 2" descr="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865" name="文本占位符 2" descr="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360" y="127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20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16000" y="1054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20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3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2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2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2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2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48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53" dur="3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3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5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5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02" dur="5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3964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24476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3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8" dur="2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3" dur="2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3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3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3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80" dur="5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85" dur="5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90" dur="5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专业能力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：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掌握了工业工程的基本知识，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2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8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08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4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专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3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2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2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2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2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3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2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2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2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2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2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2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2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7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8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3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2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2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2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2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“优秀学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“优秀学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“优秀干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“”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58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