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63C-9495-44EC-96D5-00B72771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070-793B-498E-A560-5F771446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958-8D5B-4784-A5EB-E4EB0D51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EE9-7F11-4B8D-85B0-759616E0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ADCA-EA61-4DED-944D-11576B7F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081F-1086-425A-9783-B6DBC584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3132-2B66-47AF-9496-30983E82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9D88-A3EA-4079-9055-4EE84684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22FD-AA42-46AC-88D4-DDB32514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79A5-84E1-4D96-BC90-D1CFEA5A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AC7A-E6C0-4503-827E-645BB688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BA8-7F81-49AB-8141-925CD6F5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DD8-EFD0-45F0-B8F5-B8154EE8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9FC5-BBA1-459C-AD9D-34D52ED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2C3E-B5AC-4B3D-95B8-AE6B4AF5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5194-05BA-495D-BB34-2CFB8750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0EFE-02ED-4064-9EC4-9CBCCC1B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259-6FCD-491B-AA4A-13E600DD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484-9439-435D-B9E7-D2674ECB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3D1-E22E-4668-BEA0-F746A856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A40-C320-48C9-B948-B60ABD31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692-E80F-405A-8A8E-D739C7E8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046-1FD3-4EB2-9639-662F5BD5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02A-8DDA-436B-AA98-BA3D6C1C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96EE-8EBE-4C9C-B9A7-F5D22564A33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987D-CAC1-493E-B3AC-0263199927F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1989000"/>
            <a:ext cx="6622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Tahoma"/>
                <a:ea typeface="宋体"/>
              </a:rPr>
              <a:t>张某某求职简历</a:t>
            </a:r>
            <a:endParaRPr b="0" lang="en-US" sz="4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76000" y="4005360"/>
            <a:ext cx="25527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宋体"/>
              </a:rPr>
              <a:t>所学专业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宋体"/>
              </a:rPr>
              <a:t>毕业学校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宋体"/>
              </a:rPr>
              <a:t>求职目标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51880" y="11253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简历设计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模板打包下载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76480" y="148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基本信息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89640" y="2492280"/>
            <a:ext cx="276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姓名：                        身高：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籍贯：                         现居住地：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学历：                         毕业时间：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所学专业：                   毕业学校：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联系方式：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24120" y="141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自我评价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24120" y="141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工作经历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4120" y="141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教育背景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661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0458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77920" y="14130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专业技能及相关证书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58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5A3-70FC-4262-ADE4-A6793B529F85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37880" y="2997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致谢</a:t>
            </a:r>
            <a:endParaRPr b="0" lang="en-US" sz="4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59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