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80F-2470-4116-944D-68510BD2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A10-B990-4764-B4BA-45B2C88C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E02-4DF6-482F-BDC2-B274B25F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32672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17704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7676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732672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17704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448-B06A-40DF-A7F3-947E3D66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E933-2CAE-4830-9BD4-F1DE1230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A926-A5D4-4095-A25D-D767A85E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B01-A056-4B08-9D30-4808495F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40F0-526E-4081-BF37-A5BCA5D0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4909-AEB5-4A3D-8885-45F59A6E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30DB-578B-4CED-B083-97CE8148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1A84-A0C2-4A09-B2DE-B3F4FB03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EC5-8240-4681-B00A-949A4A1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A163-72C8-4236-9FCB-C84F5B7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0A9C-F432-48F0-979A-52B97E20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9EF4-C72E-40BE-AB15-FC735F5F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4791-AD5F-4C02-96D4-6264BD6E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32672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177040" y="350532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47676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732672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177040" y="3704400"/>
            <a:ext cx="809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5CFD-98A9-4DF6-9406-A341FF9C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6E3-F300-44AE-A7FE-8DCC108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EC7-F02E-4F3A-904E-F2B7DD8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A3F-01C8-4C53-B071-43726B49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6F9-7B2B-47B0-AFC1-D30588C7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D70-EDCA-48D2-A79B-9F546BA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65200" y="370440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1E4-9CA3-4E22-8B0C-34C1163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76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65200" y="3505320"/>
            <a:ext cx="1226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76760" y="3704400"/>
            <a:ext cx="2514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DEF-B4A3-41EF-A6E3-769F26B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gradFill rotWithShape="0">
            <a:gsLst>
              <a:gs pos="0">
                <a:srgbClr val="003b3b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444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A28F-5119-4BA9-9705-175733E0B8F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2887400">
            <a:off x="77040" y="357840"/>
            <a:ext cx="1298160" cy="13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19080">
            <a:solidFill>
              <a:srgbClr val="00b4b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457200"/>
            <a:ext cx="1179720" cy="1120680"/>
          </a:xfrm>
          <a:prstGeom prst="donut">
            <a:avLst>
              <a:gd name="adj" fmla="val 12884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3175800">
            <a:off x="144000" y="407880"/>
            <a:ext cx="1168560" cy="1212840"/>
          </a:xfrm>
          <a:prstGeom prst="blockArc">
            <a:avLst>
              <a:gd name="adj1" fmla="val 17510097"/>
              <a:gd name="adj2" fmla="val 14889903"/>
              <a:gd name="adj3" fmla="val 16231"/>
            </a:avLst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44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887400">
            <a:off x="2466000" y="1882080"/>
            <a:ext cx="4128120" cy="409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38160">
            <a:solidFill>
              <a:srgbClr val="00b4b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51040" y="2049480"/>
            <a:ext cx="3745080" cy="3735360"/>
          </a:xfrm>
          <a:prstGeom prst="donut">
            <a:avLst>
              <a:gd name="adj" fmla="val 12884"/>
            </a:avLst>
          </a:prstGeom>
          <a:solidFill>
            <a:srgbClr val="00b4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175800">
            <a:off x="2644920" y="2033640"/>
            <a:ext cx="3760920" cy="3776400"/>
          </a:xfrm>
          <a:prstGeom prst="blockArc">
            <a:avLst>
              <a:gd name="adj1" fmla="val 18013252"/>
              <a:gd name="adj2" fmla="val 14386748"/>
              <a:gd name="adj3" fmla="val 15097"/>
            </a:avLst>
          </a:prstGeom>
          <a:gradFill rotWithShape="0">
            <a:gsLst>
              <a:gs pos="0">
                <a:srgbClr val="008080"/>
              </a:gs>
              <a:gs pos="100000">
                <a:srgbClr val="1e8e8e"/>
              </a:gs>
            </a:gsLst>
            <a:lin ang="7626000"/>
          </a:gradFill>
          <a:ln w="0">
            <a:noFill/>
          </a:ln>
          <a:effectLst>
            <a:outerShdw dist="17819" dir="2700000" blurRad="0" rotWithShape="0">
              <a:srgbClr val="00444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4648320" y="6476760"/>
            <a:ext cx="2666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92432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6AF7-3520-4FC4-9130-6DE93CF81CF6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美耳科医疗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476760" y="3505320"/>
            <a:ext cx="2514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41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efeea"/>
                </a:gs>
                <a:gs pos="100000">
                  <a:srgbClr val="ff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2e2d"/>
                </a:gs>
                <a:gs pos="50000">
                  <a:srgbClr val="006462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2335b"/>
                </a:gs>
                <a:gs pos="50000">
                  <a:srgbClr val="6d6fc7"/>
                </a:gs>
                <a:gs pos="100000">
                  <a:srgbClr val="32335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6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1523880"/>
            <a:ext cx="5943600" cy="4496040"/>
          </a:xfrm>
          <a:prstGeom prst="rightArrow">
            <a:avLst>
              <a:gd name="adj1" fmla="val 79306"/>
              <a:gd name="adj2" fmla="val 32743"/>
            </a:avLst>
          </a:prstGeom>
          <a:solidFill>
            <a:srgbClr val="00808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b4b0"/>
              </a:gs>
              <a:gs pos="100000">
                <a:srgbClr val="00525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d6fc7"/>
              </a:gs>
              <a:gs pos="100000">
                <a:srgbClr val="32335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79132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宋体"/>
              </a:rPr>
              <a:t>– PowerPoint200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300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b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b4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b4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b4b0">
                    <a:alpha val="0"/>
                  </a:srgbClr>
                </a:gs>
                <a:gs pos="100000">
                  <a:srgbClr val="0071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cc0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cc0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26d00"/>
                </a:gs>
                <a:gs pos="50000">
                  <a:srgbClr val="99cc00"/>
                </a:gs>
                <a:gs pos="100000">
                  <a:srgbClr val="526d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9cc00">
                    <a:alpha val="0"/>
                  </a:srgbClr>
                </a:gs>
                <a:gs pos="100000">
                  <a:srgbClr val="6081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13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646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646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3534"/>
                </a:gs>
                <a:gs pos="50000">
                  <a:srgbClr val="006462"/>
                </a:gs>
                <a:gs pos="100000">
                  <a:srgbClr val="0035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06462">
                    <a:alpha val="0"/>
                  </a:srgbClr>
                </a:gs>
                <a:gs pos="100000">
                  <a:srgbClr val="003f3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23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8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40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6462"/>
                </a:gs>
                <a:gs pos="100000">
                  <a:srgbClr val="6d6fc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43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50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65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95840" y="1828800"/>
            <a:ext cx="7282440" cy="3770280"/>
            <a:chOff x="1095840" y="1828800"/>
            <a:chExt cx="7282440" cy="3770280"/>
          </a:xfrm>
        </p:grpSpPr>
        <p:sp>
          <p:nvSpPr>
            <p:cNvPr id="373" name=""/>
            <p:cNvSpPr/>
            <p:nvPr/>
          </p:nvSpPr>
          <p:spPr>
            <a:xfrm rot="17973000">
              <a:off x="490464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465600">
              <a:off x="495504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368800">
              <a:off x="373608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534800">
              <a:off x="369792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3716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0800000">
              <a:off x="312696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ffffcc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4796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9932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10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1372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932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958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3392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0504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1944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245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434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456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3896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2c0c0"/>
                </a:gs>
                <a:gs pos="100000">
                  <a:srgbClr val="0080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880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b4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8296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b4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9888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615e"/>
                </a:gs>
                <a:gs pos="50000">
                  <a:srgbClr val="00b4b0"/>
                </a:gs>
                <a:gs pos="100000">
                  <a:srgbClr val="0061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148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b4b0">
                    <a:alpha val="0"/>
                  </a:srgbClr>
                </a:gs>
                <a:gs pos="100000">
                  <a:srgbClr val="0071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7340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094280" y="3087720"/>
              <a:ext cx="1290600" cy="1278000"/>
              <a:chOff x="4094280" y="3087720"/>
              <a:chExt cx="1290600" cy="12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409428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1084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2416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9400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35744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33200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406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411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419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431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436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pptcn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45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8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0" idx="3"/>
              <a:endCxn id="531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1" idx="3"/>
              <a:endCxn id="532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2" idx="3"/>
              <a:endCxn id="533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Progress 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00b4b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6d6fc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6462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6462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d6fc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00b4b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61928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3-D Pie Char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47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4442"/>
                </a:gs>
                <a:gs pos="100000">
                  <a:srgbClr val="003937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Cont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76520" y="1947960"/>
            <a:ext cx="5410080" cy="664920"/>
            <a:chOff x="1676520" y="1947960"/>
            <a:chExt cx="5410080" cy="664920"/>
          </a:xfrm>
        </p:grpSpPr>
        <p:grpSp>
          <p:nvGrpSpPr>
            <p:cNvPr id="100" name=""/>
            <p:cNvGrpSpPr/>
            <p:nvPr/>
          </p:nvGrpSpPr>
          <p:grpSpPr>
            <a:xfrm>
              <a:off x="1676520" y="1947960"/>
              <a:ext cx="762120" cy="664920"/>
              <a:chOff x="1676520" y="1947960"/>
              <a:chExt cx="762120" cy="664920"/>
            </a:xfrm>
          </p:grpSpPr>
          <p:sp>
            <p:nvSpPr>
              <p:cNvPr id="101" name=""/>
              <p:cNvSpPr/>
              <p:nvPr/>
            </p:nvSpPr>
            <p:spPr>
              <a:xfrm>
                <a:off x="168264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76520" y="1947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20800" y="1987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b4b0"/>
                  </a:gs>
                  <a:gs pos="100000">
                    <a:srgbClr val="0052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286000" y="25570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51360" y="1969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5240" y="204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6520" y="2862360"/>
            <a:ext cx="5410080" cy="664920"/>
            <a:chOff x="1676520" y="2862360"/>
            <a:chExt cx="541008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676520" y="2862360"/>
              <a:ext cx="762120" cy="664920"/>
              <a:chOff x="1676520" y="2862360"/>
              <a:chExt cx="762120" cy="664920"/>
            </a:xfrm>
          </p:grpSpPr>
          <p:sp>
            <p:nvSpPr>
              <p:cNvPr id="109" name=""/>
              <p:cNvSpPr/>
              <p:nvPr/>
            </p:nvSpPr>
            <p:spPr>
              <a:xfrm>
                <a:off x="168264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76520" y="28623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720800" y="29016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286000" y="347148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51360" y="2884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5240" y="296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676520" y="3754440"/>
            <a:ext cx="5410080" cy="665280"/>
            <a:chOff x="1676520" y="3754440"/>
            <a:chExt cx="5410080" cy="665280"/>
          </a:xfrm>
        </p:grpSpPr>
        <p:grpSp>
          <p:nvGrpSpPr>
            <p:cNvPr id="116" name=""/>
            <p:cNvGrpSpPr/>
            <p:nvPr/>
          </p:nvGrpSpPr>
          <p:grpSpPr>
            <a:xfrm>
              <a:off x="1676520" y="3754440"/>
              <a:ext cx="762120" cy="665280"/>
              <a:chOff x="1676520" y="3754440"/>
              <a:chExt cx="762120" cy="665280"/>
            </a:xfrm>
          </p:grpSpPr>
          <p:sp>
            <p:nvSpPr>
              <p:cNvPr id="117" name=""/>
              <p:cNvSpPr/>
              <p:nvPr/>
            </p:nvSpPr>
            <p:spPr>
              <a:xfrm>
                <a:off x="168264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676520" y="3754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20800" y="3793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0b4b0"/>
                  </a:gs>
                  <a:gs pos="100000">
                    <a:srgbClr val="0052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43639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1360" y="3776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5240" y="385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76520" y="4668840"/>
            <a:ext cx="5410080" cy="665280"/>
            <a:chOff x="1676520" y="4668840"/>
            <a:chExt cx="5410080" cy="665280"/>
          </a:xfrm>
        </p:grpSpPr>
        <p:grpSp>
          <p:nvGrpSpPr>
            <p:cNvPr id="124" name=""/>
            <p:cNvGrpSpPr/>
            <p:nvPr/>
          </p:nvGrpSpPr>
          <p:grpSpPr>
            <a:xfrm>
              <a:off x="1676520" y="4668840"/>
              <a:ext cx="762120" cy="665280"/>
              <a:chOff x="1676520" y="4668840"/>
              <a:chExt cx="762120" cy="665280"/>
            </a:xfrm>
          </p:grpSpPr>
          <p:sp>
            <p:nvSpPr>
              <p:cNvPr id="125" name=""/>
              <p:cNvSpPr/>
              <p:nvPr/>
            </p:nvSpPr>
            <p:spPr>
              <a:xfrm>
                <a:off x="168264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76520" y="46688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20800" y="47080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286000" y="5278320"/>
              <a:ext cx="480060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51360" y="46911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75240" y="4767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4b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B68-2B9F-4C83-9988-F9A11A161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648320" y="1650600"/>
            <a:ext cx="39448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905120" y="34290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b4b0"/>
                    </a:gs>
                    <a:gs pos="100000">
                      <a:srgbClr val="008080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004442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b4b0"/>
                  </a:gs>
                  <a:gs pos="100000">
                    <a:srgbClr val="008080"/>
                  </a:gs>
                </a:gsLst>
                <a:lin ang="10800000"/>
              </a:gradFill>
              <a:effectLst>
                <a:outerShdw dist="91658" dir="3382340" blurRad="0" rotWithShape="0">
                  <a:srgbClr val="004442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Hot Ti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30520"/>
            <a:ext cx="769644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fffc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3200400"/>
            <a:ext cx="2286000" cy="2666880"/>
            <a:chOff x="1143000" y="3200400"/>
            <a:chExt cx="2286000" cy="2666880"/>
          </a:xfrm>
        </p:grpSpPr>
        <p:sp>
          <p:nvSpPr>
            <p:cNvPr id="136" name=""/>
            <p:cNvSpPr/>
            <p:nvPr/>
          </p:nvSpPr>
          <p:spPr>
            <a:xfrm>
              <a:off x="114300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f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38400" y="34005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2272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e6e5"/>
              </a:gs>
              <a:gs pos="100000">
                <a:srgbClr val="00b4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40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5755"/>
                    </a:gs>
                    <a:gs pos="100000">
                      <a:srgbClr val="00b4b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4b0"/>
                    </a:gs>
                    <a:gs pos="100000">
                      <a:srgbClr val="8ddcd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6462"/>
                  </a:gs>
                  <a:gs pos="100000">
                    <a:srgbClr val="002e2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c8c7"/>
                  </a:gs>
                  <a:gs pos="100000">
                    <a:srgbClr val="006462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6462">
                      <a:alpha val="48235"/>
                    </a:srgbClr>
                  </a:gs>
                  <a:gs pos="100000">
                    <a:srgbClr val="004e4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6462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62720" y="3200400"/>
            <a:ext cx="2286000" cy="2666880"/>
            <a:chOff x="5562720" y="3200400"/>
            <a:chExt cx="2286000" cy="2666880"/>
          </a:xfrm>
        </p:grpSpPr>
        <p:sp>
          <p:nvSpPr>
            <p:cNvPr id="150" name=""/>
            <p:cNvSpPr/>
            <p:nvPr/>
          </p:nvSpPr>
          <p:spPr>
            <a:xfrm>
              <a:off x="5562720" y="32004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f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3381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4874400" y="31035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cccc"/>
              </a:gs>
              <a:gs pos="100000">
                <a:srgbClr val="0064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6036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5600" y="1479600"/>
            <a:ext cx="7932240" cy="5225040"/>
            <a:chOff x="615600" y="1479600"/>
            <a:chExt cx="7932240" cy="5225040"/>
          </a:xfrm>
        </p:grpSpPr>
        <p:sp>
          <p:nvSpPr>
            <p:cNvPr id="156" name=""/>
            <p:cNvSpPr/>
            <p:nvPr/>
          </p:nvSpPr>
          <p:spPr>
            <a:xfrm rot="20241600">
              <a:off x="1236600" y="26902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4f9e6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4572000" y="2666520"/>
              <a:ext cx="106668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7467480" y="2895120"/>
              <a:ext cx="106704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2971800" y="5866920"/>
              <a:ext cx="1066680" cy="30420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056200">
              <a:off x="5714640" y="5257080"/>
              <a:ext cx="1066680" cy="30456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2057040" y="4190400"/>
              <a:ext cx="1066680" cy="304560"/>
            </a:xfrm>
            <a:prstGeom prst="ellipse">
              <a:avLst/>
            </a:prstGeom>
            <a:solidFill>
              <a:srgbClr val="004442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8640" y="18284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00b4b0"/>
                </a:gs>
                <a:gs pos="100000">
                  <a:srgbClr val="003d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33526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001f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36760" y="50497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6d6fc7"/>
                </a:gs>
                <a:gs pos="100000">
                  <a:srgbClr val="2627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11640" y="44193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b6b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40440" y="20570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4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42400" y="3809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7760" y="22856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41400" y="2563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50760" y="48765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29800" y="5500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7760" y="38145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1960" y="211572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/>
            <p:nvPr/>
          </p:nvCxnSpPr>
          <p:spPr>
            <a:xfrm flipH="1">
              <a:off x="615600" y="211536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5" name=""/>
            <p:cNvSpPr/>
            <p:nvPr/>
          </p:nvSpPr>
          <p:spPr>
            <a:xfrm>
              <a:off x="741600" y="16765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7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8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9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ptc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97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8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003f3e"/>
                  </a:gs>
                  <a:gs pos="100000">
                    <a:srgbClr val="006462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bbbce4"/>
                  </a:gs>
                  <a:gs pos="100000">
                    <a:srgbClr val="6d6fc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7bd7d5"/>
                  </a:gs>
                  <a:gs pos="100000">
                    <a:srgbClr val="00b4b0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465e00"/>
                  </a:gs>
                  <a:gs pos="100000">
                    <a:srgbClr val="99cc00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8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005251"/>
                </a:gs>
                <a:gs pos="50000">
                  <a:srgbClr val="00b4b0"/>
                </a:gs>
                <a:gs pos="100000">
                  <a:srgbClr val="0052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006462"/>
                </a:gs>
                <a:gs pos="100000">
                  <a:srgbClr val="6ea6a5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bef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bef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ff9f9"/>
                </a:gs>
                <a:gs pos="100000">
                  <a:srgbClr val="00b4b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4442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Sloga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4b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宋体"/>
              </a:rPr>
              <a:t>Diagra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9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24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30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22:33:5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3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