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BBB-683C-41C2-88B4-9B35EDBA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642-7EE5-461B-BA0D-5E226840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F41-F444-4101-BDCE-5C11ED58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5B4-E4DF-4F1C-BF11-E4486AC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475C-99B5-4E97-95A6-10BD4676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38F-097E-46DA-82B9-109DEF5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9FF2-8826-4673-A2C0-B90CDEB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0A4-8E30-4E55-9AD1-AA476FAA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00B-271F-4707-AC11-2735351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992-DFD5-4695-8321-80AA1A0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C57-9B8A-41FE-9BEE-4642A37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138-1DF1-4F40-9308-39F517F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A68-8CDB-45D3-BFCF-505D073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D30-C5A2-4F9F-A791-747190B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BA3-DC8B-4916-BEE0-AD2E6EAC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9E36-84FD-435E-AC96-E9EC239D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6F0-7227-40A1-ADB9-1C1A44B8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DC46-587A-40EF-BD37-DF5DF136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4918-98E7-4A84-ACD5-6122B26F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28FF-7163-46C6-9BF3-5F44C51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990C-AE51-4695-BF0F-613CB7D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B8DC-27AB-42FD-976A-06FA5F4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EF7-9B6D-4702-8DB7-7D647A1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3FA1-A334-4589-902A-49A60A4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E010-2DA9-4461-9077-ED0AC9D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3832-E0F3-4367-A235-3EBEFA5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A58C-5E12-4697-8F9D-DA299EC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F8B5-31DE-41E5-85CB-19B498A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7256-0DBC-4EE2-B715-6C426BB2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8354-4021-405A-9515-896CC84B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80B-3E68-41AD-B56B-C67656DB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224-EAF3-4D63-A9E7-27B3994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702-2F3E-4FC5-A282-67D997E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DED-9581-4730-A990-7301DA6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303-CEBC-4264-8D50-FEB9C3B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8B7-3B03-43F4-97F8-08CD3B01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/Documents and Settings/Administrator/桌面/光棍节/未标题-21.jpg未标题-2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0FA-A968-4091-BEB7-4F8E12819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23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964E-9402-424B-B16C-80ED53CA6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CE0-89C5-4FB7-A64A-E3D3710C1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未标题-2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9760" y="333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精美光棍节万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06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D881-57CE-459D-B590-54A779401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25:05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3:29Z</dcterms:modified>
  <cp:revision>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