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26A-0A84-42DA-905F-26E11B34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DDB-E0EF-41B5-9883-B9ADFF80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444-B32F-4A48-83A6-49F631AA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D47-F9DD-4B84-9749-491F2B0F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D45-A285-4938-BB51-74C22747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B68-9E16-4B9B-A0FA-6E0EA785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5B1-24CE-4F28-8413-BE52C00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CBF-2A7F-4993-B022-F93BDF9F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168-EBE4-487A-9A1B-E014EF6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274-4E32-4D0C-A3E3-C724055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983-31CB-40EE-B51D-44A1ED2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7C3-E891-46CB-BD72-EEE01FBD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A81-E135-4CA2-9C95-97640D5C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3098245_155952264180_2"/>
          <p:cNvPicPr/>
          <p:nvPr/>
        </p:nvPicPr>
        <p:blipFill>
          <a:blip r:embed="rId15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55760" y="5335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精美中秋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5200151_02223147639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0C2-7F1B-493B-BD69-A4848453BA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2819520" y="2286000"/>
            <a:ext cx="3657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华文新魏"/>
              </a:rPr>
              <a:t>尊敬的    ：</a:t>
            </a:r>
            <a:endParaRPr b="1" lang="en-US" sz="1800" spc="-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华文新魏"/>
              </a:rPr>
              <a:t>中秋节快乐！</a:t>
            </a:r>
            <a:endParaRPr b="1" lang="en-US" sz="1800" spc="-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华文新魏"/>
              <a:ea typeface="华文新魏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00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3:19:53Z</dcterms:created>
  <dc:creator/>
  <dc:description>www.eeppt.com;</dc:description>
  <cp:keywords>www.eeppt.com</cp:keywords>
  <dc:language>en-US</dc:language>
  <cp:lastModifiedBy>lenovo</cp:lastModifiedBy>
  <dcterms:modified xsi:type="dcterms:W3CDTF">2015-09-18T13:23:29Z</dcterms:modified>
  <cp:revision>1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