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255FC-36C0-4D7D-8B81-75ECCB75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6897B-CF2D-4F19-B250-64A3826C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6CA3F-2CDA-48C0-8085-29D65C3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207D7-B21F-4D30-9A75-3EC3F49E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765E6-3EC9-49B9-AE74-FE9CA6A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AB3EC-9740-4BAD-A12B-B591C7E5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C1329-001C-4305-82EC-3336157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D08D0-4F1A-477E-BC5D-D96BC87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82B69-D18B-4FEC-9B20-4AD7469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7330C-1E81-431D-91E7-BE1B7747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C73E6-CE78-4A88-A69D-91C565BA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9D33C-7B1A-4D37-ABF8-44306C64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1440" y="6514920"/>
            <a:ext cx="3860640" cy="153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9598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9598"/>
                </a:solidFill>
                <a:latin typeface="Arial"/>
                <a:ea typeface="MS PGothic"/>
              </a:rPr>
              <a:t>2013 LENOVO INTERNAL.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455760">
              <a:spcBef>
                <a:spcPts val="10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608040">
              <a:spcBef>
                <a:spcPts val="9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1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611280">
              <a:spcBef>
                <a:spcPts val="67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1220760">
              <a:spcBef>
                <a:spcPts val="675"/>
              </a:spcBef>
              <a:buClr>
                <a:srgbClr val="c00000"/>
              </a:buClr>
              <a:buFont typeface="Wingdings" charset="2"/>
              <a:buChar char=""/>
              <a:tabLst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38280" indent="-12207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38280" indent="-12207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12720" y="274320"/>
            <a:ext cx="109648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12720" y="1598760"/>
            <a:ext cx="10964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612360" y="6244920"/>
            <a:ext cx="283860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1217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1217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4162320" y="6244920"/>
            <a:ext cx="38642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1217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1217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873720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12175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12175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C9B-204C-4A6E-A788-7A82258A84A7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9"/>
          <p:cNvSpPr/>
          <p:nvPr/>
        </p:nvSpPr>
        <p:spPr>
          <a:xfrm>
            <a:off x="0" y="0"/>
            <a:ext cx="12188880" cy="6856560"/>
          </a:xfrm>
          <a:prstGeom prst="rect">
            <a:avLst/>
          </a:prstGeom>
          <a:solidFill>
            <a:srgbClr val="7f7f7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0" descr="title-back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Freeform 50"/>
          <p:cNvSpPr/>
          <p:nvPr/>
        </p:nvSpPr>
        <p:spPr>
          <a:xfrm rot="20340000">
            <a:off x="-931680" y="1196640"/>
            <a:ext cx="13619520" cy="272412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52"/>
          <p:cNvSpPr/>
          <p:nvPr/>
        </p:nvSpPr>
        <p:spPr>
          <a:xfrm rot="20340000">
            <a:off x="2658960" y="3339720"/>
            <a:ext cx="9999720" cy="771480"/>
          </a:xfrm>
          <a:prstGeom prst="pie">
            <a:avLst/>
          </a:prstGeom>
          <a:solidFill>
            <a:srgbClr val="41404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7" descr="Kickoff2013-POS-Color.png"/>
          <p:cNvPicPr/>
          <p:nvPr/>
        </p:nvPicPr>
        <p:blipFill>
          <a:blip r:embed="rId2"/>
          <a:stretch/>
        </p:blipFill>
        <p:spPr>
          <a:xfrm>
            <a:off x="8497800" y="4154400"/>
            <a:ext cx="3326040" cy="2490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 rot="20340000">
            <a:off x="2701440" y="3446280"/>
            <a:ext cx="9514080" cy="7142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路伟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 rot="20340000">
            <a:off x="205920" y="1898280"/>
            <a:ext cx="9793440" cy="1973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zh-CN" sz="5600" spc="-1" strike="noStrike">
                <a:solidFill>
                  <a:srgbClr val="5f5f5f"/>
                </a:solidFill>
                <a:latin typeface="Arial"/>
              </a:rPr>
              <a:t>PD</a:t>
            </a:r>
            <a:r>
              <a:rPr b="1" lang="zh-CN" sz="5600" spc="-1" strike="noStrike">
                <a:solidFill>
                  <a:srgbClr val="5f5f5f"/>
                </a:solidFill>
                <a:latin typeface="Arial"/>
              </a:rPr>
              <a:t>储备员竞聘呈现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0840" y="1197000"/>
            <a:ext cx="689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217520" indent="-1217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竞聘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content-back-withText.jpg"/>
          <p:cNvPicPr/>
          <p:nvPr/>
        </p:nvPicPr>
        <p:blipFill>
          <a:blip r:embed="rId1"/>
          <a:stretch/>
        </p:blipFill>
        <p:spPr>
          <a:xfrm>
            <a:off x="0" y="1440"/>
            <a:ext cx="12188880" cy="68551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 flipH="1">
            <a:off x="205560" y="255600"/>
            <a:ext cx="1198260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"/>
          <p:cNvSpPr/>
          <p:nvPr/>
        </p:nvSpPr>
        <p:spPr>
          <a:xfrm>
            <a:off x="0" y="254160"/>
            <a:ext cx="204840" cy="79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 flipH="1">
            <a:off x="81720" y="6502320"/>
            <a:ext cx="428760" cy="17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8"/>
          <p:cNvSpPr/>
          <p:nvPr/>
        </p:nvSpPr>
        <p:spPr>
          <a:xfrm flipH="1">
            <a:off x="-720" y="6502320"/>
            <a:ext cx="82440" cy="26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1062720" y="6445080"/>
            <a:ext cx="2728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17520" indent="-1217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1" lang="en-US" sz="1600" spc="-1" strike="noStrike" u="sng">
                <a:solidFill>
                  <a:srgbClr val="ec2225"/>
                </a:solidFill>
                <a:uFillTx/>
                <a:latin typeface="Arial"/>
                <a:hlinkClick r:id="rId4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396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01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c222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971244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17520" indent="-12175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1440"/>
            <a:ext cx="12188880" cy="6858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17520" indent="-1217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segue-back.png"/>
          <p:cNvPicPr/>
          <p:nvPr/>
        </p:nvPicPr>
        <p:blipFill>
          <a:blip r:embed="rId1"/>
          <a:stretch/>
        </p:blipFill>
        <p:spPr>
          <a:xfrm>
            <a:off x="0" y="1440"/>
            <a:ext cx="12188880" cy="685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Kathy\Documents\Corporate PPT Template\FINAL\ppt-images\NoTexture_Closing.png"/>
          <p:cNvPicPr/>
          <p:nvPr/>
        </p:nvPicPr>
        <p:blipFill>
          <a:blip r:embed="rId2"/>
          <a:stretch/>
        </p:blipFill>
        <p:spPr>
          <a:xfrm rot="20340000">
            <a:off x="1018800" y="3187800"/>
            <a:ext cx="10150560" cy="76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0:5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49Z</dcterms:modified>
  <cp:revision>50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