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CC577-7A02-4002-BC89-7882D8283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94DF-BFB4-4D05-9F7E-25C1D4FA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4694B-0894-4BD1-B354-79695573F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2DCB8-FE6A-481D-B32C-5FD415558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282DC-C803-4217-8E60-08C58DE6E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A168F-1D15-4E72-BA79-E4FFFC93F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441A1-0B89-486C-BBA3-2FBE0899E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4B5E8-52DB-4A24-8DCB-9BCA06885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2760B-9F50-4FF3-BD5A-0018BE5FE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7A822-8F58-41C5-9C51-CCBF5F018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8DD90-B98A-45E8-AD03-AAB213C7A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2C758-12D3-458B-ADB7-96CF59562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EF4C0-50A8-4AEC-A4B4-E6E053D47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579C1-D4C7-446F-B17D-C0C98D6D6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683B2-0CF4-4FFF-86DE-D92BD57C6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A9F93-D00C-41B1-AD43-C2D02E801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A7687-503B-492B-B09C-EFBDB486B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E4F71-A539-4B4B-8157-15ED831A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AE4DD-84CA-455E-9399-124132AB4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A6BF9-A9C2-4361-A991-0770BAB43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6F442-51BD-4252-8962-704D369AE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AB6C-4F97-444D-809D-151ADCE6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577A-3C4C-47B7-A393-368F578E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3250-B8D6-4612-9C35-6786764C5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5E09-B064-44A5-9E3B-418791AB59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B7E3-E54C-46A1-AAE4-F7703C18DE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28240"/>
            <a:ext cx="5486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Presentation Title</a:t>
            </a:r>
            <a:endParaRPr b="1" lang="en-US" sz="3200" spc="-1" strike="noStrike">
              <a:solidFill>
                <a:srgbClr val="000000"/>
              </a:solidFill>
              <a:latin typeface="Tahoma"/>
            </a:endParaRPr>
          </a:p>
        </p:txBody>
      </p:sp>
      <p:sp>
        <p:nvSpPr>
          <p:cNvPr id="83" name="PlaceHolder 2"/>
          <p:cNvSpPr>
            <a:spLocks noGrp="1"/>
          </p:cNvSpPr>
          <p:nvPr>
            <p:ph type="subTitle"/>
          </p:nvPr>
        </p:nvSpPr>
        <p:spPr>
          <a:xfrm>
            <a:off x="76320" y="914040"/>
            <a:ext cx="5029200" cy="609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resentation Subtitle</a:t>
            </a:r>
            <a:endParaRPr b="0" lang="en-US" sz="2000" spc="-1" strike="noStrike">
              <a:solidFill>
                <a:srgbClr val="000000"/>
              </a:solidFill>
              <a:latin typeface="Calibri"/>
            </a:endParaRPr>
          </a:p>
        </p:txBody>
      </p:sp>
      <p:sp>
        <p:nvSpPr>
          <p:cNvPr id="8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Calibri"/>
            </a:endParaRPr>
          </a:p>
        </p:txBody>
      </p:sp>
      <p:sp>
        <p:nvSpPr>
          <p:cNvPr id="85" name=""/>
          <p:cNvSpPr/>
          <p:nvPr/>
        </p:nvSpPr>
        <p:spPr>
          <a:xfrm>
            <a:off x="1233360" y="1447920"/>
            <a:ext cx="665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Arial"/>
              </a:rPr>
              <a:t>激情足球运动体育运动幻灯片在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80520" y="990360"/>
            <a:ext cx="6782040" cy="513540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使用规范说明</a:t>
            </a:r>
            <a:endParaRPr b="1" lang="en-US" sz="32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f9000"/>
                </a:solidFill>
                <a:uFillTx/>
                <a:latin typeface="Calibri"/>
                <a:ea typeface="宋体"/>
                <a:hlinkClick r:id="rId2"/>
              </a:rPr>
              <a:t>http://</a:t>
            </a:r>
            <a:r>
              <a:rPr b="0" lang="en-US" sz="1400" spc="-1" strike="noStrike" u="sng">
                <a:solidFill>
                  <a:srgbClr val="bf9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bf9000"/>
                </a:solidFill>
                <a:uFillTx/>
                <a:latin typeface="Calibri"/>
                <a:ea typeface="宋体"/>
                <a:hlinkClick r:id="rId7"/>
              </a:rPr>
              <a:t> </a:t>
            </a:r>
            <a:r>
              <a:rPr b="0" lang="en-US" sz="1200" spc="-1" strike="noStrike" u="sng">
                <a:solidFill>
                  <a:srgbClr val="bf9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bf9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bf9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bf9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bf9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bf9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48B9BDF1-D9F7-4DA1-8C80-C8391BFD25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92" name=""/>
          <p:cNvSpPr txBox="1"/>
          <p:nvPr/>
        </p:nvSpPr>
        <p:spPr>
          <a:xfrm>
            <a:off x="2133720" y="1646280"/>
            <a:ext cx="670536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
          <p:cNvSpPr/>
          <p:nvPr/>
        </p:nvSpPr>
        <p:spPr>
          <a:xfrm>
            <a:off x="1905120" y="1295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f9000"/>
                </a:solidFill>
                <a:uFillTx/>
                <a:latin typeface="Calibri"/>
                <a:hlinkClick r:id="rId2"/>
              </a:rPr>
              <a:t>ppt模版免费下载</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
  <dcterms:modified xsi:type="dcterms:W3CDTF">2015-09-18T13:22:02Z</dcterms:modified>
  <cp:revision>3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