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C46-2E36-4EA3-AE70-B09B277D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FB6-9BAA-4EF1-8AAB-60ED5C08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F20-D377-442B-8144-B1FBEA86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36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288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36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288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B46-171A-4E76-8C62-9F8D657D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0DA1-FA80-43F8-BC4F-D8ED0C15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DB68-423B-4BFF-88D1-6977DAA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564A-16B0-4EF9-B62D-5276723F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7F0B-AA32-46B9-B99A-0E6F3737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9DD6-7701-4C79-8A36-9E85F9E5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93F-8314-4F31-8542-E511519C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1BC1-327A-49CF-B117-8E8DDA75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733-91CF-44AD-AC50-9321B209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2B46-E006-45A7-B58F-505E4A8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8E3E-B1AF-4ACE-81CC-62013AA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1ECC-6677-42C4-89CE-AC4EE27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10D9-E180-4EDE-ADE0-DA5188B8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52880" y="228600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52880" y="2485080"/>
            <a:ext cx="235152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21E6-5C78-4143-97D0-8B29209B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627-1A0B-4A6B-89EF-4792863A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C0F-4E9E-4C6A-8AFA-3C843A66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62A-4DEF-470A-A1EA-25213246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619760" cy="31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991-F9F9-45DA-B1E6-864BCD0B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056-BB0A-4302-8F52-893C7DA9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6960" y="248508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B0D1-7665-46C5-89BF-BD8D541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960" y="2286000"/>
            <a:ext cx="3564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2485080"/>
            <a:ext cx="73040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E42-C3EB-42BC-9B05-C5B6B6A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12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304920" y="609480"/>
            <a:ext cx="8839080" cy="533520"/>
          </a:xfrm>
          <a:prstGeom prst="rect">
            <a:avLst/>
          </a:prstGeom>
          <a:gradFill rotWithShape="0">
            <a:gsLst>
              <a:gs pos="0">
                <a:srgbClr val="22a2e2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60" y="1114560"/>
            <a:ext cx="9144000" cy="75960"/>
          </a:xfrm>
          <a:prstGeom prst="rect">
            <a:avLst/>
          </a:prstGeom>
          <a:gradFill rotWithShape="0">
            <a:gsLst>
              <a:gs pos="0">
                <a:srgbClr val="091c43"/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276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98EC-1281-4697-8A2C-B997980A4217}" type="slidenum">
              <a:rPr b="0" lang="en-US" sz="1400" spc="-1" strike="noStrike">
                <a:solidFill>
                  <a:srgbClr val="13276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31320" y="2570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447040" y="-1857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32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gradFill rotWithShape="0">
            <a:gsLst>
              <a:gs pos="0">
                <a:srgbClr val="091c43"/>
              </a:gs>
              <a:gs pos="100000">
                <a:srgbClr val="184b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534000"/>
            <a:ext cx="289584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133720" cy="2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6285-4AF3-434E-B939-77DE9D05F2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53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3276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bb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32767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76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32767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32767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276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600200"/>
            <a:ext cx="7619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2767"/>
                </a:solidFill>
                <a:latin typeface="Arial"/>
              </a:rPr>
              <a:t>金色地球企业</a:t>
            </a:r>
            <a:r>
              <a:rPr b="1" lang="zh-CN" sz="4000" spc="-1" strike="noStrike">
                <a:solidFill>
                  <a:srgbClr val="132767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32767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55640" y="2050920"/>
            <a:ext cx="7632720" cy="3054240"/>
            <a:chOff x="755640" y="2050920"/>
            <a:chExt cx="7632720" cy="3054240"/>
          </a:xfrm>
        </p:grpSpPr>
        <p:sp>
          <p:nvSpPr>
            <p:cNvPr id="256" name=""/>
            <p:cNvSpPr/>
            <p:nvPr/>
          </p:nvSpPr>
          <p:spPr>
            <a:xfrm>
              <a:off x="2916360" y="28494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2a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1640" y="28494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55a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2764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5aba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764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5aba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69120" y="21985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2d5c5b"/>
                </a:gs>
                <a:gs pos="50000">
                  <a:srgbClr val="55aba9"/>
                </a:gs>
                <a:gs pos="100000">
                  <a:srgbClr val="2d5c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2209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0"/>
                  </a:srgbClr>
                </a:gs>
                <a:gs pos="100000">
                  <a:srgbClr val="356c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70640" y="22921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640" y="20509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cca4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5640" y="20509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cca4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96760" y="2192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766c23"/>
                </a:gs>
                <a:gs pos="50000">
                  <a:srgbClr val="dcca42"/>
                </a:gs>
                <a:gs pos="100000">
                  <a:srgbClr val="766c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8560" y="2195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dcca42">
                    <a:alpha val="0"/>
                  </a:srgbClr>
                </a:gs>
                <a:gs pos="100000">
                  <a:srgbClr val="8b7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22860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017720" y="2311200"/>
              <a:ext cx="1636560" cy="1636920"/>
              <a:chOff x="1017720" y="2311200"/>
              <a:chExt cx="1636560" cy="1636920"/>
            </a:xfrm>
          </p:grpSpPr>
          <p:sp>
            <p:nvSpPr>
              <p:cNvPr id="269" name=""/>
              <p:cNvSpPr/>
              <p:nvPr/>
            </p:nvSpPr>
            <p:spPr>
              <a:xfrm>
                <a:off x="101772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03860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5552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14444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49236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2a2e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92360" y="20574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f4a68"/>
                </a:gs>
                <a:gs pos="100000">
                  <a:srgbClr val="22a2e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3840" y="2198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25779"/>
                </a:gs>
                <a:gs pos="50000">
                  <a:srgbClr val="22a2e2"/>
                </a:gs>
                <a:gs pos="100000">
                  <a:srgbClr val="12577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35280" y="2201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2a2e2">
                    <a:alpha val="0"/>
                  </a:srgbClr>
                </a:gs>
                <a:gs pos="100000">
                  <a:srgbClr val="1566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7440" y="22921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754440" y="2311200"/>
              <a:ext cx="1636560" cy="1636920"/>
              <a:chOff x="3754440" y="2311200"/>
              <a:chExt cx="1636560" cy="1636920"/>
            </a:xfrm>
          </p:grpSpPr>
          <p:sp>
            <p:nvSpPr>
              <p:cNvPr id="279" name=""/>
              <p:cNvSpPr/>
              <p:nvPr/>
            </p:nvSpPr>
            <p:spPr>
              <a:xfrm>
                <a:off x="375444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7532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9224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8116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500880" y="2311200"/>
              <a:ext cx="1636560" cy="1636920"/>
              <a:chOff x="6500880" y="2311200"/>
              <a:chExt cx="1636560" cy="1636920"/>
            </a:xfrm>
          </p:grpSpPr>
          <p:sp>
            <p:nvSpPr>
              <p:cNvPr id="284" name=""/>
              <p:cNvSpPr/>
              <p:nvPr/>
            </p:nvSpPr>
            <p:spPr>
              <a:xfrm>
                <a:off x="6500880" y="23112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21760" y="23202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38680" y="23360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27600" y="23778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80496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3844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91360" y="45892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522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54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8640" y="2916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447920" y="1542960"/>
            <a:ext cx="7390800" cy="4476600"/>
            <a:chOff x="1447920" y="1542960"/>
            <a:chExt cx="7390800" cy="4476600"/>
          </a:xfrm>
        </p:grpSpPr>
        <p:sp>
          <p:nvSpPr>
            <p:cNvPr id="296" name=""/>
            <p:cNvSpPr/>
            <p:nvPr/>
          </p:nvSpPr>
          <p:spPr>
            <a:xfrm>
              <a:off x="1447920" y="198108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22a2e2"/>
                </a:gs>
                <a:gs pos="100000">
                  <a:srgbClr val="55aba9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1840" y="37335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84bb2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0876400">
              <a:off x="3544560" y="4971960"/>
              <a:ext cx="143784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76520" y="3752640"/>
              <a:ext cx="170460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97040" y="37623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14320" y="3778200"/>
              <a:ext cx="158400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06480" y="382248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93760" y="437976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6600">
              <a:off x="1701720" y="4362120"/>
              <a:ext cx="113292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625400" y="3371760"/>
              <a:ext cx="1370880" cy="1441080"/>
              <a:chOff x="1625400" y="3371760"/>
              <a:chExt cx="1370880" cy="1441080"/>
            </a:xfrm>
          </p:grpSpPr>
          <p:sp>
            <p:nvSpPr>
              <p:cNvPr id="306" name=""/>
              <p:cNvSpPr/>
              <p:nvPr/>
            </p:nvSpPr>
            <p:spPr>
              <a:xfrm>
                <a:off x="1625400" y="3371760"/>
                <a:ext cx="137088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43400" y="3380040"/>
                <a:ext cx="133668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56360" y="339336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28000" y="3430080"/>
                <a:ext cx="113184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5840" y="38779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523880" y="2606760"/>
              <a:ext cx="91404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99840" y="200016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12800" y="2004840"/>
              <a:ext cx="99972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23600" y="201600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7600" y="204156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97120" y="23493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0720" y="2076480"/>
              <a:ext cx="68544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12760" y="1542960"/>
              <a:ext cx="68220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22480" y="1546200"/>
              <a:ext cx="66456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28600" y="155232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65320" y="1571400"/>
              <a:ext cx="56304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82960" y="17668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5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184bb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84b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32767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bd5d4"/>
                </a:gs>
                <a:gs pos="100000">
                  <a:srgbClr val="55aba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5aba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5aba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d5c5b"/>
                </a:gs>
                <a:gs pos="50000">
                  <a:srgbClr val="55aba9"/>
                </a:gs>
                <a:gs pos="100000">
                  <a:srgbClr val="2d5c5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5aba9">
                    <a:alpha val="0"/>
                  </a:srgbClr>
                </a:gs>
                <a:gs pos="100000">
                  <a:srgbClr val="356c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0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219320" y="2136600"/>
            <a:ext cx="2170080" cy="4035600"/>
            <a:chOff x="1219320" y="2136600"/>
            <a:chExt cx="2170080" cy="4035600"/>
          </a:xfrm>
        </p:grpSpPr>
        <p:sp>
          <p:nvSpPr>
            <p:cNvPr id="357" name=""/>
            <p:cNvSpPr/>
            <p:nvPr/>
          </p:nvSpPr>
          <p:spPr>
            <a:xfrm>
              <a:off x="12193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5280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7008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27008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2580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53258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63800" y="2136600"/>
              <a:ext cx="642960" cy="642960"/>
              <a:chOff x="1963800" y="2136600"/>
              <a:chExt cx="642960" cy="642960"/>
            </a:xfrm>
          </p:grpSpPr>
          <p:sp>
            <p:nvSpPr>
              <p:cNvPr id="364" name=""/>
              <p:cNvSpPr/>
              <p:nvPr/>
            </p:nvSpPr>
            <p:spPr>
              <a:xfrm>
                <a:off x="196380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7028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7820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8468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1852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384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9564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581280" y="2136600"/>
            <a:ext cx="2166840" cy="4035600"/>
            <a:chOff x="3581280" y="2136600"/>
            <a:chExt cx="2166840" cy="4035600"/>
          </a:xfrm>
        </p:grpSpPr>
        <p:sp>
          <p:nvSpPr>
            <p:cNvPr id="372" name=""/>
            <p:cNvSpPr/>
            <p:nvPr/>
          </p:nvSpPr>
          <p:spPr>
            <a:xfrm>
              <a:off x="358128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4760" y="24526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3204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204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25760" y="21366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3224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0160" y="21445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6280" y="21510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81560" y="21668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6580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5760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8452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2880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937120" y="2136600"/>
            <a:ext cx="2170080" cy="4035600"/>
            <a:chOff x="5937120" y="2136600"/>
            <a:chExt cx="2170080" cy="4035600"/>
          </a:xfrm>
        </p:grpSpPr>
        <p:sp>
          <p:nvSpPr>
            <p:cNvPr id="386" name=""/>
            <p:cNvSpPr/>
            <p:nvPr/>
          </p:nvSpPr>
          <p:spPr>
            <a:xfrm>
              <a:off x="594360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76720" y="24526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436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9436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6688080" y="2136600"/>
              <a:ext cx="642960" cy="642960"/>
              <a:chOff x="6688080" y="2136600"/>
              <a:chExt cx="642960" cy="642960"/>
            </a:xfrm>
          </p:grpSpPr>
          <p:sp>
            <p:nvSpPr>
              <p:cNvPr id="391" name=""/>
              <p:cNvSpPr/>
              <p:nvPr/>
            </p:nvSpPr>
            <p:spPr>
              <a:xfrm>
                <a:off x="66880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945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2480" y="2145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089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7428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682812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9560" y="28987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37120" y="53020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81400" y="53258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219320" y="1905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5aba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1436760"/>
            <a:ext cx="9144000" cy="4366080"/>
            <a:chOff x="0" y="1436760"/>
            <a:chExt cx="9144000" cy="4366080"/>
          </a:xfrm>
        </p:grpSpPr>
        <p:sp>
          <p:nvSpPr>
            <p:cNvPr id="403" name=""/>
            <p:cNvSpPr/>
            <p:nvPr/>
          </p:nvSpPr>
          <p:spPr>
            <a:xfrm>
              <a:off x="0" y="272592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277812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96720" y="2129040"/>
              <a:ext cx="2183040" cy="3600720"/>
              <a:chOff x="396720" y="2129040"/>
              <a:chExt cx="2183040" cy="360072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873720" y="3048120"/>
                <a:ext cx="1706040" cy="2681640"/>
                <a:chOff x="873720" y="3048120"/>
                <a:chExt cx="1706040" cy="268164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873720" y="3227040"/>
                  <a:ext cx="1578600" cy="2502720"/>
                  <a:chOff x="873720" y="3227040"/>
                  <a:chExt cx="1578600" cy="25027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876600">
                    <a:off x="410040" y="419904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876600">
                    <a:off x="1915920" y="516780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1368360" y="3048120"/>
                  <a:ext cx="1211400" cy="1920240"/>
                  <a:chOff x="1368360" y="3048120"/>
                  <a:chExt cx="1211400" cy="19202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 rot="3876600">
                    <a:off x="1012680" y="379404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V="1" rot="3876600">
                    <a:off x="2150640" y="4545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396720" y="2129040"/>
                <a:ext cx="1441800" cy="1440720"/>
                <a:chOff x="396720" y="2129040"/>
                <a:chExt cx="1441800" cy="14407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9672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672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92120" y="22226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92120" y="22258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54040" y="228636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571320" y="2303640"/>
                  <a:ext cx="1092240" cy="1092960"/>
                  <a:chOff x="571320" y="2303640"/>
                  <a:chExt cx="1092240" cy="10929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571320" y="230364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85360" y="230976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96520" y="232020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55920" y="234792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4" name=""/>
              <p:cNvSpPr/>
              <p:nvPr/>
            </p:nvSpPr>
            <p:spPr>
              <a:xfrm rot="3925800">
                <a:off x="897840" y="4074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925800">
                <a:off x="1401840" y="378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379600" y="2129040"/>
              <a:ext cx="2183040" cy="3600720"/>
              <a:chOff x="2379600" y="2129040"/>
              <a:chExt cx="2183040" cy="360072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2856600" y="3048120"/>
                <a:ext cx="1706040" cy="2681640"/>
                <a:chOff x="2856600" y="3048120"/>
                <a:chExt cx="1706040" cy="268164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2856600" y="3227040"/>
                  <a:ext cx="1578600" cy="2502720"/>
                  <a:chOff x="2856600" y="3227040"/>
                  <a:chExt cx="1578600" cy="25027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3876600">
                    <a:off x="2392920" y="419904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3876600">
                    <a:off x="3898800" y="516780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3351240" y="3048120"/>
                  <a:ext cx="1211400" cy="1920240"/>
                  <a:chOff x="3351240" y="3048120"/>
                  <a:chExt cx="1211400" cy="19202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V="1" rot="3876600">
                    <a:off x="2995560" y="379404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V="1" rot="3876600">
                    <a:off x="4133520" y="4545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2379600" y="2129040"/>
                <a:ext cx="1441800" cy="1440720"/>
                <a:chOff x="2379600" y="2129040"/>
                <a:chExt cx="1441800" cy="14407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37960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79600" y="212904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475000" y="22226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475000" y="22258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536920" y="228636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554200" y="2303640"/>
                  <a:ext cx="1092240" cy="1092960"/>
                  <a:chOff x="2554200" y="2303640"/>
                  <a:chExt cx="1092240" cy="1092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2554200" y="230364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568240" y="230976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579400" y="232020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638800" y="234792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5" name=""/>
              <p:cNvSpPr/>
              <p:nvPr/>
            </p:nvSpPr>
            <p:spPr>
              <a:xfrm rot="3925800">
                <a:off x="2874960" y="4074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3925800">
                <a:off x="3378240" y="378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427640" y="2129040"/>
              <a:ext cx="2182680" cy="3600720"/>
              <a:chOff x="4427640" y="2129040"/>
              <a:chExt cx="2182680" cy="36007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4904280" y="3048120"/>
                <a:ext cx="1706040" cy="2681640"/>
                <a:chOff x="4904280" y="3048120"/>
                <a:chExt cx="1706040" cy="268164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4904280" y="3227040"/>
                  <a:ext cx="1578600" cy="2502720"/>
                  <a:chOff x="4904280" y="3227040"/>
                  <a:chExt cx="1578600" cy="2502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876600">
                    <a:off x="4440600" y="419904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876600">
                    <a:off x="5946480" y="516780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398920" y="3048120"/>
                  <a:ext cx="1211400" cy="1920240"/>
                  <a:chOff x="5398920" y="3048120"/>
                  <a:chExt cx="1211400" cy="1920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5043240" y="379404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 rot="3876600">
                    <a:off x="6181200" y="45453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4427640" y="2129040"/>
                <a:ext cx="1441440" cy="1440720"/>
                <a:chOff x="4427640" y="2129040"/>
                <a:chExt cx="1441440" cy="1440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4427640" y="212904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27640" y="212904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523040" y="22226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523040" y="22258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584960" y="228636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4602240" y="2303640"/>
                  <a:ext cx="1091880" cy="1092960"/>
                  <a:chOff x="4602240" y="2303640"/>
                  <a:chExt cx="1091880" cy="109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4602240" y="230364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4616280" y="230976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4627440" y="232020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686840" y="234792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 rot="3925800">
                <a:off x="4932000" y="4074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925800">
                <a:off x="5435640" y="3782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6442200" y="1970280"/>
              <a:ext cx="2399760" cy="3832560"/>
              <a:chOff x="6442200" y="1970280"/>
              <a:chExt cx="2399760" cy="383256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7136280" y="3121200"/>
                <a:ext cx="1705680" cy="2681640"/>
                <a:chOff x="7136280" y="3121200"/>
                <a:chExt cx="1705680" cy="26816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7136280" y="3300120"/>
                  <a:ext cx="1578600" cy="2502720"/>
                  <a:chOff x="7136280" y="3300120"/>
                  <a:chExt cx="1578600" cy="25027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876600">
                    <a:off x="6672600" y="427212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876600">
                    <a:off x="8178480" y="524088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630560" y="3121200"/>
                  <a:ext cx="1211400" cy="1920240"/>
                  <a:chOff x="7630560" y="3121200"/>
                  <a:chExt cx="1211400" cy="19202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V="1" rot="3876600">
                    <a:off x="7274880" y="386712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 rot="3876600">
                    <a:off x="8412840" y="461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3276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6442200" y="197028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442200" y="197028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558120" y="20829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559560" y="20862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32640" y="215928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653160" y="2179800"/>
                <a:ext cx="1312920" cy="1310400"/>
                <a:chOff x="6653160" y="2179800"/>
                <a:chExt cx="1312920" cy="13104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6653160" y="217980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69720" y="218700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683400" y="219960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754680" y="223308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 rot="3925800">
                <a:off x="7147080" y="4233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925800">
                <a:off x="7649640" y="39416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32767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77796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6840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49840" y="14796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95000" y="143676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767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492" name=""/>
            <p:cNvCxnSpPr>
              <a:stCxn id="488" idx="3"/>
              <a:endCxn id="489" idx="1"/>
            </p:cNvCxnSpPr>
            <p:nvPr/>
          </p:nvCxnSpPr>
          <p:spPr>
            <a:xfrm>
              <a:off x="1514160" y="1663560"/>
              <a:ext cx="122292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9" idx="3"/>
              <a:endCxn id="490" idx="1"/>
            </p:cNvCxnSpPr>
            <p:nvPr/>
          </p:nvCxnSpPr>
          <p:spPr>
            <a:xfrm>
              <a:off x="3504960" y="1663560"/>
              <a:ext cx="121356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90" idx="3"/>
              <a:endCxn id="491" idx="1"/>
            </p:cNvCxnSpPr>
            <p:nvPr/>
          </p:nvCxnSpPr>
          <p:spPr>
            <a:xfrm>
              <a:off x="5486040" y="1663920"/>
              <a:ext cx="1220040" cy="216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74e4d"/>
              </a:gs>
              <a:gs pos="100000">
                <a:srgbClr val="55aba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f4a68"/>
              </a:gs>
              <a:gs pos="100000">
                <a:srgbClr val="22a2e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f4a68"/>
              </a:gs>
              <a:gs pos="100000">
                <a:srgbClr val="22a2e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74e4d"/>
              </a:gs>
              <a:gs pos="100000">
                <a:srgbClr val="55aba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5f6c"/>
              </a:gs>
              <a:gs pos="100000">
                <a:srgbClr val="81cfe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3118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59400" y="31240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819520" y="31240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054080" y="31240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11680" y="1630080"/>
            <a:ext cx="6436800" cy="1387800"/>
            <a:chOff x="1111680" y="1630080"/>
            <a:chExt cx="6436800" cy="1387800"/>
          </a:xfrm>
        </p:grpSpPr>
        <p:sp>
          <p:nvSpPr>
            <p:cNvPr id="508" name=""/>
            <p:cNvSpPr/>
            <p:nvPr/>
          </p:nvSpPr>
          <p:spPr>
            <a:xfrm rot="3418800">
              <a:off x="1321920" y="18550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286360" y="2026800"/>
              <a:ext cx="932040" cy="131760"/>
              <a:chOff x="2286360" y="2026800"/>
              <a:chExt cx="932040" cy="131760"/>
            </a:xfrm>
          </p:grpSpPr>
          <p:sp>
            <p:nvSpPr>
              <p:cNvPr id="510" name=""/>
              <p:cNvSpPr/>
              <p:nvPr/>
            </p:nvSpPr>
            <p:spPr>
              <a:xfrm>
                <a:off x="228636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37564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07728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15252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418800">
              <a:off x="3043080" y="17892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4007520" y="2026800"/>
              <a:ext cx="932040" cy="131760"/>
              <a:chOff x="4007520" y="2026800"/>
              <a:chExt cx="932040" cy="131760"/>
            </a:xfrm>
          </p:grpSpPr>
          <p:sp>
            <p:nvSpPr>
              <p:cNvPr id="516" name=""/>
              <p:cNvSpPr/>
              <p:nvPr/>
            </p:nvSpPr>
            <p:spPr>
              <a:xfrm>
                <a:off x="4007520" y="20268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096800" y="20278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798440" y="20289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73680" y="20700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rot="3418800">
              <a:off x="4692240" y="17892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274e4d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728680" y="2026800"/>
              <a:ext cx="1218600" cy="131760"/>
              <a:chOff x="5728680" y="2026800"/>
              <a:chExt cx="121860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5728680" y="20268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45320" y="20278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62600" y="20289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861240" y="20700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6413400" y="17892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3b5f6c"/>
                </a:gs>
              </a:gsLst>
              <a:lin ang="1980000"/>
            </a:gradFill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4252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950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9520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548040" y="2147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490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148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95396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068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767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85800" y="2038320"/>
          <a:ext cx="7620120" cy="3600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32767"/>
                      </a:solidFill>
                    </a:lnR>
                    <a:lnT>
                      <a:noFill/>
                    </a:lnT>
                    <a:lnB w="5760">
                      <a:solidFill>
                        <a:srgbClr val="13276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767"/>
                          </a:solidFill>
                          <a:latin typeface="Arial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81cfeb"/>
                        </a:gs>
                        <a:gs pos="100000">
                          <a:srgbClr val="bde5f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3276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32767"/>
                      </a:solidFill>
                    </a:lnL>
                    <a:lnR w="5760">
                      <a:solidFill>
                        <a:srgbClr val="132767"/>
                      </a:solidFill>
                    </a:lnR>
                    <a:lnT w="5760">
                      <a:solidFill>
                        <a:srgbClr val="132767"/>
                      </a:solidFill>
                    </a:lnT>
                    <a:lnB w="5760">
                      <a:solidFill>
                        <a:srgbClr val="132767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512280" y="563400"/>
            <a:ext cx="7379280" cy="5581080"/>
            <a:chOff x="512280" y="563400"/>
            <a:chExt cx="7379280" cy="5581080"/>
          </a:xfrm>
        </p:grpSpPr>
        <p:sp>
          <p:nvSpPr>
            <p:cNvPr id="538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55aba9"/>
                </a:gs>
                <a:gs pos="100000">
                  <a:srgbClr val="92c8c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2a2e2"/>
                </a:gs>
                <a:gs pos="100000">
                  <a:srgbClr val="1770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b6dad9"/>
                </a:gs>
                <a:gs pos="100000">
                  <a:srgbClr val="55aba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b5f6c"/>
                </a:gs>
                <a:gs pos="100000">
                  <a:srgbClr val="81cfeb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5aba9">
                    <a:alpha val="19215"/>
                  </a:srgbClr>
                </a:gs>
                <a:gs pos="100000">
                  <a:srgbClr val="8dc6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cca42"/>
                </a:gs>
                <a:gs pos="100000">
                  <a:srgbClr val="e4d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539200">
              <a:off x="930600" y="14673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7e7325"/>
                </a:gs>
                <a:gs pos="100000">
                  <a:srgbClr val="dcca42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91000" y="3983040"/>
              <a:ext cx="924120" cy="131148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e7dc86"/>
                </a:gs>
                <a:gs pos="100000">
                  <a:srgbClr val="dcca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914400" y="1447920"/>
            <a:ext cx="7391520" cy="4724280"/>
            <a:chOff x="914400" y="1447920"/>
            <a:chExt cx="7391520" cy="4724280"/>
          </a:xfrm>
        </p:grpSpPr>
        <p:sp>
          <p:nvSpPr>
            <p:cNvPr id="559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709d"/>
                </a:gs>
                <a:gs pos="50000">
                  <a:srgbClr val="22a2e2"/>
                </a:gs>
                <a:gs pos="100000">
                  <a:srgbClr val="17709d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0352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4bb2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1cfeb"/>
                    </a:gs>
                    <a:gs pos="100000">
                      <a:srgbClr val="5182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1cf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07244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066680" y="5683320"/>
              <a:ext cx="1206720" cy="38916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6781680" y="4038840"/>
              <a:ext cx="1524240" cy="1531800"/>
              <a:chOff x="6781680" y="4038840"/>
              <a:chExt cx="1524240" cy="15318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6781680" y="4038840"/>
                <a:ext cx="1524240" cy="1531800"/>
                <a:chOff x="6781680" y="4038840"/>
                <a:chExt cx="1524240" cy="153180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6781680" y="403884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ca42"/>
                    </a:gs>
                    <a:gs pos="100000">
                      <a:srgbClr val="3530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955920" y="406404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cca4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6924600" y="475272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6781680" y="561816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2819520" y="4083120"/>
              <a:ext cx="1523880" cy="1521000"/>
              <a:chOff x="2819520" y="4083120"/>
              <a:chExt cx="1523880" cy="1521000"/>
            </a:xfrm>
          </p:grpSpPr>
          <p:sp>
            <p:nvSpPr>
              <p:cNvPr id="575" name=""/>
              <p:cNvSpPr/>
              <p:nvPr/>
            </p:nvSpPr>
            <p:spPr>
              <a:xfrm>
                <a:off x="2819520" y="408312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b575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993760" y="41083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55a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2895480" y="4813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819520" y="568332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4876920" y="4038840"/>
              <a:ext cx="1523880" cy="1520640"/>
              <a:chOff x="4876920" y="4038840"/>
              <a:chExt cx="1523880" cy="152064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4876920" y="4038840"/>
                <a:ext cx="1523880" cy="1520640"/>
                <a:chOff x="4876920" y="4038840"/>
                <a:chExt cx="1523880" cy="15206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876920" y="403884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a2e2"/>
                    </a:gs>
                    <a:gs pos="100000">
                      <a:srgbClr val="11527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051160" y="406404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2a2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4953240" y="47685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4876920" y="563904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1871640"/>
            <a:ext cx="5410080" cy="665280"/>
            <a:chOff x="1828800" y="1871640"/>
            <a:chExt cx="5410080" cy="665280"/>
          </a:xfrm>
        </p:grpSpPr>
        <p:grpSp>
          <p:nvGrpSpPr>
            <p:cNvPr id="98" name=""/>
            <p:cNvGrpSpPr/>
            <p:nvPr/>
          </p:nvGrpSpPr>
          <p:grpSpPr>
            <a:xfrm>
              <a:off x="1828800" y="1871640"/>
              <a:ext cx="762120" cy="665280"/>
              <a:chOff x="1828800" y="1871640"/>
              <a:chExt cx="762120" cy="665280"/>
            </a:xfrm>
          </p:grpSpPr>
          <p:sp>
            <p:nvSpPr>
              <p:cNvPr id="99" name=""/>
              <p:cNvSpPr/>
              <p:nvPr/>
            </p:nvSpPr>
            <p:spPr>
              <a:xfrm>
                <a:off x="1834920" y="18828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28800" y="1871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73080" y="19108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74e4d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438280" y="24811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8560" y="19479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7520" y="196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828800" y="2786040"/>
            <a:ext cx="5410080" cy="665280"/>
            <a:chOff x="1828800" y="2786040"/>
            <a:chExt cx="5410080" cy="665280"/>
          </a:xfrm>
        </p:grpSpPr>
        <p:grpSp>
          <p:nvGrpSpPr>
            <p:cNvPr id="106" name=""/>
            <p:cNvGrpSpPr/>
            <p:nvPr/>
          </p:nvGrpSpPr>
          <p:grpSpPr>
            <a:xfrm>
              <a:off x="1828800" y="2786040"/>
              <a:ext cx="762120" cy="665280"/>
              <a:chOff x="1828800" y="2786040"/>
              <a:chExt cx="762120" cy="665280"/>
            </a:xfrm>
          </p:grpSpPr>
          <p:sp>
            <p:nvSpPr>
              <p:cNvPr id="107" name=""/>
              <p:cNvSpPr/>
              <p:nvPr/>
            </p:nvSpPr>
            <p:spPr>
              <a:xfrm>
                <a:off x="183492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2880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73080" y="2825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2a2e2"/>
                  </a:gs>
                  <a:gs pos="100000">
                    <a:srgbClr val="0f4a68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438280" y="33955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8560" y="2862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7520" y="288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828800" y="3678120"/>
            <a:ext cx="5410080" cy="665280"/>
            <a:chOff x="1828800" y="3678120"/>
            <a:chExt cx="5410080" cy="665280"/>
          </a:xfrm>
        </p:grpSpPr>
        <p:grpSp>
          <p:nvGrpSpPr>
            <p:cNvPr id="114" name=""/>
            <p:cNvGrpSpPr/>
            <p:nvPr/>
          </p:nvGrpSpPr>
          <p:grpSpPr>
            <a:xfrm>
              <a:off x="1828800" y="3678120"/>
              <a:ext cx="762120" cy="665280"/>
              <a:chOff x="1828800" y="3678120"/>
              <a:chExt cx="762120" cy="665280"/>
            </a:xfrm>
          </p:grpSpPr>
          <p:sp>
            <p:nvSpPr>
              <p:cNvPr id="115" name=""/>
              <p:cNvSpPr/>
              <p:nvPr/>
            </p:nvSpPr>
            <p:spPr>
              <a:xfrm>
                <a:off x="1834920" y="3689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8800" y="3678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73080" y="3717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55aba9"/>
                  </a:gs>
                  <a:gs pos="100000">
                    <a:srgbClr val="274e4d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38280" y="42876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8560" y="37544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27520" y="3776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828800" y="4592520"/>
            <a:ext cx="5410080" cy="665280"/>
            <a:chOff x="1828800" y="4592520"/>
            <a:chExt cx="5410080" cy="665280"/>
          </a:xfrm>
        </p:grpSpPr>
        <p:grpSp>
          <p:nvGrpSpPr>
            <p:cNvPr id="122" name=""/>
            <p:cNvGrpSpPr/>
            <p:nvPr/>
          </p:nvGrpSpPr>
          <p:grpSpPr>
            <a:xfrm>
              <a:off x="1828800" y="4592520"/>
              <a:ext cx="762120" cy="665280"/>
              <a:chOff x="1828800" y="4592520"/>
              <a:chExt cx="762120" cy="665280"/>
            </a:xfrm>
          </p:grpSpPr>
          <p:sp>
            <p:nvSpPr>
              <p:cNvPr id="123" name=""/>
              <p:cNvSpPr/>
              <p:nvPr/>
            </p:nvSpPr>
            <p:spPr>
              <a:xfrm>
                <a:off x="1834920" y="46036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28800" y="45925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73080" y="46317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22a2e2"/>
                  </a:gs>
                  <a:gs pos="100000">
                    <a:srgbClr val="0f4a68"/>
                  </a:gs>
                </a:gsLst>
                <a:lin ang="13500000"/>
              </a:gradFill>
              <a:ln w="9360">
                <a:solidFill>
                  <a:srgbClr val="132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438280" y="52020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8560" y="46688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32767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7520" y="46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55aba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5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3276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693-CBE8-4092-8351-270F7756FB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2133720" y="16765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32767"/>
                    </a:gs>
                    <a:gs pos="100000">
                      <a:srgbClr val="22a2e2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32767"/>
                  </a:gs>
                  <a:gs pos="100000">
                    <a:srgbClr val="22a2e2"/>
                  </a:gs>
                </a:gsLst>
                <a:lin ang="108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30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4bb2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2666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5aba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4bb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767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276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a2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2a2e2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32767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13276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2578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32767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132767"/>
              </a:solidFill>
              <a:latin typeface="Arial"/>
            </a:endParaRPr>
          </a:p>
          <a:p>
            <a:pPr>
              <a:buClr>
                <a:srgbClr val="13276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13276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132767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590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55aba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32767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35" name="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e0f4"/>
              </a:gs>
              <a:gs pos="100000">
                <a:srgbClr val="22a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39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5251"/>
                    </a:gs>
                    <a:gs pos="100000">
                      <a:srgbClr val="55aba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aba9"/>
                    </a:gs>
                    <a:gs pos="100000">
                      <a:srgbClr val="b2d8d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3276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2a2e2"/>
                  </a:gs>
                  <a:gs pos="100000">
                    <a:srgbClr val="0f4a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1ddf3"/>
                  </a:gs>
                  <a:gs pos="100000">
                    <a:srgbClr val="22a2e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22a2e2">
                      <a:alpha val="48235"/>
                    </a:srgbClr>
                  </a:gs>
                  <a:gs pos="100000">
                    <a:srgbClr val="1a7f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22a2e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49" name="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10400" y="34290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8e0f4"/>
              </a:gs>
              <a:gs pos="100000">
                <a:srgbClr val="22a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0880" y="1488240"/>
            <a:ext cx="8130240" cy="5086440"/>
            <a:chOff x="380880" y="1488240"/>
            <a:chExt cx="8130240" cy="5086440"/>
          </a:xfrm>
        </p:grpSpPr>
        <p:sp>
          <p:nvSpPr>
            <p:cNvPr id="154" name=""/>
            <p:cNvSpPr/>
            <p:nvPr/>
          </p:nvSpPr>
          <p:spPr>
            <a:xfrm rot="20241600">
              <a:off x="1079280" y="2685960"/>
              <a:ext cx="6761160" cy="269100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4479480" y="2545920"/>
              <a:ext cx="11826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7313040" y="279072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801520" y="5670000"/>
              <a:ext cx="1184040" cy="338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5585760" y="5060880"/>
              <a:ext cx="118296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1928160" y="4037040"/>
              <a:ext cx="1184400" cy="3380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4960" y="1860480"/>
              <a:ext cx="1268280" cy="1222200"/>
            </a:xfrm>
            <a:prstGeom prst="ellipse">
              <a:avLst/>
            </a:prstGeom>
            <a:gradFill rotWithShape="0">
              <a:gsLst>
                <a:gs pos="0">
                  <a:srgbClr val="55aba9"/>
                </a:gs>
                <a:gs pos="100000">
                  <a:srgbClr val="1d3a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3322440"/>
              <a:ext cx="1265400" cy="1222560"/>
            </a:xfrm>
            <a:prstGeom prst="ellipse">
              <a:avLst/>
            </a:prstGeom>
            <a:gradFill rotWithShape="0">
              <a:gsLst>
                <a:gs pos="0">
                  <a:srgbClr val="22a2e2"/>
                </a:gs>
                <a:gs pos="100000">
                  <a:srgbClr val="0a3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5400" y="4949640"/>
              <a:ext cx="1265040" cy="1222560"/>
            </a:xfrm>
            <a:prstGeom prst="ellipse">
              <a:avLst/>
            </a:prstGeom>
            <a:gradFill rotWithShape="0">
              <a:gsLst>
                <a:gs pos="0">
                  <a:srgbClr val="81cfeb"/>
                </a:gs>
                <a:gs pos="100000">
                  <a:srgbClr val="2d49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03560" y="4344840"/>
              <a:ext cx="1266840" cy="12225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7160" y="2079720"/>
              <a:ext cx="1197000" cy="1223640"/>
            </a:xfrm>
            <a:prstGeom prst="ellipse">
              <a:avLst/>
            </a:prstGeom>
            <a:gradFill rotWithShape="0">
              <a:gsLst>
                <a:gs pos="0">
                  <a:srgbClr val="dcca42"/>
                </a:gs>
                <a:gs pos="100000">
                  <a:srgbClr val="4b45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4840" y="3760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9040" y="2298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04880" y="2565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39440" y="478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54840" y="5381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40080" y="3635280"/>
              <a:ext cx="25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32767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2440" y="2298600"/>
              <a:ext cx="1805040" cy="13892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cxnSp>
          <p:nvCxnSpPr>
            <p:cNvPr id="172" name=""/>
            <p:cNvCxnSpPr/>
            <p:nvPr/>
          </p:nvCxnSpPr>
          <p:spPr>
            <a:xfrm flipH="1">
              <a:off x="520200" y="2298240"/>
              <a:ext cx="1915200" cy="1080"/>
            </a:xfrm>
            <a:prstGeom prst="straightConnector1">
              <a:avLst/>
            </a:prstGeom>
            <a:ln w="9360">
              <a:solidFill>
                <a:srgbClr val="132767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80880" y="1860480"/>
              <a:ext cx="22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990720" y="1523880"/>
            <a:ext cx="7010280" cy="4343400"/>
            <a:chOff x="990720" y="1523880"/>
            <a:chExt cx="7010280" cy="4343400"/>
          </a:xfrm>
        </p:grpSpPr>
        <p:sp>
          <p:nvSpPr>
            <p:cNvPr id="176" name=""/>
            <p:cNvSpPr/>
            <p:nvPr/>
          </p:nvSpPr>
          <p:spPr>
            <a:xfrm>
              <a:off x="3657600" y="396216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7600" y="34290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600" y="289548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99040" y="31255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9040" y="3659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99040" y="419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1800" y="266688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072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67040" y="236196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72200" y="213336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236196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89640" y="266688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95840" y="152388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74e4d"/>
                </a:gs>
                <a:gs pos="50000">
                  <a:srgbClr val="55aba9"/>
                </a:gs>
                <a:gs pos="100000">
                  <a:srgbClr val="274e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24480" y="228600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74920" y="1757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71800" y="525780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4920" y="5491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02160" y="464796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grpSp>
          <p:nvGrpSpPr>
            <p:cNvPr id="196" name=""/>
            <p:cNvGrpSpPr/>
            <p:nvPr/>
          </p:nvGrpSpPr>
          <p:grpSpPr>
            <a:xfrm>
              <a:off x="2895480" y="1752480"/>
              <a:ext cx="3196800" cy="2890800"/>
              <a:chOff x="2895480" y="1752480"/>
              <a:chExt cx="3196800" cy="2890800"/>
            </a:xfrm>
          </p:grpSpPr>
          <p:sp>
            <p:nvSpPr>
              <p:cNvPr id="197" name=""/>
              <p:cNvSpPr/>
              <p:nvPr/>
            </p:nvSpPr>
            <p:spPr>
              <a:xfrm flipH="1" rot="16200000">
                <a:off x="2813400" y="286596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7df"/>
                  </a:gs>
                  <a:gs pos="100000">
                    <a:srgbClr val="184b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rot="5400000">
                <a:off x="5683320" y="28116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7df"/>
                  </a:gs>
                  <a:gs pos="100000">
                    <a:srgbClr val="184b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800000">
                <a:off x="4250520" y="43164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3b7df"/>
                  </a:gs>
                  <a:gs pos="100000">
                    <a:srgbClr val="184b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222360" y="175248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68880" y="189684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5aba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02440" y="203184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2d5c5b"/>
                  </a:gs>
                  <a:gs pos="50000">
                    <a:srgbClr val="55aba9"/>
                  </a:gs>
                  <a:gs pos="100000">
                    <a:srgbClr val="2d5c5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34560" y="216360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32767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5d1e"/>
                </a:gs>
                <a:gs pos="50000">
                  <a:srgbClr val="dcca42"/>
                </a:gs>
                <a:gs pos="100000">
                  <a:srgbClr val="655d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5d1e"/>
                </a:gs>
                <a:gs pos="50000">
                  <a:srgbClr val="dcca42"/>
                </a:gs>
                <a:gs pos="100000">
                  <a:srgbClr val="655d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5d1e"/>
                </a:gs>
                <a:gs pos="50000">
                  <a:srgbClr val="dcca42"/>
                </a:gs>
                <a:gs pos="100000">
                  <a:srgbClr val="655d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f4a68"/>
                </a:gs>
                <a:gs pos="50000">
                  <a:srgbClr val="22a2e2"/>
                </a:gs>
                <a:gs pos="100000">
                  <a:srgbClr val="0f4a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381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2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132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132767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32767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13276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6248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PowerPoint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44792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2a2e2"/>
              </a:gs>
              <a:gs pos="100000">
                <a:srgbClr val="0f4a68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1cfeb"/>
              </a:gs>
              <a:gs pos="100000">
                <a:srgbClr val="3b5f6c"/>
              </a:gs>
            </a:gsLst>
            <a:lin ang="5400000"/>
          </a:gradFill>
          <a:ln w="25560">
            <a:solidFill>
              <a:srgbClr val="132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32767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2767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327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5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