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12215-30A5-4825-8250-5BB434131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AD4E6-6C55-47FF-B894-CC4233A88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A65D7-F3EC-4D5F-A9DB-30714EBFAF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Palatino Linotyp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39FF6-27A3-424D-A4AD-3378D4A2FB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954ED-5AAC-4608-9B29-4EEF5F79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Palatino Linotyp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E0E2E-0386-488F-884B-1D175B7D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34247-3A48-44EE-918C-E3E33F57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CD247-FFA2-4367-B657-23E9942D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A54E9-61F9-4C6D-84FF-16F15A3E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77240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0C628-8251-423C-A643-C7CAD43F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Palatino Linotyp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C16FC-C836-4856-A168-5F5E81DE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BFE96-7085-4294-A532-7314CB9A3B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24E4D-4E0B-447C-B38D-17CCCE1B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B32F4-001D-4C70-9A97-31F4DA0F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Palatino Linotyp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10AE5-F489-40F4-92A8-2DE9D707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Palatino Linotyp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0D6F4-8A50-4B11-AA29-04821602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Palatino Linotyp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BB094-ADEE-42BA-A23C-BE1A14274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0B812-A46A-4AE6-A26B-84ECE7260F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Palatino Linotyp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8BF39-FB4F-4732-8D09-B4A6484DEB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86D07-E4E7-465A-ADF9-FF50E5D982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77240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D36D6-161B-4935-AF37-C6E774EBF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B5DFA-9450-499E-9F15-4098993431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Palatino Linotyp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B2E7D-031F-4EBA-831E-987E7CBC22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Palatino Linotyp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C6B42-8990-4187-ABA6-070221227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21800" y="114300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79c3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00"/>
              </a:spcBef>
              <a:buClr>
                <a:srgbClr val="32384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00"/>
              </a:spcBef>
              <a:buClr>
                <a:srgbClr val="6633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119800" y="6477120"/>
            <a:ext cx="871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5F74-0B6A-4C7E-BD10-AAC4AA02357A}" type="slidenum">
              <a:rPr b="1" lang="ko-KR" sz="12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347760" y="207720"/>
            <a:ext cx="8339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Palatino Linotype"/>
              </a:rPr>
              <a:t>Click to edit the title text format</a:t>
            </a:r>
            <a:endParaRPr b="1" lang="en-US" sz="2800" spc="-1" strike="noStrike">
              <a:solidFill>
                <a:srgbClr val="663300"/>
              </a:solidFill>
              <a:latin typeface="Palatino Linotype"/>
            </a:endParaRPr>
          </a:p>
        </p:txBody>
      </p:sp>
      <p:sp>
        <p:nvSpPr>
          <p:cNvPr id="3" name=""/>
          <p:cNvSpPr/>
          <p:nvPr/>
        </p:nvSpPr>
        <p:spPr>
          <a:xfrm>
            <a:off x="1219320" y="67816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H="1" flipV="1">
            <a:off x="11653920" y="75600"/>
            <a:ext cx="92160" cy="91800"/>
          </a:xfrm>
          <a:prstGeom prst="ellips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H="1" flipV="1">
            <a:off x="12011040" y="75600"/>
            <a:ext cx="92160" cy="91800"/>
          </a:xfrm>
          <a:prstGeom prst="ellips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16000" y="6346800"/>
            <a:ext cx="1218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  <a:ea typeface="Gulim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928800"/>
            <a:ext cx="9144000" cy="360"/>
          </a:xfrm>
          <a:prstGeom prst="line">
            <a:avLst/>
          </a:prstGeom>
          <a:noFill/>
          <a:ln w="101520">
            <a:solidFill>
              <a:srgbClr val="f6e88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246240" y="6553080"/>
            <a:ext cx="21333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3200040" y="6553080"/>
            <a:ext cx="28954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67813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0DD4-5B1F-478A-8A7B-2761168477E0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Palatino Linotype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Palatino Linotype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89080"/>
            <a:ext cx="1752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663300"/>
                </a:solidFill>
                <a:latin typeface="Verdana"/>
                <a:ea typeface="Gulim"/>
              </a:rPr>
              <a:t>Company 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-3240" y="681120"/>
            <a:ext cx="9147240" cy="6176880"/>
            <a:chOff x="-3240" y="681120"/>
            <a:chExt cx="9147240" cy="6176880"/>
          </a:xfrm>
        </p:grpSpPr>
        <p:grpSp>
          <p:nvGrpSpPr>
            <p:cNvPr id="51" name=""/>
            <p:cNvGrpSpPr/>
            <p:nvPr/>
          </p:nvGrpSpPr>
          <p:grpSpPr>
            <a:xfrm>
              <a:off x="-3240" y="3044520"/>
              <a:ext cx="9147240" cy="3813480"/>
              <a:chOff x="-3240" y="3044520"/>
              <a:chExt cx="9147240" cy="3813480"/>
            </a:xfrm>
          </p:grpSpPr>
          <p:sp>
            <p:nvSpPr>
              <p:cNvPr id="52" name=""/>
              <p:cNvSpPr/>
              <p:nvPr/>
            </p:nvSpPr>
            <p:spPr>
              <a:xfrm>
                <a:off x="0" y="3595680"/>
                <a:ext cx="9144000" cy="3262320"/>
              </a:xfrm>
              <a:prstGeom prst="rect">
                <a:avLst/>
              </a:prstGeom>
              <a:gradFill rotWithShape="0">
                <a:gsLst>
                  <a:gs pos="0">
                    <a:srgbClr val="f6e884"/>
                  </a:gs>
                  <a:gs pos="100000">
                    <a:srgbClr val="716a3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" name=""/>
              <p:cNvGrpSpPr/>
              <p:nvPr/>
            </p:nvGrpSpPr>
            <p:grpSpPr>
              <a:xfrm>
                <a:off x="3573360" y="3600360"/>
                <a:ext cx="4771800" cy="555840"/>
                <a:chOff x="3573360" y="3600360"/>
                <a:chExt cx="4771800" cy="555840"/>
              </a:xfrm>
            </p:grpSpPr>
            <p:sp>
              <p:nvSpPr>
                <p:cNvPr id="54" name=""/>
                <p:cNvSpPr/>
                <p:nvPr/>
              </p:nvSpPr>
              <p:spPr>
                <a:xfrm flipV="1">
                  <a:off x="3573360" y="3600360"/>
                  <a:ext cx="601920" cy="55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6e8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 flipV="1">
                  <a:off x="4166640" y="3600360"/>
                  <a:ext cx="601920" cy="55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6e8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V="1">
                  <a:off x="4767480" y="3600360"/>
                  <a:ext cx="601920" cy="55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6e8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V="1">
                  <a:off x="5361120" y="3600360"/>
                  <a:ext cx="601920" cy="55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6e8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flipV="1">
                  <a:off x="5955480" y="3600360"/>
                  <a:ext cx="601920" cy="55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6e8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V="1">
                  <a:off x="6549120" y="3600360"/>
                  <a:ext cx="601920" cy="55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6e8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flipV="1">
                  <a:off x="7149600" y="3600360"/>
                  <a:ext cx="601920" cy="55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6e8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flipV="1">
                  <a:off x="7743240" y="3600360"/>
                  <a:ext cx="601920" cy="55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6e8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-3240" y="3044520"/>
                <a:ext cx="4771800" cy="555480"/>
                <a:chOff x="-3240" y="3044520"/>
                <a:chExt cx="4771800" cy="555480"/>
              </a:xfrm>
            </p:grpSpPr>
            <p:sp>
              <p:nvSpPr>
                <p:cNvPr id="63" name=""/>
                <p:cNvSpPr/>
                <p:nvPr/>
              </p:nvSpPr>
              <p:spPr>
                <a:xfrm flipV="1">
                  <a:off x="-2880" y="3044160"/>
                  <a:ext cx="601920" cy="55548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6e8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flipV="1">
                  <a:off x="590040" y="3044160"/>
                  <a:ext cx="601920" cy="55548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6e8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flipV="1">
                  <a:off x="1190880" y="3044160"/>
                  <a:ext cx="601920" cy="55548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6e8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V="1">
                  <a:off x="1784520" y="3044160"/>
                  <a:ext cx="601920" cy="55548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6e8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flipV="1">
                  <a:off x="2378880" y="3044160"/>
                  <a:ext cx="601920" cy="55548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6e8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flipV="1">
                  <a:off x="2972520" y="3044160"/>
                  <a:ext cx="601920" cy="55548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6e8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flipV="1">
                  <a:off x="3573000" y="3044160"/>
                  <a:ext cx="601920" cy="55548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6e8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flipV="1">
                  <a:off x="4166640" y="3044160"/>
                  <a:ext cx="601920" cy="55548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6e8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" name=""/>
            <p:cNvGrpSpPr/>
            <p:nvPr/>
          </p:nvGrpSpPr>
          <p:grpSpPr>
            <a:xfrm>
              <a:off x="245880" y="681120"/>
              <a:ext cx="4708440" cy="1754280"/>
              <a:chOff x="245880" y="681120"/>
              <a:chExt cx="4708440" cy="1754280"/>
            </a:xfrm>
          </p:grpSpPr>
          <p:sp>
            <p:nvSpPr>
              <p:cNvPr id="72" name=""/>
              <p:cNvSpPr/>
              <p:nvPr/>
            </p:nvSpPr>
            <p:spPr>
              <a:xfrm>
                <a:off x="245880" y="1106640"/>
                <a:ext cx="185760" cy="185760"/>
              </a:xfrm>
              <a:prstGeom prst="rect">
                <a:avLst/>
              </a:prstGeom>
              <a:solidFill>
                <a:srgbClr val="f6e8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61760" y="1457280"/>
                <a:ext cx="187560" cy="185760"/>
              </a:xfrm>
              <a:prstGeom prst="rect">
                <a:avLst/>
              </a:prstGeom>
              <a:solidFill>
                <a:srgbClr val="f6e8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520640" y="1197000"/>
                <a:ext cx="187200" cy="187560"/>
              </a:xfrm>
              <a:prstGeom prst="rect">
                <a:avLst/>
              </a:prstGeom>
              <a:solidFill>
                <a:srgbClr val="f6e8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333440" y="1876680"/>
                <a:ext cx="185760" cy="185400"/>
              </a:xfrm>
              <a:prstGeom prst="rect">
                <a:avLst/>
              </a:prstGeom>
              <a:solidFill>
                <a:srgbClr val="f6e8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198520" y="1560600"/>
                <a:ext cx="187200" cy="187200"/>
              </a:xfrm>
              <a:prstGeom prst="rect">
                <a:avLst/>
              </a:prstGeom>
              <a:solidFill>
                <a:srgbClr val="f6e8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936440" y="681120"/>
                <a:ext cx="187560" cy="185760"/>
              </a:xfrm>
              <a:prstGeom prst="rect">
                <a:avLst/>
              </a:prstGeom>
              <a:solidFill>
                <a:srgbClr val="f6e8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549520" y="949320"/>
                <a:ext cx="187200" cy="185760"/>
              </a:xfrm>
              <a:prstGeom prst="rect">
                <a:avLst/>
              </a:prstGeom>
              <a:solidFill>
                <a:srgbClr val="f6e8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519360" y="763560"/>
                <a:ext cx="185760" cy="185760"/>
              </a:xfrm>
              <a:prstGeom prst="rect">
                <a:avLst/>
              </a:prstGeom>
              <a:solidFill>
                <a:srgbClr val="f6e8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90320" y="2249640"/>
                <a:ext cx="185760" cy="185760"/>
              </a:xfrm>
              <a:prstGeom prst="rect">
                <a:avLst/>
              </a:prstGeom>
              <a:solidFill>
                <a:srgbClr val="f6e8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736720" y="2062080"/>
                <a:ext cx="187200" cy="187560"/>
              </a:xfrm>
              <a:prstGeom prst="rect">
                <a:avLst/>
              </a:prstGeom>
              <a:solidFill>
                <a:srgbClr val="f6e8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240000" y="1457280"/>
                <a:ext cx="187200" cy="185760"/>
              </a:xfrm>
              <a:prstGeom prst="rect">
                <a:avLst/>
              </a:prstGeom>
              <a:solidFill>
                <a:srgbClr val="f6e8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935160" y="1747800"/>
                <a:ext cx="187560" cy="185760"/>
              </a:xfrm>
              <a:prstGeom prst="rect">
                <a:avLst/>
              </a:prstGeom>
              <a:solidFill>
                <a:srgbClr val="f6e8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768560" y="1292400"/>
                <a:ext cx="185760" cy="185760"/>
              </a:xfrm>
              <a:prstGeom prst="rect">
                <a:avLst/>
              </a:prstGeom>
              <a:solidFill>
                <a:srgbClr val="f6e8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2" marL="914400" algn="ctr">
              <a:spcBef>
                <a:spcPts val="601"/>
              </a:spcBef>
              <a:buClr>
                <a:srgbClr val="32384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371600" algn="ctr">
              <a:spcBef>
                <a:spcPts val="499"/>
              </a:spcBef>
              <a:buClr>
                <a:srgbClr val="6633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4" marL="1828800" algn="ctr">
              <a:spcBef>
                <a:spcPts val="499"/>
              </a:spcBef>
              <a:buClr>
                <a:srgbClr val="663300"/>
              </a:buClr>
              <a:buSzPct val="6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62120" y="4343040"/>
            <a:ext cx="685800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e884"/>
                </a:solidFill>
                <a:latin typeface="Palatino Linotype"/>
                <a:ea typeface="Gulim"/>
              </a:rPr>
              <a:t>Click to edit Master title style Title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Gulim"/>
              </a:rPr>
              <a:t>March 2004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3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42840" y="2205000"/>
            <a:ext cx="494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6e884"/>
                </a:solidFill>
                <a:uFillTx/>
                <a:latin typeface="Lucida Sans Unicode"/>
                <a:ea typeface="Gulim"/>
              </a:rPr>
              <a:t>金色方块企业</a:t>
            </a:r>
            <a:r>
              <a:rPr b="1" lang="en-US" sz="4000" spc="-1" strike="noStrike" u="sng">
                <a:solidFill>
                  <a:srgbClr val="f6e884"/>
                </a:solidFill>
                <a:uFillTx/>
                <a:latin typeface="Lucida Sans Unicode"/>
                <a:ea typeface="Gulim"/>
              </a:rPr>
              <a:t>ppt</a:t>
            </a:r>
            <a:r>
              <a:rPr b="1" lang="en-US" sz="4000" spc="-1" strike="noStrike" u="sng">
                <a:solidFill>
                  <a:srgbClr val="f6e884"/>
                </a:solidFill>
                <a:uFillTx/>
                <a:latin typeface="Lucida Sans Unicode"/>
                <a:ea typeface="Gulim"/>
              </a:rPr>
              <a:t>模板</a:t>
            </a:r>
            <a:r>
              <a:rPr b="1" lang="zh-CN" sz="4000" spc="-1" strike="noStrike" u="sng">
                <a:solidFill>
                  <a:srgbClr val="f6e884"/>
                </a:solidFill>
                <a:uFillTx/>
                <a:latin typeface="Lucida Sans Unicode"/>
                <a:ea typeface="宋体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47760" y="207720"/>
            <a:ext cx="8339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Palatino Linotype"/>
                <a:ea typeface="Gulim"/>
              </a:rPr>
              <a:t>Chart</a:t>
            </a:r>
            <a:endParaRPr b="1" lang="en-US" sz="2800" spc="-1" strike="noStrike">
              <a:solidFill>
                <a:srgbClr val="663300"/>
              </a:solidFill>
              <a:latin typeface="Palatino Linotype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80880" y="1371600"/>
          <a:ext cx="84582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4582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94873-7BCB-407D-BD07-917E2B9124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7760" y="207720"/>
            <a:ext cx="8339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Palatino Linotype"/>
                <a:ea typeface="Gulim"/>
              </a:rPr>
              <a:t>Chart</a:t>
            </a:r>
            <a:endParaRPr b="1" lang="en-US" sz="2800" spc="-1" strike="noStrike">
              <a:solidFill>
                <a:srgbClr val="663300"/>
              </a:solidFill>
              <a:latin typeface="Palatino Linotype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623960" y="1523880"/>
          <a:ext cx="6240600" cy="456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3960" y="1523880"/>
                    <a:ext cx="6240600" cy="456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24B27-CC43-4B2E-8709-76D3AEABEB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Palatino Linotype"/>
              </a:rPr>
              <a:t>使用规范说明</a:t>
            </a:r>
            <a:endParaRPr b="1" lang="en-US" sz="2800" spc="-1" strike="noStrike">
              <a:solidFill>
                <a:srgbClr val="663300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Palatino Linotype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Palatino Linotype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Palatino Linotype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Palatino Linotype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Palatino Linotype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Palatino Linotype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Palatino Linotype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Palatino Linotype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Palatino Linotype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Palatino Linotype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Palatino Linotype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Palatino Linotype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Palatino Linotype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Palatino Linotype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Palatino Linotype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Palatino Linotype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Palatino Linotype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Palatino Linotype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Palatino Linotype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Palatino Linotype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Palatino Linotype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Palatino Linotype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Palatino Linotype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Palatino Linotype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Palatino Linotype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Palatino Linotype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Palatino Linotype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633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633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Palatino Linotype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Palatino Linotype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Palatino Linotyp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alatino Linotype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Palatino Linotype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Palatino Linotype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Palatino Linotype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33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6633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33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6633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6633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33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6633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33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6633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33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6633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33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6633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33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6633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633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6633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633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6633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633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6633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633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6633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B1FB4-235A-4CEA-936E-515DF3919A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647676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Palatino Linotype"/>
                <a:ea typeface="Gulim"/>
              </a:rPr>
              <a:t>Thank you</a:t>
            </a:r>
            <a:endParaRPr b="1" lang="en-US" sz="4400" spc="-1" strike="noStrike">
              <a:solidFill>
                <a:srgbClr val="663300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762120" y="4267080"/>
            <a:ext cx="541008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800" spc="-1" strike="noStrike">
              <a:solidFill>
                <a:srgbClr val="f6e884"/>
              </a:solidFill>
              <a:latin typeface="Palatino Linotype"/>
              <a:ea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276720" y="168264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Palatino Linotype"/>
                <a:ea typeface="Gulim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Palatino Linotype"/>
                <a:ea typeface="Gulim"/>
              </a:rPr>
              <a:t>Content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  <a:ea typeface="Gulim"/>
              </a:rPr>
              <a:t>Tit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9440" y="207720"/>
            <a:ext cx="7859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Palatino Linotype"/>
                <a:ea typeface="Gulim"/>
              </a:rPr>
              <a:t>Contents</a:t>
            </a:r>
            <a:endParaRPr b="1" lang="en-US" sz="2800" spc="-1" strike="noStrike">
              <a:solidFill>
                <a:srgbClr val="663300"/>
              </a:solidFill>
              <a:latin typeface="Palatino Linotype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252252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  <a:ea typeface="Gulim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Palatino Linotype"/>
                <a:ea typeface="Gulim"/>
              </a:rPr>
              <a:t>Content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  <a:ea typeface="Gulim"/>
              </a:rPr>
              <a:t>Titl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3338640"/>
            <a:ext cx="5410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  <a:ea typeface="Gulim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Palatino Linotype"/>
                <a:ea typeface="Gulim"/>
              </a:rPr>
              <a:t>Content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  <a:ea typeface="Gulim"/>
              </a:rPr>
              <a:t>Title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418788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  <a:ea typeface="Gulim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Palatino Linotype"/>
                <a:ea typeface="Gulim"/>
              </a:rPr>
              <a:t>Content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  <a:ea typeface="Gulim"/>
              </a:rPr>
              <a:t>Titl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50259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  <a:ea typeface="Gulim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Palatino Linotype"/>
                <a:ea typeface="Gulim"/>
              </a:rPr>
              <a:t>Content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  <a:ea typeface="Gulim"/>
              </a:rPr>
              <a:t>Title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19360" y="1701360"/>
            <a:ext cx="657360" cy="531360"/>
          </a:xfrm>
          <a:prstGeom prst="bevel">
            <a:avLst>
              <a:gd name="adj" fmla="val 12500"/>
            </a:avLst>
          </a:prstGeom>
          <a:solidFill>
            <a:srgbClr val="f6e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Lucida Sans Unicode"/>
                <a:ea typeface="Gulim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19360" y="2520360"/>
            <a:ext cx="657360" cy="531360"/>
          </a:xfrm>
          <a:prstGeom prst="bevel">
            <a:avLst>
              <a:gd name="adj" fmla="val 12500"/>
            </a:avLst>
          </a:prstGeom>
          <a:solidFill>
            <a:srgbClr val="f6e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Lucida Sans Unicode"/>
                <a:ea typeface="Gulim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19360" y="3339720"/>
            <a:ext cx="657360" cy="531360"/>
          </a:xfrm>
          <a:prstGeom prst="bevel">
            <a:avLst>
              <a:gd name="adj" fmla="val 12500"/>
            </a:avLst>
          </a:prstGeom>
          <a:solidFill>
            <a:srgbClr val="f6e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Lucida Sans Unicode"/>
                <a:ea typeface="Gulim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19360" y="4214520"/>
            <a:ext cx="657360" cy="531360"/>
          </a:xfrm>
          <a:prstGeom prst="bevel">
            <a:avLst>
              <a:gd name="adj" fmla="val 12500"/>
            </a:avLst>
          </a:prstGeom>
          <a:solidFill>
            <a:srgbClr val="f6e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Lucida Sans Unicode"/>
                <a:ea typeface="Gulim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19360" y="5061960"/>
            <a:ext cx="657360" cy="531360"/>
          </a:xfrm>
          <a:prstGeom prst="bevel">
            <a:avLst>
              <a:gd name="adj" fmla="val 12500"/>
            </a:avLst>
          </a:prstGeom>
          <a:solidFill>
            <a:srgbClr val="f6e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Lucida Sans Unicode"/>
                <a:ea typeface="Gulim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62AFB-1644-43CD-8AE2-2DE5D62E45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7760" y="207720"/>
            <a:ext cx="8339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Palatino Linotype"/>
                <a:ea typeface="Gulim"/>
              </a:rPr>
              <a:t>Click to edit Master title style</a:t>
            </a:r>
            <a:endParaRPr b="1" lang="en-US" sz="2800" spc="-1" strike="noStrike">
              <a:solidFill>
                <a:srgbClr val="663300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00280" y="12193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79c3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  <a:ea typeface="Gulim"/>
              </a:rPr>
              <a:t>Competitors </a:t>
            </a:r>
            <a:endParaRPr b="1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e79c3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  <a:ea typeface="Gulim"/>
              </a:rPr>
              <a:t>Strengths </a:t>
            </a:r>
            <a:endParaRPr b="1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  <a:ea typeface="Gulim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e79c3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  <a:ea typeface="Gulim"/>
              </a:rPr>
              <a:t>Weaknesses</a:t>
            </a:r>
            <a:endParaRPr b="1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  <a:ea typeface="Gulim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60816-7BAE-4A01-99FD-DEF53BBC45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971800" y="2743200"/>
            <a:ext cx="3276720" cy="220968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47760" y="207720"/>
            <a:ext cx="8339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Palatino Linotype"/>
                <a:ea typeface="Gulim"/>
              </a:rPr>
              <a:t>Diagram</a:t>
            </a:r>
            <a:endParaRPr b="1" lang="en-US" sz="2800" spc="-1" strike="noStrike">
              <a:solidFill>
                <a:srgbClr val="663300"/>
              </a:solidFill>
              <a:latin typeface="Palatino Linotype"/>
            </a:endParaRPr>
          </a:p>
        </p:txBody>
      </p:sp>
      <p:sp>
        <p:nvSpPr>
          <p:cNvPr id="140" name=""/>
          <p:cNvSpPr/>
          <p:nvPr/>
        </p:nvSpPr>
        <p:spPr>
          <a:xfrm>
            <a:off x="1030320" y="1371600"/>
            <a:ext cx="2895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  <a:ea typeface="Gulim"/>
              </a:rPr>
              <a:t>Diagram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 Linotype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97040" y="5713560"/>
            <a:ext cx="2286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  <a:ea typeface="Gulim"/>
              </a:rPr>
              <a:t>Diagram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 Linotype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13240" y="5713560"/>
            <a:ext cx="2286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  <a:ea typeface="Gulim"/>
              </a:rPr>
              <a:t>Diagram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 Linotype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92240" y="2108520"/>
            <a:ext cx="1990800" cy="1587960"/>
          </a:xfrm>
          <a:prstGeom prst="bevel">
            <a:avLst>
              <a:gd name="adj" fmla="val 12500"/>
            </a:avLst>
          </a:prstGeom>
          <a:solidFill>
            <a:srgbClr val="f6e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92240" y="4120200"/>
            <a:ext cx="1990800" cy="1587960"/>
          </a:xfrm>
          <a:prstGeom prst="bevel">
            <a:avLst>
              <a:gd name="adj" fmla="val 12500"/>
            </a:avLst>
          </a:prstGeom>
          <a:solidFill>
            <a:srgbClr val="f6e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13240" y="2108520"/>
            <a:ext cx="1990800" cy="1587960"/>
          </a:xfrm>
          <a:prstGeom prst="bevel">
            <a:avLst>
              <a:gd name="adj" fmla="val 12500"/>
            </a:avLst>
          </a:prstGeom>
          <a:solidFill>
            <a:srgbClr val="f6e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13240" y="4120200"/>
            <a:ext cx="1990800" cy="1587960"/>
          </a:xfrm>
          <a:prstGeom prst="bevel">
            <a:avLst>
              <a:gd name="adj" fmla="val 12500"/>
            </a:avLst>
          </a:prstGeom>
          <a:solidFill>
            <a:srgbClr val="f6e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4120" y="1371600"/>
            <a:ext cx="2895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  <a:ea typeface="Gulim"/>
              </a:rPr>
              <a:t>Diagra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 Linotype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F3992-C51C-493C-A9E8-C94132EE23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629080" y="1981080"/>
            <a:ext cx="4400280" cy="2122560"/>
          </a:xfrm>
          <a:prstGeom prst="ellipse">
            <a:avLst/>
          </a:prstGeom>
          <a:noFill/>
          <a:ln w="12600">
            <a:solidFill>
              <a:srgbClr val="f6e88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47760" y="207720"/>
            <a:ext cx="8339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Palatino Linotype"/>
                <a:ea typeface="Gulim"/>
              </a:rPr>
              <a:t>Diagram</a:t>
            </a:r>
            <a:endParaRPr b="1" lang="en-US" sz="2800" spc="-1" strike="noStrike">
              <a:solidFill>
                <a:srgbClr val="663300"/>
              </a:solidFill>
              <a:latin typeface="Palatino Linotype"/>
            </a:endParaRPr>
          </a:p>
        </p:txBody>
      </p:sp>
      <p:sp>
        <p:nvSpPr>
          <p:cNvPr id="150" name=""/>
          <p:cNvSpPr/>
          <p:nvPr/>
        </p:nvSpPr>
        <p:spPr>
          <a:xfrm>
            <a:off x="3581280" y="2727360"/>
            <a:ext cx="2895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 Linotype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4869000"/>
            <a:ext cx="2286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  <a:ea typeface="Gulim"/>
              </a:rPr>
              <a:t>Diagra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 Linotype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77120" y="4098960"/>
            <a:ext cx="2286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  <a:ea typeface="Gulim"/>
              </a:rPr>
              <a:t>Diagram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 Linotype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3954600"/>
            <a:ext cx="2286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  <a:ea typeface="Gulim"/>
              </a:rPr>
              <a:t>Diagram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 Linotype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2827800">
            <a:off x="2090520" y="3627360"/>
            <a:ext cx="6094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4381560"/>
            <a:ext cx="60984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8767400">
            <a:off x="6553080" y="3657240"/>
            <a:ext cx="60948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46111-B994-4460-B175-3CACF3319B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7760" y="207720"/>
            <a:ext cx="8339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Palatino Linotype"/>
                <a:ea typeface="Gulim"/>
              </a:rPr>
              <a:t>Diagram</a:t>
            </a:r>
            <a:endParaRPr b="1" lang="en-US" sz="2800" spc="-1" strike="noStrike">
              <a:solidFill>
                <a:srgbClr val="663300"/>
              </a:solidFill>
              <a:latin typeface="Palatino Linotype"/>
            </a:endParaRPr>
          </a:p>
        </p:txBody>
      </p:sp>
      <p:sp>
        <p:nvSpPr>
          <p:cNvPr id="158" name=""/>
          <p:cNvSpPr/>
          <p:nvPr/>
        </p:nvSpPr>
        <p:spPr>
          <a:xfrm>
            <a:off x="447840" y="1600200"/>
            <a:ext cx="25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  <a:ea typeface="Gulim"/>
              </a:rPr>
              <a:t>Diagram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71680" y="1600200"/>
            <a:ext cx="25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  <a:ea typeface="Gulim"/>
              </a:rPr>
              <a:t>Diagra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1200" y="1600200"/>
            <a:ext cx="25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  <a:ea typeface="Gulim"/>
              </a:rPr>
              <a:t>Diagram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4343400"/>
            <a:ext cx="76960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79c3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  <a:ea typeface="Gulim"/>
              </a:rPr>
              <a:t>Competi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0880" y="2155320"/>
            <a:ext cx="2193840" cy="1953720"/>
          </a:xfrm>
          <a:prstGeom prst="bevel">
            <a:avLst>
              <a:gd name="adj" fmla="val 12500"/>
            </a:avLst>
          </a:prstGeom>
          <a:solidFill>
            <a:srgbClr val="f6e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35400" y="2155320"/>
            <a:ext cx="2394000" cy="1953720"/>
          </a:xfrm>
          <a:prstGeom prst="bevel">
            <a:avLst>
              <a:gd name="adj" fmla="val 12500"/>
            </a:avLst>
          </a:prstGeom>
          <a:solidFill>
            <a:srgbClr val="f6e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62560" y="2155320"/>
            <a:ext cx="2295720" cy="1953720"/>
          </a:xfrm>
          <a:prstGeom prst="bevel">
            <a:avLst>
              <a:gd name="adj" fmla="val 12500"/>
            </a:avLst>
          </a:prstGeom>
          <a:solidFill>
            <a:srgbClr val="f6e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2776680" y="2952360"/>
            <a:ext cx="6094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6200000">
            <a:off x="5694480" y="2952360"/>
            <a:ext cx="6094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1B24A-C7C4-4B3A-808F-563FD1B324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7760" y="207720"/>
            <a:ext cx="8339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Palatino Linotype"/>
                <a:ea typeface="Gulim"/>
              </a:rPr>
              <a:t>Chart</a:t>
            </a:r>
            <a:endParaRPr b="1" lang="en-US" sz="2800" spc="-1" strike="noStrike">
              <a:solidFill>
                <a:srgbClr val="663300"/>
              </a:solidFill>
              <a:latin typeface="Palatino Linotype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123336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79c3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3846"/>
                </a:solidFill>
                <a:latin typeface="Palatino Linotype"/>
                <a:ea typeface="Guli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Palatino Linotype"/>
                <a:ea typeface="Gulim"/>
              </a:rPr>
              <a:t>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068480" y="1862280"/>
          <a:ext cx="7003800" cy="3889080"/>
        </p:xfrm>
        <a:graphic>
          <a:graphicData uri="http://schemas.openxmlformats.org/drawingml/2006/table">
            <a:tbl>
              <a:tblPr/>
              <a:tblGrid>
                <a:gridCol w="1168200"/>
                <a:gridCol w="1166760"/>
                <a:gridCol w="1166760"/>
                <a:gridCol w="1166760"/>
                <a:gridCol w="1168560"/>
                <a:gridCol w="1166760"/>
              </a:tblGrid>
              <a:tr h="645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  <a:ea typeface="Gulim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  <a:ea typeface="Gulim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  <a:ea typeface="Gulim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  <a:ea typeface="Gulim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  <a:ea typeface="Gulim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5400000"/>
                    </a:gradFill>
                  </a:tcPr>
                </a:tc>
              </a:tr>
              <a:tr h="65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Palatino Linotype"/>
                          <a:ea typeface="Gulim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6e884"/>
                        </a:gs>
                        <a:gs pos="50000">
                          <a:srgbClr val="ffffff"/>
                        </a:gs>
                        <a:gs pos="100000">
                          <a:srgbClr val="f6e88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Palatino Linotype"/>
                          <a:ea typeface="Gulim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6e884"/>
                        </a:gs>
                        <a:gs pos="50000">
                          <a:srgbClr val="ffffff"/>
                        </a:gs>
                        <a:gs pos="100000">
                          <a:srgbClr val="f6e88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Palatino Linotype"/>
                          <a:ea typeface="Gulim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6e884"/>
                        </a:gs>
                        <a:gs pos="50000">
                          <a:srgbClr val="ffffff"/>
                        </a:gs>
                        <a:gs pos="100000">
                          <a:srgbClr val="f6e88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Palatino Linotype"/>
                          <a:ea typeface="Gulim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6e884"/>
                        </a:gs>
                        <a:gs pos="50000">
                          <a:srgbClr val="ffffff"/>
                        </a:gs>
                        <a:gs pos="100000">
                          <a:srgbClr val="f6e88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Palatino Linotype"/>
                          <a:ea typeface="Gulim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6e884"/>
                        </a:gs>
                        <a:gs pos="50000">
                          <a:srgbClr val="ffffff"/>
                        </a:gs>
                        <a:gs pos="100000">
                          <a:srgbClr val="f6e88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2727360" y="1866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32040" y="6021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663300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3E95F-F733-4AB1-A545-E7B3E6D534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7760" y="207720"/>
            <a:ext cx="8339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Palatino Linotype"/>
                <a:ea typeface="Gulim"/>
              </a:rPr>
              <a:t>Diagram</a:t>
            </a:r>
            <a:endParaRPr b="1" lang="en-US" sz="2800" spc="-1" strike="noStrike">
              <a:solidFill>
                <a:srgbClr val="663300"/>
              </a:solidFill>
              <a:latin typeface="Palatino Linotype"/>
            </a:endParaRPr>
          </a:p>
        </p:txBody>
      </p:sp>
      <p:sp>
        <p:nvSpPr>
          <p:cNvPr id="173" name=""/>
          <p:cNvSpPr/>
          <p:nvPr/>
        </p:nvSpPr>
        <p:spPr>
          <a:xfrm>
            <a:off x="2422440" y="1714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1800" y="1981080"/>
            <a:ext cx="3581280" cy="4191120"/>
          </a:xfrm>
          <a:custGeom>
            <a:avLst/>
            <a:gdLst>
              <a:gd name="textAreaLeft" fmla="*/ 174600 w 3581280"/>
              <a:gd name="textAreaRight" fmla="*/ 3406680 w 3581280"/>
              <a:gd name="textAreaTop" fmla="*/ 174600 h 4191120"/>
              <a:gd name="textAreaBottom" fmla="*/ 4016520 h 4191120"/>
            </a:gdLst>
            <a:ahLst/>
            <a:rect l="textAreaLeft" t="textAreaTop" r="textAreaRight" b="textAreaBottom"/>
            <a:pathLst>
              <a:path w="21600" h="25278">
                <a:moveTo>
                  <a:pt x="3600" y="0"/>
                </a:moveTo>
                <a:arcTo wR="3600" hR="3600" stAng="16200000" swAng="-5400000"/>
                <a:lnTo>
                  <a:pt x="0" y="21678"/>
                </a:lnTo>
                <a:arcTo wR="3600" hR="3600" stAng="10800000" swAng="-5400000"/>
                <a:lnTo>
                  <a:pt x="18000" y="252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6e884"/>
              </a:gs>
            </a:gsLst>
            <a:lin ang="5400000"/>
          </a:gradFill>
          <a:ln w="255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5238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2438280"/>
            <a:ext cx="4343400" cy="33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e79c3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alatino Linotype"/>
                <a:ea typeface="Gulim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Palatino Linotype"/>
                <a:ea typeface="Gulim"/>
              </a:rPr>
              <a:t>Competito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  <a:ea typeface="Gulim"/>
              </a:rPr>
              <a:t>You may want to allocate one slide per competi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e79c3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Palatino Linotype"/>
                <a:ea typeface="Gulim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Palatino Linotype"/>
                <a:ea typeface="Gulim"/>
              </a:rPr>
              <a:t>Strength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  <a:ea typeface="Gulim"/>
              </a:rPr>
              <a:t>Your strengths relative to competi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66960" y="2286000"/>
            <a:ext cx="29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96D7D-D60E-4F43-BD68-0170750DAD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7760" y="207720"/>
            <a:ext cx="8339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Palatino Linotype"/>
                <a:ea typeface="Gulim"/>
              </a:rPr>
              <a:t>Diagram</a:t>
            </a:r>
            <a:endParaRPr b="1" lang="en-US" sz="2800" spc="-1" strike="noStrike">
              <a:solidFill>
                <a:srgbClr val="663300"/>
              </a:solidFill>
              <a:latin typeface="Palatino Linotype"/>
            </a:endParaRPr>
          </a:p>
        </p:txBody>
      </p:sp>
      <p:sp>
        <p:nvSpPr>
          <p:cNvPr id="179" name=""/>
          <p:cNvSpPr/>
          <p:nvPr/>
        </p:nvSpPr>
        <p:spPr>
          <a:xfrm>
            <a:off x="2727360" y="1866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98880" y="2043000"/>
            <a:ext cx="3581640" cy="4191120"/>
          </a:xfrm>
          <a:custGeom>
            <a:avLst/>
            <a:gdLst>
              <a:gd name="textAreaLeft" fmla="*/ 174600 w 3581640"/>
              <a:gd name="textAreaRight" fmla="*/ 3407040 w 3581640"/>
              <a:gd name="textAreaTop" fmla="*/ 174600 h 4191120"/>
              <a:gd name="textAreaBottom" fmla="*/ 4016520 h 4191120"/>
            </a:gdLst>
            <a:ahLst/>
            <a:rect l="textAreaLeft" t="textAreaTop" r="textAreaRight" b="textAreaBottom"/>
            <a:pathLst>
              <a:path w="21600" h="25275">
                <a:moveTo>
                  <a:pt x="3600" y="0"/>
                </a:moveTo>
                <a:arcTo wR="3600" hR="3600" stAng="16200000" swAng="-5400000"/>
                <a:lnTo>
                  <a:pt x="0" y="21675"/>
                </a:lnTo>
                <a:arcTo wR="3600" hR="3600" stAng="10800000" swAng="-5400000"/>
                <a:lnTo>
                  <a:pt x="18000" y="252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6e884"/>
              </a:gs>
            </a:gsLst>
            <a:lin ang="5400000"/>
          </a:gradFill>
          <a:ln w="255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2043000"/>
            <a:ext cx="3581280" cy="4191120"/>
          </a:xfrm>
          <a:custGeom>
            <a:avLst/>
            <a:gdLst>
              <a:gd name="textAreaLeft" fmla="*/ 174600 w 3581280"/>
              <a:gd name="textAreaRight" fmla="*/ 3406680 w 3581280"/>
              <a:gd name="textAreaTop" fmla="*/ 174600 h 4191120"/>
              <a:gd name="textAreaBottom" fmla="*/ 4016520 h 4191120"/>
            </a:gdLst>
            <a:ahLst/>
            <a:rect l="textAreaLeft" t="textAreaTop" r="textAreaRight" b="textAreaBottom"/>
            <a:pathLst>
              <a:path w="21600" h="25278">
                <a:moveTo>
                  <a:pt x="3600" y="0"/>
                </a:moveTo>
                <a:arcTo wR="3600" hR="3600" stAng="16200000" swAng="-5400000"/>
                <a:lnTo>
                  <a:pt x="0" y="21678"/>
                </a:lnTo>
                <a:arcTo wR="3600" hR="3600" stAng="10800000" swAng="-5400000"/>
                <a:lnTo>
                  <a:pt x="18000" y="252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6e884"/>
              </a:gs>
            </a:gsLst>
            <a:lin ang="5400000"/>
          </a:gradFill>
          <a:ln w="255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1600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2500200"/>
            <a:ext cx="29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  <a:ea typeface="Gulim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89440" y="16002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18280" y="2500200"/>
            <a:ext cx="29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  <a:ea typeface="Gulim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4187880" y="3792600"/>
            <a:ext cx="73008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3917E-383C-40E1-85EE-BBEE930C7A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8T11:56:0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5:54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_AdHocReviewCycleID">
    <vt:r8>1344399779</vt:r8>
  </property>
  <property fmtid="{D5CDD505-2E9C-101B-9397-08002B2CF9AE}" pid="4" name="_AuthorEmail">
    <vt:lpwstr>support@themegallery.co.kr</vt:lpwstr>
  </property>
  <property fmtid="{D5CDD505-2E9C-101B-9397-08002B2CF9AE}" pid="5" name="_AuthorEmailDisplayName">
    <vt:lpwstr>support</vt:lpwstr>
  </property>
  <property fmtid="{D5CDD505-2E9C-101B-9397-08002B2CF9AE}" pid="6" name="_EmailSubject">
    <vt:lpwstr>�ȳ��ϼ��� ���̳ʿ��� �Ŀ�����Ʈ ����� �˷�帱�� �־ ���Ϻ���ϴ�.</vt:lpwstr>
  </property>
  <property fmtid="{D5CDD505-2E9C-101B-9397-08002B2CF9AE}" pid="7" name="_PreviousAdHocReviewCycleID">
    <vt:r8>-338095602</vt:r8>
  </property>
</Properties>
</file>