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1D4-6BB3-4C03-B664-5AE97C51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25E-4475-42DB-8295-2F780D9E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46E-6D3B-4572-AA6E-DD5D1130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869-3998-49E9-A584-AA863E25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323-6531-4D39-8683-53D8E735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38E-937B-4ABB-9EEF-058681C8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200-0A37-4523-9A3A-B94F7770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E02-679D-4DA1-84A5-6ECF005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852-46E6-4845-8641-8892EDE6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B0F-2076-4FA1-B368-10E64C72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A79-BC83-43D2-8A5D-4DE062C4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397-5E67-4B60-8EBD-E288E9B7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8661-457E-4E7B-A107-6CFE96A4F8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2367-02D2-4751-A55A-68B9F32FFA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media1.mp3" TargetMode="External"/><Relationship Id="rId3" Type="http://schemas.microsoft.com/office/2007/relationships/media" Target="file:///tmp/home/.config/libreoffice/4/user/gallery/media1.mp3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4629240" y="1506600"/>
            <a:ext cx="1600200" cy="1738080"/>
            <a:chOff x="4629240" y="1506600"/>
            <a:chExt cx="1600200" cy="1738080"/>
          </a:xfrm>
        </p:grpSpPr>
        <p:sp>
          <p:nvSpPr>
            <p:cNvPr id="43" name="AutoShape 4"/>
            <p:cNvSpPr/>
            <p:nvPr/>
          </p:nvSpPr>
          <p:spPr>
            <a:xfrm>
              <a:off x="4641120" y="1513080"/>
              <a:ext cx="1576440" cy="17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4784400" y="1658880"/>
              <a:ext cx="1293480" cy="141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4629240" y="1506600"/>
              <a:ext cx="1600200" cy="173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5"/>
          <p:cNvGrpSpPr/>
          <p:nvPr/>
        </p:nvGrpSpPr>
        <p:grpSpPr>
          <a:xfrm>
            <a:off x="2556000" y="1506600"/>
            <a:ext cx="1598400" cy="1738080"/>
            <a:chOff x="2556000" y="1506600"/>
            <a:chExt cx="1598400" cy="1738080"/>
          </a:xfrm>
        </p:grpSpPr>
        <p:sp>
          <p:nvSpPr>
            <p:cNvPr id="47" name="AutoShape 4"/>
            <p:cNvSpPr/>
            <p:nvPr/>
          </p:nvSpPr>
          <p:spPr>
            <a:xfrm>
              <a:off x="2567880" y="1513080"/>
              <a:ext cx="1574640" cy="17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2710800" y="1658880"/>
              <a:ext cx="1292040" cy="141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2556000" y="1506600"/>
              <a:ext cx="1598400" cy="173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9"/>
          <p:cNvSpPr/>
          <p:nvPr/>
        </p:nvSpPr>
        <p:spPr>
          <a:xfrm>
            <a:off x="399564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608328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5018040" y="1401840"/>
            <a:ext cx="90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8e8c"/>
                </a:solidFill>
                <a:latin typeface="Arial"/>
                <a:ea typeface="方正少儿简体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018040" y="1401840"/>
            <a:ext cx="90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8e8c"/>
                </a:solidFill>
                <a:latin typeface="Arial"/>
                <a:ea typeface="方正少儿简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5018040" y="1401840"/>
            <a:ext cx="90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8e8c"/>
                </a:solidFill>
                <a:latin typeface="Arial"/>
                <a:ea typeface="方正少儿简体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5018040" y="1401840"/>
            <a:ext cx="90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8e8c"/>
                </a:solidFill>
                <a:latin typeface="Arial"/>
                <a:ea typeface="方正少儿简体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5018040" y="1401840"/>
            <a:ext cx="90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8e8c"/>
                </a:solidFill>
                <a:latin typeface="Arial"/>
                <a:ea typeface="方正少儿简体"/>
              </a:rPr>
              <a:t>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5018040" y="1401840"/>
            <a:ext cx="90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8e8c"/>
                </a:solidFill>
                <a:latin typeface="Arial"/>
                <a:ea typeface="方正少儿简体"/>
              </a:rPr>
              <a:t>6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5018040" y="1401840"/>
            <a:ext cx="90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8e8c"/>
                </a:solidFill>
                <a:latin typeface="Arial"/>
                <a:ea typeface="方正少儿简体"/>
              </a:rPr>
              <a:t>7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5018040" y="1401840"/>
            <a:ext cx="90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8e8c"/>
                </a:solidFill>
                <a:latin typeface="Arial"/>
                <a:ea typeface="方正少儿简体"/>
              </a:rPr>
              <a:t>8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5018040" y="1401840"/>
            <a:ext cx="90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8e8c"/>
                </a:solidFill>
                <a:latin typeface="Arial"/>
                <a:ea typeface="方正少儿简体"/>
              </a:rPr>
              <a:t>9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5"/>
          <p:cNvSpPr/>
          <p:nvPr/>
        </p:nvSpPr>
        <p:spPr>
          <a:xfrm>
            <a:off x="2843280" y="1363680"/>
            <a:ext cx="104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48e8c"/>
                </a:solidFill>
                <a:latin typeface="Arial"/>
                <a:ea typeface="方正少儿简体"/>
              </a:rPr>
              <a:t>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25"/>
          <p:cNvGrpSpPr/>
          <p:nvPr/>
        </p:nvGrpSpPr>
        <p:grpSpPr>
          <a:xfrm>
            <a:off x="4610160" y="1457280"/>
            <a:ext cx="1444680" cy="1846440"/>
            <a:chOff x="4610160" y="1457280"/>
            <a:chExt cx="1444680" cy="1846440"/>
          </a:xfrm>
        </p:grpSpPr>
        <p:sp>
          <p:nvSpPr>
            <p:cNvPr id="63" name="TextBox 26"/>
            <p:cNvSpPr/>
            <p:nvPr/>
          </p:nvSpPr>
          <p:spPr>
            <a:xfrm>
              <a:off x="4610160" y="1457280"/>
              <a:ext cx="8996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348e8c"/>
                  </a:solidFill>
                  <a:latin typeface="Arial"/>
                  <a:ea typeface="方正少儿简体"/>
                </a:rPr>
                <a:t>1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27"/>
            <p:cNvSpPr/>
            <p:nvPr/>
          </p:nvSpPr>
          <p:spPr>
            <a:xfrm>
              <a:off x="5155200" y="1457280"/>
              <a:ext cx="8996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348e8c"/>
                  </a:solidFill>
                  <a:latin typeface="Arial"/>
                  <a:ea typeface="方正少儿简体"/>
                </a:rPr>
                <a:t>0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175280" y="-1638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1080" y="466092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28600" y="3398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师节动态感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40"/>
          <p:cNvSpPr/>
          <p:nvPr/>
        </p:nvSpPr>
        <p:spPr>
          <a:xfrm>
            <a:off x="2482920" y="7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1"/>
          <p:cNvSpPr/>
          <p:nvPr/>
        </p:nvSpPr>
        <p:spPr>
          <a:xfrm>
            <a:off x="2843280" y="271620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2"/>
          <p:cNvSpPr/>
          <p:nvPr/>
        </p:nvSpPr>
        <p:spPr>
          <a:xfrm>
            <a:off x="1655640" y="401760"/>
            <a:ext cx="27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3"/>
          <p:cNvSpPr/>
          <p:nvPr/>
        </p:nvSpPr>
        <p:spPr>
          <a:xfrm>
            <a:off x="3924360" y="17082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28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28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4"/>
          <p:cNvSpPr/>
          <p:nvPr/>
        </p:nvSpPr>
        <p:spPr>
          <a:xfrm>
            <a:off x="2489040" y="14349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45"/>
          <p:cNvSpPr/>
          <p:nvPr/>
        </p:nvSpPr>
        <p:spPr>
          <a:xfrm>
            <a:off x="4535640" y="9777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6"/>
          <p:cNvSpPr/>
          <p:nvPr/>
        </p:nvSpPr>
        <p:spPr>
          <a:xfrm>
            <a:off x="1498680" y="18320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7"/>
          <p:cNvSpPr/>
          <p:nvPr/>
        </p:nvSpPr>
        <p:spPr>
          <a:xfrm>
            <a:off x="1752480" y="25527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8"/>
          <p:cNvSpPr/>
          <p:nvPr/>
        </p:nvSpPr>
        <p:spPr>
          <a:xfrm>
            <a:off x="2050920" y="12384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9"/>
          <p:cNvSpPr/>
          <p:nvPr/>
        </p:nvSpPr>
        <p:spPr>
          <a:xfrm>
            <a:off x="3924360" y="31478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0"/>
          <p:cNvSpPr/>
          <p:nvPr/>
        </p:nvSpPr>
        <p:spPr>
          <a:xfrm>
            <a:off x="5986440" y="131760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1"/>
          <p:cNvSpPr/>
          <p:nvPr/>
        </p:nvSpPr>
        <p:spPr>
          <a:xfrm>
            <a:off x="2050920" y="2914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2"/>
          <p:cNvSpPr/>
          <p:nvPr/>
        </p:nvSpPr>
        <p:spPr>
          <a:xfrm>
            <a:off x="5867280" y="1903320"/>
            <a:ext cx="18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53"/>
          <p:cNvSpPr/>
          <p:nvPr/>
        </p:nvSpPr>
        <p:spPr>
          <a:xfrm>
            <a:off x="6300720" y="6904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4"/>
          <p:cNvSpPr/>
          <p:nvPr/>
        </p:nvSpPr>
        <p:spPr>
          <a:xfrm>
            <a:off x="5854680" y="1033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5"/>
          <p:cNvSpPr/>
          <p:nvPr/>
        </p:nvSpPr>
        <p:spPr>
          <a:xfrm>
            <a:off x="5076720" y="40176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6"/>
          <p:cNvSpPr/>
          <p:nvPr/>
        </p:nvSpPr>
        <p:spPr>
          <a:xfrm>
            <a:off x="3408480" y="105264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7"/>
          <p:cNvSpPr/>
          <p:nvPr/>
        </p:nvSpPr>
        <p:spPr>
          <a:xfrm>
            <a:off x="1260360" y="10904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8"/>
          <p:cNvSpPr/>
          <p:nvPr/>
        </p:nvSpPr>
        <p:spPr>
          <a:xfrm>
            <a:off x="3851280" y="1276200"/>
            <a:ext cx="23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9"/>
          <p:cNvSpPr/>
          <p:nvPr/>
        </p:nvSpPr>
        <p:spPr>
          <a:xfrm>
            <a:off x="4627440" y="221148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0"/>
          <p:cNvSpPr/>
          <p:nvPr/>
        </p:nvSpPr>
        <p:spPr>
          <a:xfrm>
            <a:off x="2400480" y="327024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1"/>
          <p:cNvSpPr/>
          <p:nvPr/>
        </p:nvSpPr>
        <p:spPr>
          <a:xfrm>
            <a:off x="5364000" y="28512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2"/>
          <p:cNvSpPr/>
          <p:nvPr/>
        </p:nvSpPr>
        <p:spPr>
          <a:xfrm>
            <a:off x="2771640" y="3613320"/>
            <a:ext cx="27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3"/>
          <p:cNvSpPr/>
          <p:nvPr/>
        </p:nvSpPr>
        <p:spPr>
          <a:xfrm>
            <a:off x="3527280" y="42800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4"/>
          <p:cNvSpPr/>
          <p:nvPr/>
        </p:nvSpPr>
        <p:spPr>
          <a:xfrm>
            <a:off x="4041720" y="4587840"/>
            <a:ext cx="23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65"/>
          <p:cNvSpPr/>
          <p:nvPr/>
        </p:nvSpPr>
        <p:spPr>
          <a:xfrm>
            <a:off x="4032360" y="401148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6"/>
          <p:cNvSpPr/>
          <p:nvPr/>
        </p:nvSpPr>
        <p:spPr>
          <a:xfrm>
            <a:off x="5364000" y="16747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7"/>
          <p:cNvSpPr/>
          <p:nvPr/>
        </p:nvSpPr>
        <p:spPr>
          <a:xfrm>
            <a:off x="2700360" y="21272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68"/>
          <p:cNvSpPr/>
          <p:nvPr/>
        </p:nvSpPr>
        <p:spPr>
          <a:xfrm>
            <a:off x="1547640" y="22636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9"/>
          <p:cNvSpPr/>
          <p:nvPr/>
        </p:nvSpPr>
        <p:spPr>
          <a:xfrm>
            <a:off x="4788000" y="75240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0"/>
          <p:cNvSpPr/>
          <p:nvPr/>
        </p:nvSpPr>
        <p:spPr>
          <a:xfrm>
            <a:off x="6585120" y="2638440"/>
            <a:ext cx="111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71"/>
          <p:cNvSpPr/>
          <p:nvPr/>
        </p:nvSpPr>
        <p:spPr>
          <a:xfrm>
            <a:off x="5076720" y="34164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2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sp>
          <p:nvSpPr>
            <p:cNvPr id="101" name="矩形 212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5"/>
            <p:cNvGrpSpPr/>
            <p:nvPr/>
          </p:nvGrpSpPr>
          <p:grpSpPr>
            <a:xfrm>
              <a:off x="2555640" y="1506240"/>
              <a:ext cx="3673080" cy="1739520"/>
              <a:chOff x="2555640" y="1506240"/>
              <a:chExt cx="3673080" cy="1739520"/>
            </a:xfrm>
          </p:grpSpPr>
          <p:sp>
            <p:nvSpPr>
              <p:cNvPr id="103" name="AutoShape 4"/>
              <p:cNvSpPr/>
              <p:nvPr/>
            </p:nvSpPr>
            <p:spPr>
              <a:xfrm>
                <a:off x="2567520" y="1512720"/>
                <a:ext cx="1575000" cy="173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2710440" y="1658880"/>
                <a:ext cx="1292400" cy="141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2555640" y="1506240"/>
                <a:ext cx="1598400" cy="173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"/>
              <p:cNvSpPr/>
              <p:nvPr/>
            </p:nvSpPr>
            <p:spPr>
              <a:xfrm>
                <a:off x="4785480" y="1658880"/>
                <a:ext cx="1292400" cy="141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7"/>
              <p:cNvSpPr/>
              <p:nvPr/>
            </p:nvSpPr>
            <p:spPr>
              <a:xfrm>
                <a:off x="4630320" y="1506240"/>
                <a:ext cx="1598400" cy="173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Box 214"/>
            <p:cNvSpPr/>
            <p:nvPr/>
          </p:nvSpPr>
          <p:spPr>
            <a:xfrm>
              <a:off x="3996000" y="244008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少儿简体"/>
                  <a:ea typeface="方正少儿简体"/>
                </a:rPr>
                <a:t>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15"/>
            <p:cNvSpPr/>
            <p:nvPr/>
          </p:nvSpPr>
          <p:spPr>
            <a:xfrm>
              <a:off x="6084360" y="244008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少儿简体"/>
                  <a:ea typeface="方正少儿简体"/>
                </a:rPr>
                <a:t>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16"/>
            <p:cNvSpPr/>
            <p:nvPr/>
          </p:nvSpPr>
          <p:spPr>
            <a:xfrm>
              <a:off x="2843640" y="1364040"/>
              <a:ext cx="10422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348e8c"/>
                  </a:solidFill>
                  <a:latin typeface="Arial"/>
                  <a:ea typeface="方正少儿简体"/>
                </a:rPr>
                <a:t>9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组合 217"/>
            <p:cNvGrpSpPr/>
            <p:nvPr/>
          </p:nvGrpSpPr>
          <p:grpSpPr>
            <a:xfrm>
              <a:off x="4610160" y="1457640"/>
              <a:ext cx="1445040" cy="1846440"/>
              <a:chOff x="4610160" y="1457640"/>
              <a:chExt cx="1445040" cy="1846440"/>
            </a:xfrm>
          </p:grpSpPr>
          <p:sp>
            <p:nvSpPr>
              <p:cNvPr id="112" name="TextBox 218"/>
              <p:cNvSpPr/>
              <p:nvPr/>
            </p:nvSpPr>
            <p:spPr>
              <a:xfrm>
                <a:off x="4610160" y="1457640"/>
                <a:ext cx="9000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348e8c"/>
                    </a:solidFill>
                    <a:latin typeface="Arial"/>
                    <a:ea typeface="方正少儿简体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Box 219"/>
              <p:cNvSpPr/>
              <p:nvPr/>
            </p:nvSpPr>
            <p:spPr>
              <a:xfrm>
                <a:off x="5155200" y="1457640"/>
                <a:ext cx="9000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348e8c"/>
                    </a:solidFill>
                    <a:latin typeface="Arial"/>
                    <a:ea typeface="方正少儿简体"/>
                  </a:rPr>
                  <a:t>0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Group 5"/>
          <p:cNvGrpSpPr/>
          <p:nvPr/>
        </p:nvGrpSpPr>
        <p:grpSpPr>
          <a:xfrm>
            <a:off x="-978480" y="2748600"/>
            <a:ext cx="1725120" cy="2441880"/>
            <a:chOff x="-978480" y="2748600"/>
            <a:chExt cx="1725120" cy="2441880"/>
          </a:xfrm>
        </p:grpSpPr>
        <p:sp>
          <p:nvSpPr>
            <p:cNvPr id="115" name="AutoShape 4"/>
            <p:cNvSpPr/>
            <p:nvPr/>
          </p:nvSpPr>
          <p:spPr>
            <a:xfrm rot="1080600">
              <a:off x="-645120" y="2941200"/>
              <a:ext cx="1022760" cy="21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1080600">
              <a:off x="-663480" y="2863440"/>
              <a:ext cx="1095120" cy="2211480"/>
            </a:xfrm>
            <a:prstGeom prst="pie">
              <a:avLst/>
            </a:prstGeom>
            <a:solidFill>
              <a:srgbClr val="f3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 rot="1080600">
              <a:off x="-327960" y="3829680"/>
              <a:ext cx="353880" cy="818640"/>
            </a:xfrm>
            <a:prstGeom prst="pie">
              <a:avLst/>
            </a:prstGeom>
            <a:solidFill>
              <a:srgbClr val="e89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1080600">
              <a:off x="-258840" y="3832920"/>
              <a:ext cx="298440" cy="432000"/>
            </a:xfrm>
            <a:prstGeom prst="pie">
              <a:avLst/>
            </a:prstGeom>
            <a:solidFill>
              <a:srgbClr val="dc3b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9"/>
            <p:cNvSpPr/>
            <p:nvPr/>
          </p:nvSpPr>
          <p:spPr>
            <a:xfrm rot="1080600">
              <a:off x="165960" y="3415320"/>
              <a:ext cx="284760" cy="289800"/>
            </a:xfrm>
            <a:prstGeom prst="ellipse">
              <a:avLst/>
            </a:prstGeom>
            <a:solidFill>
              <a:srgbClr val="f5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0"/>
            <p:cNvSpPr/>
            <p:nvPr/>
          </p:nvSpPr>
          <p:spPr>
            <a:xfrm rot="1080600">
              <a:off x="-347760" y="3247920"/>
              <a:ext cx="283320" cy="289800"/>
            </a:xfrm>
            <a:prstGeom prst="ellipse">
              <a:avLst/>
            </a:prstGeom>
            <a:solidFill>
              <a:srgbClr val="f5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 rot="1080600">
              <a:off x="-22320" y="3216600"/>
              <a:ext cx="78480" cy="9720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 rot="1080600">
              <a:off x="164880" y="3285000"/>
              <a:ext cx="84960" cy="8748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 rot="1080600">
              <a:off x="-338400" y="3420720"/>
              <a:ext cx="680040" cy="44604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 rot="1080600">
              <a:off x="-663480" y="2863440"/>
              <a:ext cx="1095120" cy="221148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8"/>
          <p:cNvGrpSpPr/>
          <p:nvPr/>
        </p:nvGrpSpPr>
        <p:grpSpPr>
          <a:xfrm>
            <a:off x="7451640" y="2860560"/>
            <a:ext cx="1116000" cy="2219400"/>
            <a:chOff x="7451640" y="2860560"/>
            <a:chExt cx="1116000" cy="2219400"/>
          </a:xfrm>
        </p:grpSpPr>
        <p:sp>
          <p:nvSpPr>
            <p:cNvPr id="126" name="AutoShape 17"/>
            <p:cNvSpPr/>
            <p:nvPr/>
          </p:nvSpPr>
          <p:spPr>
            <a:xfrm>
              <a:off x="7479000" y="2942640"/>
              <a:ext cx="1058040" cy="21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7451640" y="2860560"/>
              <a:ext cx="1116000" cy="2219400"/>
            </a:xfrm>
            <a:prstGeom prst="pie">
              <a:avLst/>
            </a:prstGeom>
            <a:solidFill>
              <a:srgbClr val="f3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7880040" y="3827880"/>
              <a:ext cx="360720" cy="821520"/>
            </a:xfrm>
            <a:prstGeom prst="pie">
              <a:avLst/>
            </a:prstGeom>
            <a:solidFill>
              <a:srgbClr val="e89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7888680" y="3827880"/>
              <a:ext cx="304560" cy="433800"/>
            </a:xfrm>
            <a:prstGeom prst="pie">
              <a:avLst/>
            </a:prstGeom>
            <a:solidFill>
              <a:srgbClr val="dc3b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8146440" y="3303000"/>
              <a:ext cx="291240" cy="290880"/>
            </a:xfrm>
            <a:prstGeom prst="ellipse">
              <a:avLst/>
            </a:prstGeom>
            <a:solidFill>
              <a:srgbClr val="f5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7595640" y="3303000"/>
              <a:ext cx="289080" cy="290880"/>
            </a:xfrm>
            <a:prstGeom prst="ellipse">
              <a:avLst/>
            </a:prstGeom>
            <a:solidFill>
              <a:srgbClr val="f5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7876440" y="3207960"/>
              <a:ext cx="80280" cy="9756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8078400" y="3214800"/>
              <a:ext cx="86760" cy="8784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7674120" y="3399120"/>
              <a:ext cx="693360" cy="44748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7451640" y="2860560"/>
              <a:ext cx="1116000" cy="221940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8"/>
            <p:cNvSpPr/>
            <p:nvPr/>
          </p:nvSpPr>
          <p:spPr>
            <a:xfrm>
              <a:off x="8132760" y="3829320"/>
              <a:ext cx="409320" cy="66348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Freeform 7"/>
          <p:cNvSpPr/>
          <p:nvPr/>
        </p:nvSpPr>
        <p:spPr>
          <a:xfrm flipH="1">
            <a:off x="8362800" y="-25560"/>
            <a:ext cx="417600" cy="3824280"/>
          </a:xfrm>
          <a:prstGeom prst="pie">
            <a:avLst/>
          </a:prstGeom>
          <a:solidFill>
            <a:srgbClr val="29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86"/>
          <p:cNvSpPr/>
          <p:nvPr/>
        </p:nvSpPr>
        <p:spPr>
          <a:xfrm>
            <a:off x="-115920" y="2860560"/>
            <a:ext cx="1087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mph" presetID="32" repeatCount="3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3" dur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4" dur="26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260" fill="hold">
                                          <p:stCondLst>
                                            <p:cond delay="52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6" dur="260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260" fill="hold">
                                          <p:stCondLst>
                                            <p:cond delay="104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1" repeatCount="400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6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4.93827E-007 L 0.83125 4.93827E-007 E">
                                      <p:cBhvr>
                                        <p:cTn id="91" dur="4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50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50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mph" presetID="26" repeatCount="indefinite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mph" presetID="26" repeatCount="indefinite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50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5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5867280" y="1903320"/>
            <a:ext cx="201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82920" y="7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2843280" y="271620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1655640" y="401760"/>
            <a:ext cx="27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3924360" y="17082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28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28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489040" y="14349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4535640" y="9777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1498680" y="18320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1752480" y="25527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2050920" y="12384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3924360" y="31478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5986440" y="13176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2050920" y="2914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6300720" y="6904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5854680" y="1033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076720" y="40176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3408480" y="105264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1260360" y="10904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3851280" y="1276200"/>
            <a:ext cx="23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4627440" y="221148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2400480" y="327024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4"/>
          <p:cNvSpPr/>
          <p:nvPr/>
        </p:nvSpPr>
        <p:spPr>
          <a:xfrm>
            <a:off x="5364000" y="28512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5"/>
          <p:cNvSpPr/>
          <p:nvPr/>
        </p:nvSpPr>
        <p:spPr>
          <a:xfrm>
            <a:off x="2771640" y="3613320"/>
            <a:ext cx="27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6"/>
          <p:cNvSpPr/>
          <p:nvPr/>
        </p:nvSpPr>
        <p:spPr>
          <a:xfrm>
            <a:off x="3527280" y="42800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7"/>
          <p:cNvSpPr/>
          <p:nvPr/>
        </p:nvSpPr>
        <p:spPr>
          <a:xfrm>
            <a:off x="4041720" y="4587840"/>
            <a:ext cx="23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8"/>
          <p:cNvSpPr/>
          <p:nvPr/>
        </p:nvSpPr>
        <p:spPr>
          <a:xfrm>
            <a:off x="4032360" y="401148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亲爱的老师，谢谢您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9"/>
          <p:cNvSpPr/>
          <p:nvPr/>
        </p:nvSpPr>
        <p:spPr>
          <a:xfrm>
            <a:off x="5273640" y="16747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0"/>
          <p:cNvSpPr/>
          <p:nvPr/>
        </p:nvSpPr>
        <p:spPr>
          <a:xfrm>
            <a:off x="2700360" y="21272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1"/>
          <p:cNvSpPr/>
          <p:nvPr/>
        </p:nvSpPr>
        <p:spPr>
          <a:xfrm>
            <a:off x="1547640" y="22636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2"/>
          <p:cNvSpPr/>
          <p:nvPr/>
        </p:nvSpPr>
        <p:spPr>
          <a:xfrm>
            <a:off x="4788000" y="75240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老师，您辛苦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3"/>
          <p:cNvSpPr/>
          <p:nvPr/>
        </p:nvSpPr>
        <p:spPr>
          <a:xfrm>
            <a:off x="6585120" y="2638440"/>
            <a:ext cx="111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4"/>
          <p:cNvSpPr/>
          <p:nvPr/>
        </p:nvSpPr>
        <p:spPr>
          <a:xfrm>
            <a:off x="5076720" y="34164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8e8c"/>
                </a:solidFill>
                <a:latin typeface="微软雅黑"/>
                <a:ea typeface="微软雅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7"/>
          <p:cNvSpPr/>
          <p:nvPr/>
        </p:nvSpPr>
        <p:spPr>
          <a:xfrm flipH="1">
            <a:off x="8362800" y="-92160"/>
            <a:ext cx="417600" cy="3824280"/>
          </a:xfrm>
          <a:prstGeom prst="pie">
            <a:avLst/>
          </a:prstGeom>
          <a:solidFill>
            <a:srgbClr val="29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467480" y="2860560"/>
            <a:ext cx="1333800" cy="22147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8"/>
          <p:cNvGrpSpPr/>
          <p:nvPr/>
        </p:nvGrpSpPr>
        <p:grpSpPr>
          <a:xfrm>
            <a:off x="7458120" y="2865600"/>
            <a:ext cx="1106280" cy="2203200"/>
            <a:chOff x="7458120" y="2865600"/>
            <a:chExt cx="1106280" cy="2203200"/>
          </a:xfrm>
        </p:grpSpPr>
        <p:sp>
          <p:nvSpPr>
            <p:cNvPr id="174" name="AutoShape 17"/>
            <p:cNvSpPr/>
            <p:nvPr/>
          </p:nvSpPr>
          <p:spPr>
            <a:xfrm>
              <a:off x="7485480" y="2947320"/>
              <a:ext cx="1048680" cy="21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7458120" y="2865600"/>
              <a:ext cx="1106280" cy="2203200"/>
            </a:xfrm>
            <a:prstGeom prst="pie">
              <a:avLst/>
            </a:prstGeom>
            <a:solidFill>
              <a:srgbClr val="f3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7882560" y="3825720"/>
              <a:ext cx="357480" cy="815760"/>
            </a:xfrm>
            <a:prstGeom prst="pie">
              <a:avLst/>
            </a:prstGeom>
            <a:solidFill>
              <a:srgbClr val="e89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7891200" y="3825720"/>
              <a:ext cx="301680" cy="430560"/>
            </a:xfrm>
            <a:prstGeom prst="pie">
              <a:avLst/>
            </a:prstGeom>
            <a:solidFill>
              <a:srgbClr val="dc3b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2"/>
            <p:cNvSpPr/>
            <p:nvPr/>
          </p:nvSpPr>
          <p:spPr>
            <a:xfrm>
              <a:off x="8147160" y="3304800"/>
              <a:ext cx="288720" cy="288720"/>
            </a:xfrm>
            <a:prstGeom prst="ellipse">
              <a:avLst/>
            </a:prstGeom>
            <a:solidFill>
              <a:srgbClr val="f5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3"/>
            <p:cNvSpPr/>
            <p:nvPr/>
          </p:nvSpPr>
          <p:spPr>
            <a:xfrm>
              <a:off x="7601040" y="3304800"/>
              <a:ext cx="286560" cy="288720"/>
            </a:xfrm>
            <a:prstGeom prst="ellipse">
              <a:avLst/>
            </a:prstGeom>
            <a:solidFill>
              <a:srgbClr val="f5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7878960" y="3210480"/>
              <a:ext cx="79560" cy="9684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8079480" y="3217320"/>
              <a:ext cx="86040" cy="8748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7678440" y="3400200"/>
              <a:ext cx="687240" cy="44424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7458120" y="2865600"/>
              <a:ext cx="1106280" cy="220320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8133480" y="3827520"/>
              <a:ext cx="405720" cy="658440"/>
            </a:xfrm>
            <a:prstGeom prst="pie">
              <a:avLst/>
            </a:prstGeom>
            <a:solidFill>
              <a:srgbClr val="422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Freeform 621"/>
          <p:cNvSpPr/>
          <p:nvPr/>
        </p:nvSpPr>
        <p:spPr>
          <a:xfrm>
            <a:off x="4599000" y="1206360"/>
            <a:ext cx="3240" cy="3240"/>
          </a:xfrm>
          <a:prstGeom prst="pie">
            <a:avLst/>
          </a:prstGeom>
          <a:solidFill>
            <a:srgbClr val="e72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2"/>
          <p:cNvSpPr/>
          <p:nvPr/>
        </p:nvSpPr>
        <p:spPr>
          <a:xfrm>
            <a:off x="4299120" y="1322280"/>
            <a:ext cx="6120" cy="11160"/>
          </a:xfrm>
          <a:prstGeom prst="pie">
            <a:avLst/>
          </a:prstGeom>
          <a:solidFill>
            <a:srgbClr val="e72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72"/>
          <p:cNvSpPr/>
          <p:nvPr/>
        </p:nvSpPr>
        <p:spPr>
          <a:xfrm>
            <a:off x="3949560" y="1123920"/>
            <a:ext cx="3240" cy="3240"/>
          </a:xfrm>
          <a:prstGeom prst="pie">
            <a:avLst/>
          </a:prstGeom>
          <a:solidFill>
            <a:srgbClr val="e72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73"/>
          <p:cNvSpPr/>
          <p:nvPr/>
        </p:nvSpPr>
        <p:spPr>
          <a:xfrm>
            <a:off x="4137120" y="1382760"/>
            <a:ext cx="11160" cy="14400"/>
          </a:xfrm>
          <a:prstGeom prst="pie">
            <a:avLst/>
          </a:prstGeom>
          <a:solidFill>
            <a:srgbClr val="e72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53"/>
          <p:cNvGrpSpPr/>
          <p:nvPr/>
        </p:nvGrpSpPr>
        <p:grpSpPr>
          <a:xfrm>
            <a:off x="-154080" y="-5462640"/>
            <a:ext cx="9453600" cy="5381640"/>
            <a:chOff x="-154080" y="-5462640"/>
            <a:chExt cx="9453600" cy="5381640"/>
          </a:xfrm>
        </p:grpSpPr>
        <p:pic>
          <p:nvPicPr>
            <p:cNvPr id="190" name="Picture 5721" descr=""/>
            <p:cNvPicPr/>
            <p:nvPr/>
          </p:nvPicPr>
          <p:blipFill>
            <a:blip r:embed="rId2"/>
            <a:stretch/>
          </p:blipFill>
          <p:spPr>
            <a:xfrm>
              <a:off x="-154080" y="-5462640"/>
              <a:ext cx="9453600" cy="53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Group 82"/>
            <p:cNvGrpSpPr/>
            <p:nvPr/>
          </p:nvGrpSpPr>
          <p:grpSpPr>
            <a:xfrm>
              <a:off x="6468120" y="-2540160"/>
              <a:ext cx="2362320" cy="928080"/>
              <a:chOff x="6468120" y="-2540160"/>
              <a:chExt cx="2362320" cy="928080"/>
            </a:xfrm>
          </p:grpSpPr>
          <p:sp>
            <p:nvSpPr>
              <p:cNvPr id="192" name="Freeform 84"/>
              <p:cNvSpPr/>
              <p:nvPr/>
            </p:nvSpPr>
            <p:spPr>
              <a:xfrm flipH="1">
                <a:off x="8624520" y="-2363760"/>
                <a:ext cx="180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85"/>
              <p:cNvSpPr/>
              <p:nvPr/>
            </p:nvSpPr>
            <p:spPr>
              <a:xfrm flipH="1">
                <a:off x="8828280" y="-2411640"/>
                <a:ext cx="180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86"/>
              <p:cNvSpPr/>
              <p:nvPr/>
            </p:nvSpPr>
            <p:spPr>
              <a:xfrm flipH="1">
                <a:off x="8706600" y="-2540160"/>
                <a:ext cx="72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93"/>
              <p:cNvSpPr/>
              <p:nvPr/>
            </p:nvSpPr>
            <p:spPr>
              <a:xfrm flipH="1">
                <a:off x="6672240" y="-1612800"/>
                <a:ext cx="72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94"/>
              <p:cNvSpPr/>
              <p:nvPr/>
            </p:nvSpPr>
            <p:spPr>
              <a:xfrm flipH="1">
                <a:off x="6467760" y="-1659600"/>
                <a:ext cx="180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95"/>
              <p:cNvSpPr/>
              <p:nvPr/>
            </p:nvSpPr>
            <p:spPr>
              <a:xfrm flipH="1">
                <a:off x="6590520" y="-1788840"/>
                <a:ext cx="72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组合 2"/>
          <p:cNvGrpSpPr/>
          <p:nvPr/>
        </p:nvGrpSpPr>
        <p:grpSpPr>
          <a:xfrm>
            <a:off x="264960" y="-5132520"/>
            <a:ext cx="8771040" cy="5123520"/>
            <a:chOff x="264960" y="-5132520"/>
            <a:chExt cx="8771040" cy="5123520"/>
          </a:xfrm>
        </p:grpSpPr>
        <p:grpSp>
          <p:nvGrpSpPr>
            <p:cNvPr id="199" name="组合 641"/>
            <p:cNvGrpSpPr/>
            <p:nvPr/>
          </p:nvGrpSpPr>
          <p:grpSpPr>
            <a:xfrm>
              <a:off x="264960" y="-2512080"/>
              <a:ext cx="3429360" cy="2502720"/>
              <a:chOff x="264960" y="-2512080"/>
              <a:chExt cx="3429360" cy="2502720"/>
            </a:xfrm>
          </p:grpSpPr>
          <p:sp>
            <p:nvSpPr>
              <p:cNvPr id="200" name="Freeform 83"/>
              <p:cNvSpPr/>
              <p:nvPr/>
            </p:nvSpPr>
            <p:spPr>
              <a:xfrm>
                <a:off x="264960" y="-2512080"/>
                <a:ext cx="1098720" cy="20109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92"/>
              <p:cNvSpPr/>
              <p:nvPr/>
            </p:nvSpPr>
            <p:spPr>
              <a:xfrm>
                <a:off x="1037520" y="-1844280"/>
                <a:ext cx="1099800" cy="13615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92"/>
              <p:cNvSpPr/>
              <p:nvPr/>
            </p:nvSpPr>
            <p:spPr>
              <a:xfrm rot="2065200">
                <a:off x="1996920" y="-1907640"/>
                <a:ext cx="1344600" cy="16639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组合 1302"/>
            <p:cNvGrpSpPr/>
            <p:nvPr/>
          </p:nvGrpSpPr>
          <p:grpSpPr>
            <a:xfrm>
              <a:off x="5452560" y="-2512080"/>
              <a:ext cx="3429360" cy="2503080"/>
              <a:chOff x="5452560" y="-2512080"/>
              <a:chExt cx="3429360" cy="2503080"/>
            </a:xfrm>
          </p:grpSpPr>
          <p:sp>
            <p:nvSpPr>
              <p:cNvPr id="204" name="Freeform 83"/>
              <p:cNvSpPr/>
              <p:nvPr/>
            </p:nvSpPr>
            <p:spPr>
              <a:xfrm flipH="1">
                <a:off x="7783200" y="-2512080"/>
                <a:ext cx="1098720" cy="20109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92"/>
              <p:cNvSpPr/>
              <p:nvPr/>
            </p:nvSpPr>
            <p:spPr>
              <a:xfrm flipH="1">
                <a:off x="7009200" y="-1844280"/>
                <a:ext cx="1099800" cy="13615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92"/>
              <p:cNvSpPr/>
              <p:nvPr/>
            </p:nvSpPr>
            <p:spPr>
              <a:xfrm flipH="1" rot="19534800">
                <a:off x="5805000" y="-1907640"/>
                <a:ext cx="1344600" cy="166428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655"/>
            <p:cNvGrpSpPr/>
            <p:nvPr/>
          </p:nvGrpSpPr>
          <p:grpSpPr>
            <a:xfrm>
              <a:off x="378360" y="-5132520"/>
              <a:ext cx="2392560" cy="3259080"/>
              <a:chOff x="378360" y="-5132520"/>
              <a:chExt cx="2392560" cy="3259080"/>
            </a:xfrm>
          </p:grpSpPr>
          <p:sp>
            <p:nvSpPr>
              <p:cNvPr id="208" name="TextBox 654"/>
              <p:cNvSpPr/>
              <p:nvPr/>
            </p:nvSpPr>
            <p:spPr>
              <a:xfrm>
                <a:off x="710640" y="-470412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李明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1311"/>
              <p:cNvSpPr/>
              <p:nvPr/>
            </p:nvSpPr>
            <p:spPr>
              <a:xfrm>
                <a:off x="1258920" y="-322920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乐乐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Box 1312"/>
              <p:cNvSpPr/>
              <p:nvPr/>
            </p:nvSpPr>
            <p:spPr>
              <a:xfrm>
                <a:off x="1322640" y="-455976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李泽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Box 1313"/>
              <p:cNvSpPr/>
              <p:nvPr/>
            </p:nvSpPr>
            <p:spPr>
              <a:xfrm>
                <a:off x="497160" y="-38908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兰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Box 1314"/>
              <p:cNvSpPr/>
              <p:nvPr/>
            </p:nvSpPr>
            <p:spPr>
              <a:xfrm>
                <a:off x="646560" y="-3351600"/>
                <a:ext cx="68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李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1315"/>
              <p:cNvSpPr/>
              <p:nvPr/>
            </p:nvSpPr>
            <p:spPr>
              <a:xfrm>
                <a:off x="1168560" y="-48250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汪勇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1316"/>
              <p:cNvSpPr/>
              <p:nvPr/>
            </p:nvSpPr>
            <p:spPr>
              <a:xfrm>
                <a:off x="1106640" y="-418680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张飞翔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1317"/>
              <p:cNvSpPr/>
              <p:nvPr/>
            </p:nvSpPr>
            <p:spPr>
              <a:xfrm>
                <a:off x="458280" y="-43596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曼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1318"/>
              <p:cNvSpPr/>
              <p:nvPr/>
            </p:nvSpPr>
            <p:spPr>
              <a:xfrm>
                <a:off x="1618920" y="-264204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陆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1319"/>
              <p:cNvSpPr/>
              <p:nvPr/>
            </p:nvSpPr>
            <p:spPr>
              <a:xfrm>
                <a:off x="1330920" y="-236484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伟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1320"/>
              <p:cNvSpPr/>
              <p:nvPr/>
            </p:nvSpPr>
            <p:spPr>
              <a:xfrm>
                <a:off x="378360" y="-295452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刘小奇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1321"/>
              <p:cNvSpPr/>
              <p:nvPr/>
            </p:nvSpPr>
            <p:spPr>
              <a:xfrm>
                <a:off x="970920" y="-38908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李华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1322"/>
              <p:cNvSpPr/>
              <p:nvPr/>
            </p:nvSpPr>
            <p:spPr>
              <a:xfrm>
                <a:off x="1114920" y="-36612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李娜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1323"/>
              <p:cNvSpPr/>
              <p:nvPr/>
            </p:nvSpPr>
            <p:spPr>
              <a:xfrm>
                <a:off x="1690920" y="-484416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1324"/>
              <p:cNvSpPr/>
              <p:nvPr/>
            </p:nvSpPr>
            <p:spPr>
              <a:xfrm>
                <a:off x="1978920" y="-513252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刘伟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1325"/>
              <p:cNvSpPr/>
              <p:nvPr/>
            </p:nvSpPr>
            <p:spPr>
              <a:xfrm>
                <a:off x="1150920" y="-2941200"/>
                <a:ext cx="104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吕楠伟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326"/>
              <p:cNvSpPr/>
              <p:nvPr/>
            </p:nvSpPr>
            <p:spPr>
              <a:xfrm>
                <a:off x="1834920" y="-2210760"/>
                <a:ext cx="86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邓琳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组合 1468"/>
            <p:cNvGrpSpPr/>
            <p:nvPr/>
          </p:nvGrpSpPr>
          <p:grpSpPr>
            <a:xfrm>
              <a:off x="6443640" y="-5060160"/>
              <a:ext cx="2592360" cy="3255840"/>
              <a:chOff x="6443640" y="-5060160"/>
              <a:chExt cx="2592360" cy="3255840"/>
            </a:xfrm>
          </p:grpSpPr>
          <p:sp>
            <p:nvSpPr>
              <p:cNvPr id="226" name="TextBox 1469"/>
              <p:cNvSpPr/>
              <p:nvPr/>
            </p:nvSpPr>
            <p:spPr>
              <a:xfrm>
                <a:off x="7299360" y="-428724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唐磊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470"/>
              <p:cNvSpPr/>
              <p:nvPr/>
            </p:nvSpPr>
            <p:spPr>
              <a:xfrm>
                <a:off x="7030080" y="-28684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余大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1471"/>
              <p:cNvSpPr/>
              <p:nvPr/>
            </p:nvSpPr>
            <p:spPr>
              <a:xfrm>
                <a:off x="8244000" y="-398340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张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Box 1472"/>
              <p:cNvSpPr/>
              <p:nvPr/>
            </p:nvSpPr>
            <p:spPr>
              <a:xfrm>
                <a:off x="7443360" y="-34444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枫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473"/>
              <p:cNvSpPr/>
              <p:nvPr/>
            </p:nvSpPr>
            <p:spPr>
              <a:xfrm>
                <a:off x="7739640" y="-281592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Box 1474"/>
              <p:cNvSpPr/>
              <p:nvPr/>
            </p:nvSpPr>
            <p:spPr>
              <a:xfrm>
                <a:off x="7875720" y="-416484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李尔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Box 1475"/>
              <p:cNvSpPr/>
              <p:nvPr/>
            </p:nvSpPr>
            <p:spPr>
              <a:xfrm>
                <a:off x="8019720" y="-366084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张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476"/>
              <p:cNvSpPr/>
              <p:nvPr/>
            </p:nvSpPr>
            <p:spPr>
              <a:xfrm>
                <a:off x="7389000" y="-384084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刘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1478"/>
              <p:cNvSpPr/>
              <p:nvPr/>
            </p:nvSpPr>
            <p:spPr>
              <a:xfrm>
                <a:off x="7023960" y="-214164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李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1479"/>
              <p:cNvSpPr/>
              <p:nvPr/>
            </p:nvSpPr>
            <p:spPr>
              <a:xfrm>
                <a:off x="7299360" y="-25804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贺晓宇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1480"/>
              <p:cNvSpPr/>
              <p:nvPr/>
            </p:nvSpPr>
            <p:spPr>
              <a:xfrm>
                <a:off x="7947720" y="-32896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金华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1481"/>
              <p:cNvSpPr/>
              <p:nvPr/>
            </p:nvSpPr>
            <p:spPr>
              <a:xfrm>
                <a:off x="8154000" y="-29422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田玲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1482"/>
              <p:cNvSpPr/>
              <p:nvPr/>
            </p:nvSpPr>
            <p:spPr>
              <a:xfrm>
                <a:off x="6651360" y="-2539800"/>
                <a:ext cx="1030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曹小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1483"/>
              <p:cNvSpPr/>
              <p:nvPr/>
            </p:nvSpPr>
            <p:spPr>
              <a:xfrm>
                <a:off x="7155360" y="-3207240"/>
                <a:ext cx="97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范冰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1484"/>
              <p:cNvSpPr/>
              <p:nvPr/>
            </p:nvSpPr>
            <p:spPr>
              <a:xfrm>
                <a:off x="7947720" y="-458892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林清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1485"/>
              <p:cNvSpPr/>
              <p:nvPr/>
            </p:nvSpPr>
            <p:spPr>
              <a:xfrm>
                <a:off x="6443640" y="-217980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戴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3150"/>
              <p:cNvSpPr/>
              <p:nvPr/>
            </p:nvSpPr>
            <p:spPr>
              <a:xfrm>
                <a:off x="7144920" y="-4758120"/>
                <a:ext cx="13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林小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3151"/>
              <p:cNvSpPr/>
              <p:nvPr/>
            </p:nvSpPr>
            <p:spPr>
              <a:xfrm>
                <a:off x="6947640" y="-506016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李浣浣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3152"/>
              <p:cNvSpPr/>
              <p:nvPr/>
            </p:nvSpPr>
            <p:spPr>
              <a:xfrm>
                <a:off x="7731720" y="-495684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金岳霖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组合 652"/>
            <p:cNvGrpSpPr/>
            <p:nvPr/>
          </p:nvGrpSpPr>
          <p:grpSpPr>
            <a:xfrm>
              <a:off x="1618200" y="-4381200"/>
              <a:ext cx="5940720" cy="2374560"/>
              <a:chOff x="1618200" y="-4381200"/>
              <a:chExt cx="5940720" cy="2374560"/>
            </a:xfrm>
          </p:grpSpPr>
          <p:sp>
            <p:nvSpPr>
              <p:cNvPr id="246" name="TextBox 640"/>
              <p:cNvSpPr/>
              <p:nvPr/>
            </p:nvSpPr>
            <p:spPr>
              <a:xfrm>
                <a:off x="1618200" y="-4381200"/>
                <a:ext cx="5940720" cy="12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800" spc="-1" strike="noStrike">
                    <a:solidFill>
                      <a:srgbClr val="ffffff"/>
                    </a:solidFill>
                    <a:latin typeface="方正少儿简体"/>
                    <a:ea typeface="方正少儿简体"/>
                  </a:rPr>
                  <a:t>教师节快乐</a:t>
                </a:r>
                <a:endParaRPr b="0" lang="en-US" sz="7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Box 642"/>
              <p:cNvSpPr/>
              <p:nvPr/>
            </p:nvSpPr>
            <p:spPr>
              <a:xfrm>
                <a:off x="3129120" y="-2466360"/>
                <a:ext cx="33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老师，我们        您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组合 648"/>
              <p:cNvGrpSpPr/>
              <p:nvPr/>
            </p:nvGrpSpPr>
            <p:grpSpPr>
              <a:xfrm>
                <a:off x="2374200" y="-3198240"/>
                <a:ext cx="4500000" cy="520560"/>
                <a:chOff x="2374200" y="-3198240"/>
                <a:chExt cx="4500000" cy="520560"/>
              </a:xfrm>
            </p:grpSpPr>
            <p:sp>
              <p:nvSpPr>
                <p:cNvPr id="249" name="TextBox 643"/>
                <p:cNvSpPr/>
                <p:nvPr/>
              </p:nvSpPr>
              <p:spPr>
                <a:xfrm>
                  <a:off x="2374200" y="-3198240"/>
                  <a:ext cx="4500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Lucida Console"/>
                    </a:rPr>
                    <a:t>Happy Teacher's Day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直接连接符 1308"/>
                <p:cNvSpPr/>
                <p:nvPr/>
              </p:nvSpPr>
              <p:spPr>
                <a:xfrm>
                  <a:off x="2458080" y="-2677680"/>
                  <a:ext cx="4103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直接连接符 1310"/>
                <p:cNvSpPr/>
                <p:nvPr/>
              </p:nvSpPr>
              <p:spPr>
                <a:xfrm>
                  <a:off x="2458080" y="-3173400"/>
                  <a:ext cx="4103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TextBox 657"/>
            <p:cNvSpPr/>
            <p:nvPr/>
          </p:nvSpPr>
          <p:spPr>
            <a:xfrm>
              <a:off x="3742560" y="-1901520"/>
              <a:ext cx="194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班全体同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977" descr="C:\Users\ASUS\Desktop\2.png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 rot="277200">
              <a:off x="4691160" y="-2680560"/>
              <a:ext cx="802080" cy="70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Picture 3" descr="C:\Users\Administrator\Desktop\红心.png"/>
          <p:cNvPicPr/>
          <p:nvPr/>
        </p:nvPicPr>
        <p:blipFill>
          <a:blip r:embed="rId4"/>
          <a:stretch/>
        </p:blipFill>
        <p:spPr>
          <a:xfrm>
            <a:off x="1528920" y="-5143680"/>
            <a:ext cx="5884560" cy="4667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9280" y="45878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xit" presetID="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75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75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44053E-006 L 3.61111E-006 1.04448 E">
                                      <p:cBhvr>
                                        <p:cTn id="404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50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50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50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50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50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50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50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50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50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5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50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50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5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5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50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50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2" dur="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44053E-006 L 3.61111E-006 1.04448 E">
                                      <p:cBhvr>
                                        <p:cTn id="598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44053E-006 L 3.61111E-006 1.04448 E">
                                      <p:cBhvr>
                                        <p:cTn id="600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44053E-006 L 3.61111E-006 1.04448 E">
                                      <p:cBhvr>
                                        <p:cTn id="602" dur="1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5C4-5D31-4AD5-9556-C4266ED67B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53"/>
          <p:cNvGrpSpPr/>
          <p:nvPr/>
        </p:nvGrpSpPr>
        <p:grpSpPr>
          <a:xfrm>
            <a:off x="-154080" y="-93600"/>
            <a:ext cx="9453600" cy="5381640"/>
            <a:chOff x="-154080" y="-93600"/>
            <a:chExt cx="9453600" cy="5381640"/>
          </a:xfrm>
        </p:grpSpPr>
        <p:pic>
          <p:nvPicPr>
            <p:cNvPr id="260" name="Picture 5721" descr=""/>
            <p:cNvPicPr/>
            <p:nvPr/>
          </p:nvPicPr>
          <p:blipFill>
            <a:blip r:embed="rId1"/>
            <a:stretch/>
          </p:blipFill>
          <p:spPr>
            <a:xfrm>
              <a:off x="-154080" y="-93600"/>
              <a:ext cx="9453600" cy="53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Group 82"/>
            <p:cNvGrpSpPr/>
            <p:nvPr/>
          </p:nvGrpSpPr>
          <p:grpSpPr>
            <a:xfrm>
              <a:off x="6468120" y="2828520"/>
              <a:ext cx="2362320" cy="927720"/>
              <a:chOff x="6468120" y="2828520"/>
              <a:chExt cx="2362320" cy="927720"/>
            </a:xfrm>
          </p:grpSpPr>
          <p:sp>
            <p:nvSpPr>
              <p:cNvPr id="262" name="Freeform 84"/>
              <p:cNvSpPr/>
              <p:nvPr/>
            </p:nvSpPr>
            <p:spPr>
              <a:xfrm flipH="1">
                <a:off x="8624520" y="3004560"/>
                <a:ext cx="180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5"/>
              <p:cNvSpPr/>
              <p:nvPr/>
            </p:nvSpPr>
            <p:spPr>
              <a:xfrm flipH="1">
                <a:off x="8828280" y="2956680"/>
                <a:ext cx="180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6"/>
              <p:cNvSpPr/>
              <p:nvPr/>
            </p:nvSpPr>
            <p:spPr>
              <a:xfrm flipH="1">
                <a:off x="8706600" y="2828520"/>
                <a:ext cx="72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93"/>
              <p:cNvSpPr/>
              <p:nvPr/>
            </p:nvSpPr>
            <p:spPr>
              <a:xfrm flipH="1">
                <a:off x="6672240" y="3755520"/>
                <a:ext cx="72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94"/>
              <p:cNvSpPr/>
              <p:nvPr/>
            </p:nvSpPr>
            <p:spPr>
              <a:xfrm flipH="1">
                <a:off x="6467760" y="3708720"/>
                <a:ext cx="180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95"/>
              <p:cNvSpPr/>
              <p:nvPr/>
            </p:nvSpPr>
            <p:spPr>
              <a:xfrm flipH="1">
                <a:off x="6590520" y="3579480"/>
                <a:ext cx="720" cy="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组合 641"/>
          <p:cNvGrpSpPr/>
          <p:nvPr/>
        </p:nvGrpSpPr>
        <p:grpSpPr>
          <a:xfrm>
            <a:off x="264960" y="2855880"/>
            <a:ext cx="3430080" cy="2503080"/>
            <a:chOff x="264960" y="2855880"/>
            <a:chExt cx="3430080" cy="2503080"/>
          </a:xfrm>
        </p:grpSpPr>
        <p:sp>
          <p:nvSpPr>
            <p:cNvPr id="269" name="Freeform 83"/>
            <p:cNvSpPr/>
            <p:nvPr/>
          </p:nvSpPr>
          <p:spPr>
            <a:xfrm>
              <a:off x="264960" y="2855880"/>
              <a:ext cx="1098720" cy="20113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2"/>
            <p:cNvSpPr/>
            <p:nvPr/>
          </p:nvSpPr>
          <p:spPr>
            <a:xfrm>
              <a:off x="1037520" y="3523680"/>
              <a:ext cx="1099800" cy="13622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2"/>
            <p:cNvSpPr/>
            <p:nvPr/>
          </p:nvSpPr>
          <p:spPr>
            <a:xfrm rot="2065200">
              <a:off x="1997640" y="3459600"/>
              <a:ext cx="1344600" cy="16646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1302"/>
          <p:cNvGrpSpPr/>
          <p:nvPr/>
        </p:nvGrpSpPr>
        <p:grpSpPr>
          <a:xfrm>
            <a:off x="5451840" y="2855880"/>
            <a:ext cx="3430080" cy="2502720"/>
            <a:chOff x="5451840" y="2855880"/>
            <a:chExt cx="3430080" cy="2502720"/>
          </a:xfrm>
        </p:grpSpPr>
        <p:sp>
          <p:nvSpPr>
            <p:cNvPr id="273" name="Freeform 83"/>
            <p:cNvSpPr/>
            <p:nvPr/>
          </p:nvSpPr>
          <p:spPr>
            <a:xfrm flipH="1">
              <a:off x="7783200" y="2855880"/>
              <a:ext cx="1098720" cy="20113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2"/>
            <p:cNvSpPr/>
            <p:nvPr/>
          </p:nvSpPr>
          <p:spPr>
            <a:xfrm flipH="1">
              <a:off x="7009200" y="3523680"/>
              <a:ext cx="1099800" cy="13622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2"/>
            <p:cNvSpPr/>
            <p:nvPr/>
          </p:nvSpPr>
          <p:spPr>
            <a:xfrm flipH="1" rot="19534800">
              <a:off x="5804280" y="3459600"/>
              <a:ext cx="1344600" cy="16646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655"/>
          <p:cNvGrpSpPr/>
          <p:nvPr/>
        </p:nvGrpSpPr>
        <p:grpSpPr>
          <a:xfrm>
            <a:off x="379440" y="235080"/>
            <a:ext cx="2392200" cy="3259440"/>
            <a:chOff x="379440" y="235080"/>
            <a:chExt cx="2392200" cy="3259440"/>
          </a:xfrm>
        </p:grpSpPr>
        <p:sp>
          <p:nvSpPr>
            <p:cNvPr id="277" name="TextBox 654"/>
            <p:cNvSpPr/>
            <p:nvPr/>
          </p:nvSpPr>
          <p:spPr>
            <a:xfrm>
              <a:off x="711360" y="66312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李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311"/>
            <p:cNvSpPr/>
            <p:nvPr/>
          </p:nvSpPr>
          <p:spPr>
            <a:xfrm>
              <a:off x="1259640" y="21387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1312"/>
            <p:cNvSpPr/>
            <p:nvPr/>
          </p:nvSpPr>
          <p:spPr>
            <a:xfrm>
              <a:off x="1323360" y="80784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李泽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313"/>
            <p:cNvSpPr/>
            <p:nvPr/>
          </p:nvSpPr>
          <p:spPr>
            <a:xfrm>
              <a:off x="498240" y="147672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兰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314"/>
            <p:cNvSpPr/>
            <p:nvPr/>
          </p:nvSpPr>
          <p:spPr>
            <a:xfrm>
              <a:off x="647640" y="2016000"/>
              <a:ext cx="68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李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315"/>
            <p:cNvSpPr/>
            <p:nvPr/>
          </p:nvSpPr>
          <p:spPr>
            <a:xfrm>
              <a:off x="1169640" y="5421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汪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316"/>
            <p:cNvSpPr/>
            <p:nvPr/>
          </p:nvSpPr>
          <p:spPr>
            <a:xfrm>
              <a:off x="1107360" y="118080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张飞翔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317"/>
            <p:cNvSpPr/>
            <p:nvPr/>
          </p:nvSpPr>
          <p:spPr>
            <a:xfrm>
              <a:off x="459360" y="100764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曼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318"/>
            <p:cNvSpPr/>
            <p:nvPr/>
          </p:nvSpPr>
          <p:spPr>
            <a:xfrm>
              <a:off x="1619640" y="272592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陆涛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319"/>
            <p:cNvSpPr/>
            <p:nvPr/>
          </p:nvSpPr>
          <p:spPr>
            <a:xfrm>
              <a:off x="1331640" y="30027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320"/>
            <p:cNvSpPr/>
            <p:nvPr/>
          </p:nvSpPr>
          <p:spPr>
            <a:xfrm>
              <a:off x="379440" y="24130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刘小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321"/>
            <p:cNvSpPr/>
            <p:nvPr/>
          </p:nvSpPr>
          <p:spPr>
            <a:xfrm>
              <a:off x="971640" y="147672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李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322"/>
            <p:cNvSpPr/>
            <p:nvPr/>
          </p:nvSpPr>
          <p:spPr>
            <a:xfrm>
              <a:off x="1115640" y="170640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李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323"/>
            <p:cNvSpPr/>
            <p:nvPr/>
          </p:nvSpPr>
          <p:spPr>
            <a:xfrm>
              <a:off x="1691640" y="5230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1324"/>
            <p:cNvSpPr/>
            <p:nvPr/>
          </p:nvSpPr>
          <p:spPr>
            <a:xfrm>
              <a:off x="1979640" y="2350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刘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25"/>
            <p:cNvSpPr/>
            <p:nvPr/>
          </p:nvSpPr>
          <p:spPr>
            <a:xfrm>
              <a:off x="1151640" y="2426760"/>
              <a:ext cx="104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吕楠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326"/>
            <p:cNvSpPr/>
            <p:nvPr/>
          </p:nvSpPr>
          <p:spPr>
            <a:xfrm>
              <a:off x="1835640" y="31572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邓琳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468"/>
          <p:cNvGrpSpPr/>
          <p:nvPr/>
        </p:nvGrpSpPr>
        <p:grpSpPr>
          <a:xfrm>
            <a:off x="6443640" y="307800"/>
            <a:ext cx="2592360" cy="3255120"/>
            <a:chOff x="6443640" y="307800"/>
            <a:chExt cx="2592360" cy="3255120"/>
          </a:xfrm>
        </p:grpSpPr>
        <p:sp>
          <p:nvSpPr>
            <p:cNvPr id="295" name="TextBox 1469"/>
            <p:cNvSpPr/>
            <p:nvPr/>
          </p:nvSpPr>
          <p:spPr>
            <a:xfrm>
              <a:off x="7299360" y="108036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唐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470"/>
            <p:cNvSpPr/>
            <p:nvPr/>
          </p:nvSpPr>
          <p:spPr>
            <a:xfrm>
              <a:off x="7030080" y="24987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余大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471"/>
            <p:cNvSpPr/>
            <p:nvPr/>
          </p:nvSpPr>
          <p:spPr>
            <a:xfrm>
              <a:off x="8244000" y="138420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张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472"/>
            <p:cNvSpPr/>
            <p:nvPr/>
          </p:nvSpPr>
          <p:spPr>
            <a:xfrm>
              <a:off x="7443360" y="19227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枫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1473"/>
            <p:cNvSpPr/>
            <p:nvPr/>
          </p:nvSpPr>
          <p:spPr>
            <a:xfrm>
              <a:off x="7739640" y="25516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474"/>
            <p:cNvSpPr/>
            <p:nvPr/>
          </p:nvSpPr>
          <p:spPr>
            <a:xfrm>
              <a:off x="7875720" y="12027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李尔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475"/>
            <p:cNvSpPr/>
            <p:nvPr/>
          </p:nvSpPr>
          <p:spPr>
            <a:xfrm>
              <a:off x="8019720" y="170676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张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476"/>
            <p:cNvSpPr/>
            <p:nvPr/>
          </p:nvSpPr>
          <p:spPr>
            <a:xfrm>
              <a:off x="7389000" y="152640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刘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478"/>
            <p:cNvSpPr/>
            <p:nvPr/>
          </p:nvSpPr>
          <p:spPr>
            <a:xfrm>
              <a:off x="7023960" y="322560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李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479"/>
            <p:cNvSpPr/>
            <p:nvPr/>
          </p:nvSpPr>
          <p:spPr>
            <a:xfrm>
              <a:off x="7299360" y="27867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贺晓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480"/>
            <p:cNvSpPr/>
            <p:nvPr/>
          </p:nvSpPr>
          <p:spPr>
            <a:xfrm>
              <a:off x="7947720" y="207792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481"/>
            <p:cNvSpPr/>
            <p:nvPr/>
          </p:nvSpPr>
          <p:spPr>
            <a:xfrm>
              <a:off x="8154000" y="24249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田玲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482"/>
            <p:cNvSpPr/>
            <p:nvPr/>
          </p:nvSpPr>
          <p:spPr>
            <a:xfrm>
              <a:off x="6651360" y="2827440"/>
              <a:ext cx="103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曹小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483"/>
            <p:cNvSpPr/>
            <p:nvPr/>
          </p:nvSpPr>
          <p:spPr>
            <a:xfrm>
              <a:off x="7155360" y="2160360"/>
              <a:ext cx="97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范冰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484"/>
            <p:cNvSpPr/>
            <p:nvPr/>
          </p:nvSpPr>
          <p:spPr>
            <a:xfrm>
              <a:off x="7947720" y="7786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林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485"/>
            <p:cNvSpPr/>
            <p:nvPr/>
          </p:nvSpPr>
          <p:spPr>
            <a:xfrm>
              <a:off x="6443640" y="318744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戴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3150"/>
            <p:cNvSpPr/>
            <p:nvPr/>
          </p:nvSpPr>
          <p:spPr>
            <a:xfrm>
              <a:off x="7144920" y="609120"/>
              <a:ext cx="13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林小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3151"/>
            <p:cNvSpPr/>
            <p:nvPr/>
          </p:nvSpPr>
          <p:spPr>
            <a:xfrm>
              <a:off x="6947640" y="30780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李浣浣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3152"/>
            <p:cNvSpPr/>
            <p:nvPr/>
          </p:nvSpPr>
          <p:spPr>
            <a:xfrm>
              <a:off x="7731720" y="4107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岳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652"/>
          <p:cNvGrpSpPr/>
          <p:nvPr/>
        </p:nvGrpSpPr>
        <p:grpSpPr>
          <a:xfrm>
            <a:off x="1619280" y="987480"/>
            <a:ext cx="5940360" cy="2373480"/>
            <a:chOff x="1619280" y="987480"/>
            <a:chExt cx="5940360" cy="2373480"/>
          </a:xfrm>
        </p:grpSpPr>
        <p:sp>
          <p:nvSpPr>
            <p:cNvPr id="315" name="TextBox 640"/>
            <p:cNvSpPr/>
            <p:nvPr/>
          </p:nvSpPr>
          <p:spPr>
            <a:xfrm>
              <a:off x="1619280" y="987480"/>
              <a:ext cx="5940360" cy="12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800" spc="-1" strike="noStrike">
                  <a:solidFill>
                    <a:srgbClr val="ffffff"/>
                  </a:solidFill>
                  <a:latin typeface="方正少儿简体"/>
                  <a:ea typeface="方正少儿简体"/>
                </a:rPr>
                <a:t>教师节快乐</a:t>
              </a:r>
              <a:endParaRPr b="0" lang="en-US" sz="7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642"/>
            <p:cNvSpPr/>
            <p:nvPr/>
          </p:nvSpPr>
          <p:spPr>
            <a:xfrm>
              <a:off x="3129840" y="2901240"/>
              <a:ext cx="33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老师，我们        您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组合 648"/>
            <p:cNvGrpSpPr/>
            <p:nvPr/>
          </p:nvGrpSpPr>
          <p:grpSpPr>
            <a:xfrm>
              <a:off x="2375280" y="2169720"/>
              <a:ext cx="4499640" cy="520560"/>
              <a:chOff x="2375280" y="2169720"/>
              <a:chExt cx="4499640" cy="520560"/>
            </a:xfrm>
          </p:grpSpPr>
          <p:sp>
            <p:nvSpPr>
              <p:cNvPr id="318" name="TextBox 643"/>
              <p:cNvSpPr/>
              <p:nvPr/>
            </p:nvSpPr>
            <p:spPr>
              <a:xfrm>
                <a:off x="2375280" y="2169720"/>
                <a:ext cx="44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Lucida Console"/>
                  </a:rPr>
                  <a:t>Happy Teacher's Da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1308"/>
              <p:cNvSpPr/>
              <p:nvPr/>
            </p:nvSpPr>
            <p:spPr>
              <a:xfrm>
                <a:off x="2459160" y="2689560"/>
                <a:ext cx="4103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1310"/>
              <p:cNvSpPr/>
              <p:nvPr/>
            </p:nvSpPr>
            <p:spPr>
              <a:xfrm>
                <a:off x="2459160" y="2194200"/>
                <a:ext cx="4103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Box 657"/>
          <p:cNvSpPr/>
          <p:nvPr/>
        </p:nvSpPr>
        <p:spPr>
          <a:xfrm>
            <a:off x="3743280" y="3467160"/>
            <a:ext cx="19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班全体同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77" descr="C:\Users\ASUS\Desktop\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 rot="277200">
            <a:off x="4692240" y="2687760"/>
            <a:ext cx="801720" cy="704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C:\Users\Administrator\Desktop\红心.png"/>
          <p:cNvPicPr/>
          <p:nvPr/>
        </p:nvPicPr>
        <p:blipFill>
          <a:blip r:embed="rId3"/>
          <a:stretch/>
        </p:blipFill>
        <p:spPr>
          <a:xfrm>
            <a:off x="1528920" y="225360"/>
            <a:ext cx="5884560" cy="4667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0" descr="C:\Documents and Settings\Administrator\桌面\]-02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181400" y="482760"/>
            <a:ext cx="692280" cy="691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C:\Documents and Settings\Administrator\桌面\]-02.png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078000" y="88596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0" descr="C:\Documents and Settings\Administrator\桌面\]-02.png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6521400" y="873000"/>
            <a:ext cx="706320" cy="70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0" descr="C:\Documents and Settings\Administrator\桌面\]-02.png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3944880" y="1308240"/>
            <a:ext cx="592200" cy="590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0" descr="C:\Documents and Settings\Administrator\桌面\]-02.png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5695920" y="1752480"/>
            <a:ext cx="615960" cy="617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0" descr="C:\Documents and Settings\Administrator\桌面\]-02.png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1819440" y="1425600"/>
            <a:ext cx="677520" cy="6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4 0.02716 C -0.00434 0.025 -0.01146 0.01729 -0.0125 0.01667 C -0.01563 0.01512 -0.01962 0.01389 -0.0224 0.0108 C -0.02865 0.00401 -0.03577 -0.00617 -0.04254 -0.00988 C -0.04636 -0.01481 -0.05122 -0.01451 -0.05573 -0.01759 C -0.05764 -0.01852 -0.05886 -0.02191 -0.06077 -0.02315 C -0.075 -0.03179 -0.08785 -0.04475 -0.10244 -0.05154 C -0.11754 -0.05895 -0.13698 -0.06605 -0.15157 -0.06759 C -0.17153 -0.06667 -0.1757 -0.06852 -0.18994 -0.06173 C -0.19219 -0.0608 -0.19445 -0.05926 -0.19671 -0.05864 C -0.20035 -0.05741 -0.20747 -0.05586 -0.20747 -0.05555 C -0.21875 -0.04907 -0.2283 -0.03858 -0.23837 -0.02778 C -0.23976 -0.01821 -0.23768 -0.02716 -0.24167 -0.0216 C -0.24237 -0.02068 -0.24254 -0.01852 -0.24323 -0.01759 C -0.24393 -0.01605 -0.24497 -0.01512 -0.24584 -0.0142 C -0.24688 -0.01142 -0.24844 -0.00895 -0.24914 -0.00555 C -0.24948 -0.00432 -0.24948 -0.00247 -0.25 -0.00092 C -0.25105 0.00216 -0.25226 0.00494 -0.2533 0.00803 C -0.25382 0.00957 -0.25504 0.01235 -0.25504 0.01266 C -0.25955 0.02716 -0.28056 0.05185 -0.28889 0.10803 C -0.28924 0.13673 -0.2915 0.16049 -0.2915 0.18951 C -0.28889 0.21698 -0.28299 0.25587 -0.27813 0.275 C -0.27153 0.3034 -0.2573 0.34012 -0.25157 0.35741 C -0.25035 0.36605 -0.2474 0.37346 -0.24323 0.37809 C -0.23559 0.39198 -0.21303 0.4284 -0.20573 0.44043 C -0.19063 0.46482 -0.16962 0.50031 -0.15261 0.52531 C -0.13924 0.54321 -0.1191 0.57099 -0.104 0.59074 C -0.10209 0.59537 -0.07553 0.62685 -0.0724 0.6287 C -0.06528 0.64105 -0.07414 0.62685 -0.06754 0.63457 C -0.06459 0.63796 -0.06372 0.6429 -0.06077 0.6463 C -0.05903 0.64815 -0.05573 0.65247 -0.05573 0.65278 C -0.05278 0.66049 -0.04619 0.66296 -0.04167 0.66852 C -0.04028 0.67562 -0.03403 0.68148 -0.03004 0.68488 C -0.02744 0.68951 -0.02414 0.6963 -0.02084 0.69815 C -0.0191 0.70031 -0.01754 0.70216 -0.0158 0.70401 C -0.01494 0.70525 -0.01337 0.7071 -0.01337 0.70741 C -0.01129 0.71266 -0.01007 0.71235 -0.0066 0.71451 C -0.00504 0.71636 -0.00313 0.71698 -0.00157 0.71883 C 0.00399 0.72654 -0.00417 0.72099 0.0026 0.72469 C 0.00625 0.73148 0.01093 0.73241 0.01579 0.73488 C 0.02309 0.73303 0.03316 0.72932 0.046 0.71235 C 0.0592 0.69568 0.08159 0.64815 0.0934 0.6321 C 0.10833 0.60833 0.125 0.58642 0.13663 0.5679 C 0.13993 0.55031 0.15451 0.53364 0.16215 0.52191 C 0.1651 0.5179 0.16579 0.51358 0.16892 0.51019 C 0.17152 0.50309 0.17447 0.49722 0.17812 0.49229 C 0.18003 0.48519 0.18072 0.48272 0.18489 0.47901 C 0.18871 0.46049 0.19739 0.44506 0.20364 0.43025 C 0.2085 0.42006 0.21111 0.4071 0.21753 0.4 C 0.21805 0.39877 0.21857 0.39722 0.21927 0.39599 C 0.21996 0.39414 0.22118 0.39414 0.2217 0.3929 C 0.22621 0.38333 0.2184 0.39352 0.225 0.38519 C 0.22829 0.37685 0.23298 0.37161 0.23663 0.36327 C 0.23923 0.35741 0.24131 0.35124 0.24496 0.34661 C 0.24652 0.33827 0.25017 0.33056 0.25329 0.32284 C 0.25798 0.31204 0.26232 0.29938 0.26666 0.28796 C 0.26927 0.28117 0.27031 0.27161 0.27413 0.26729 C 0.27638 0.25556 0.27326 0.27006 0.27673 0.25833 C 0.27881 0.25093 0.27899 0.2429 0.28177 0.23611 C 0.28385 0.22284 0.28645 0.20957 0.28836 0.19599 C 0.28975 0.18642 0.28993 0.17624 0.29079 0.16636 C 0.29218 0.13056 0.29496 0.09229 0.2901 0.05679 C 0.27951 0.01636 0.26822 -0.03148 0.2276 -0.07654 C 0.22031 -0.08488 0.21232 -0.0892 0.20364 -0.09136 C 0.19548 -0.09691 0.18385 -0.09599 0.175 -0.09722 C 0.14357 -0.0963 0.13472 -0.0963 0.11076 -0.0929 C 0.10451 -0.09105 0.09809 -0.08796 0.09149 -0.08549 C 0.08281 -0.07901 0.07274 -0.07315 0.0592 -0.05463 C 0.04756 -0.03765 0.01961 0.01019 0.01024 0.025 C 0.00746 0.03117 0.00711 0.03025 0.00503 0.03056 L -0.00244 0.02716 Z">
                                      <p:cBhvr>
                                        <p:cTn id="608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0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autoRev="1" nodeType="withEffect" fill="hold" presetClass="emph" presetID="6" repeatCount="indefinite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13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dur="indefinite" autoRev="1" nodeType="withEffect" fill="hold" presetClass="emph" presetID="6" repeatCount="indefinite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30" dur="5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1" dur="indefinite" autoRev="1" nodeType="withEffect" fill="hold" presetClass="emph" presetID="6" repeatCount="indefinite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32" dur="5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dur="indefinite" autoRev="1" nodeType="withEffect" fill="hold" presetClass="emph" presetID="6" repeatCount="indefinite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34" dur="5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5" dur="indefinite" autoRev="1" nodeType="withEffect" fill="hold" presetClass="emph" presetID="6" repeatCount="indefinite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36" dur="5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7" dur="indefinite" autoRev="1" nodeType="withEffect" fill="hold" presetClass="emph" presetID="6" repeatCount="indefinite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38" dur="5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13:16:00Z</dcterms:created>
  <dc:creator>pc</dc:creator>
  <dc:description>www.eeppt.com;</dc:description>
  <cp:keywords>www.eeppt.com</cp:keywords>
  <dc:language>en-US</dc:language>
  <cp:lastModifiedBy>YANGS</cp:lastModifiedBy>
  <dcterms:modified xsi:type="dcterms:W3CDTF">2015-09-18T13:20:28Z</dcterms:modified>
  <cp:revision>10</cp:revision>
  <dc:subject>锐普PPT2013年教师节PPT模板-欢快师恩</dc:subject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