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3B84-CB42-4BE2-9BD3-5D056553E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9FCF-8E91-430B-B211-85018B65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70F0-4A4E-40C0-A2B7-F05F72243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5208-F125-493E-A187-BBD01B8B2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11EA-3BD9-42B7-BDE0-CED3F904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4DF7-DA15-4B56-B260-63A604CE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4636-4F73-4683-BAD0-86428932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3572-35D7-44D7-A638-862A2CB0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6D53-365E-46F3-9E07-E815763A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92A1-A43D-49B4-9605-A1E80C63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4B6C-1FAF-4BAE-8A19-C9DA3DB1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4FF2-8B3F-4054-9C38-DE0068F5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70EE-09D6-42E0-92A4-1BABECFA30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5724360" y="3414600"/>
            <a:ext cx="42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6"/>
          <p:cNvSpPr/>
          <p:nvPr/>
        </p:nvSpPr>
        <p:spPr>
          <a:xfrm>
            <a:off x="2555640" y="0"/>
            <a:ext cx="1421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7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www.1ppt.com/jier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96280" y="26028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教师节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071720" y="2565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3016440" y="2805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321520" y="22766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7375680" y="2781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403280" y="1700280"/>
            <a:ext cx="34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562120" y="3187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769760" y="46274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877000" y="2755800"/>
            <a:ext cx="12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855480" y="42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816520" y="5734080"/>
            <a:ext cx="9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AE20-3EE5-43F9-BE22-7BA89C8F75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5364000" y="1413000"/>
            <a:ext cx="345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6588000" y="4076640"/>
            <a:ext cx="22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08000" y="3502080"/>
            <a:ext cx="23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739800" y="578016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6372360" y="595008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pc</dc:creator>
  <dc:description>www.eeppt.com;</dc:description>
  <cp:keywords>www.eeppt.com</cp:keywords>
  <dc:language>en-US</dc:language>
  <cp:lastModifiedBy>lenovo</cp:lastModifiedBy>
  <dcterms:modified xsi:type="dcterms:W3CDTF">2015-09-18T13:20:29Z</dcterms:modified>
  <cp:revision>3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