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FB9-18A5-4A2A-BF09-F531D0E9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83C-718E-4F83-A377-0736AF2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188-21D6-4B2D-A46F-5A227E93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861-4BAD-441F-BBA1-38E719FF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8C46-EBD6-4CE5-A9F3-C2308101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4AC8-CD54-4475-9748-92CFFCB8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C044-1C3F-475A-822A-79123515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0CC-4B1C-4E2E-BDE8-FDDC0E1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2FC0-16DF-41FA-AD8A-E12009CC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CC14-C471-44A8-8D56-0794AAF9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187E-55A7-477F-8AF4-04591D5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CDB-EF8E-40B6-81FE-B415CA5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1668-1DA5-460E-A25E-D43EA6F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71E-29CA-479D-A326-E8995B49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0606-8BE9-47AE-9658-14A03A72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A3D3-4509-42E8-940A-60D1F0B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4946-3A68-4261-ADB1-24F8425A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E6A-79A1-4C60-950E-CC7017DD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8A8-7215-4580-ABB9-0E9B5F71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5B0-E3FD-41C6-92F8-FF3F5C2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22C-87E0-4617-8D30-BAD50370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963-C3EA-400B-AC89-8023FB9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DA6-9C50-4AD8-9B37-4388C0B6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2CE-DAA9-4436-AE6A-E57DE9A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2A4D1BD4-61F8-4CB0-B0BD-1610F9DF389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31CF33BA-6768-410B-AA4A-4241980880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9AEF98BE-97F8-48EE-A2C9-7628E3F54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str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9424-182F-40B0-BAED-B4143A3F92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00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"/>
          <p:cNvSpPr/>
          <p:nvPr/>
        </p:nvSpPr>
        <p:spPr>
          <a:xfrm>
            <a:off x="2770200" y="2365200"/>
            <a:ext cx="4406760" cy="2159280"/>
          </a:xfrm>
          <a:prstGeom prst="rect">
            <a:avLst/>
          </a:prstGeom>
          <a:solidFill>
            <a:srgbClr val="a4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谁－－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幼小的我们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育成成熟懂事的少年？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您！老师！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保护让我们健康成长。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金秋时节结下硕果。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6" name="文本框 7"/>
          <p:cNvSpPr/>
          <p:nvPr/>
        </p:nvSpPr>
        <p:spPr>
          <a:xfrm>
            <a:off x="5006880" y="141120"/>
            <a:ext cx="2158920" cy="2159280"/>
          </a:xfrm>
          <a:prstGeom prst="rect">
            <a:avLst/>
          </a:prstGeom>
          <a:solidFill>
            <a:srgbClr val="00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7230960" y="141120"/>
            <a:ext cx="2160720" cy="2159280"/>
          </a:xfrm>
          <a:prstGeom prst="rect">
            <a:avLst/>
          </a:prstGeom>
          <a:solidFill>
            <a:srgbClr val="094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讲课的语言，悦耳像叮咚的山泉，亲切似潺潺的小溪，激越如奔泻的江流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8" name="文本框 11"/>
          <p:cNvSpPr/>
          <p:nvPr/>
        </p:nvSpPr>
        <p:spPr>
          <a:xfrm>
            <a:off x="544680" y="141120"/>
            <a:ext cx="4406760" cy="2159280"/>
          </a:xfrm>
          <a:prstGeom prst="rect">
            <a:avLst/>
          </a:prstGeom>
          <a:solidFill>
            <a:srgbClr val="009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谁－－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无知的我们领进宽敞的教室，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给我们丰富的知识？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您！老师！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用辛勤的汗水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哺育了春日刚破土的嫩苗。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544680" y="4599000"/>
            <a:ext cx="4405320" cy="2160720"/>
          </a:xfrm>
          <a:prstGeom prst="rect">
            <a:avLst/>
          </a:prstGeom>
          <a:solidFill>
            <a:srgbClr val="db5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谁－－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调皮的我们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育成能体贴帮助别人的人？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您！老师！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关怀就好似和煦的春风</a:t>
            </a:r>
            <a:r>
              <a:rPr b="1" lang="en-US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暖了我们的心灵。</a:t>
            </a: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0" name="文本框 14"/>
          <p:cNvSpPr/>
          <p:nvPr/>
        </p:nvSpPr>
        <p:spPr>
          <a:xfrm>
            <a:off x="544680" y="2370240"/>
            <a:ext cx="2158920" cy="2160360"/>
          </a:xfrm>
          <a:prstGeom prst="rect">
            <a:avLst/>
          </a:prstGeom>
          <a:solidFill>
            <a:srgbClr val="00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1" name="文本框 15"/>
          <p:cNvSpPr/>
          <p:nvPr/>
        </p:nvSpPr>
        <p:spPr>
          <a:xfrm>
            <a:off x="5006880" y="4595760"/>
            <a:ext cx="4376880" cy="2160720"/>
          </a:xfrm>
          <a:prstGeom prst="rect">
            <a:avLst/>
          </a:prstGeom>
          <a:solidFill>
            <a:srgbClr val="2d88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2" name="文本框 16"/>
          <p:cNvSpPr/>
          <p:nvPr/>
        </p:nvSpPr>
        <p:spPr>
          <a:xfrm>
            <a:off x="9469440" y="4595760"/>
            <a:ext cx="2160720" cy="2160720"/>
          </a:xfrm>
          <a:prstGeom prst="rect">
            <a:avLst/>
          </a:prstGeom>
          <a:solidFill>
            <a:srgbClr val="bc1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3" name="文本框 18"/>
          <p:cNvSpPr/>
          <p:nvPr/>
        </p:nvSpPr>
        <p:spPr>
          <a:xfrm>
            <a:off x="9469440" y="141120"/>
            <a:ext cx="2160720" cy="2159280"/>
          </a:xfrm>
          <a:prstGeom prst="rect">
            <a:avLst/>
          </a:prstGeom>
          <a:solidFill>
            <a:srgbClr val="db5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4" name="文本框 19"/>
          <p:cNvSpPr/>
          <p:nvPr/>
        </p:nvSpPr>
        <p:spPr>
          <a:xfrm>
            <a:off x="9469440" y="2363760"/>
            <a:ext cx="2160720" cy="2158920"/>
          </a:xfrm>
          <a:prstGeom prst="rect">
            <a:avLst/>
          </a:prstGeom>
          <a:solidFill>
            <a:srgbClr val="094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2200" spc="-1" strike="noStrike">
              <a:solidFill>
                <a:srgbClr val="000000"/>
              </a:solidFill>
              <a:latin typeface="Mistr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蚕到死丝方尽，蜡炬成灰泪始干。</a:t>
            </a: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----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李商隐</a:t>
            </a: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题</a:t>
            </a: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21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95" name="文本框 20"/>
          <p:cNvSpPr/>
          <p:nvPr/>
        </p:nvSpPr>
        <p:spPr>
          <a:xfrm>
            <a:off x="7230960" y="2363760"/>
            <a:ext cx="2160720" cy="2158920"/>
          </a:xfrm>
          <a:prstGeom prst="rect">
            <a:avLst/>
          </a:prstGeom>
          <a:solidFill>
            <a:srgbClr val="bc1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96" name="图片 21" descr=""/>
          <p:cNvPicPr/>
          <p:nvPr/>
        </p:nvPicPr>
        <p:blipFill>
          <a:blip r:embed="rId1"/>
          <a:stretch/>
        </p:blipFill>
        <p:spPr>
          <a:xfrm>
            <a:off x="7230960" y="2362320"/>
            <a:ext cx="216072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3" descr=""/>
          <p:cNvPicPr/>
          <p:nvPr/>
        </p:nvPicPr>
        <p:blipFill>
          <a:blip r:embed="rId2"/>
          <a:srcRect l="0" t="4236" r="60976" b="6162"/>
          <a:stretch/>
        </p:blipFill>
        <p:spPr>
          <a:xfrm>
            <a:off x="552600" y="23637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4" descr=""/>
          <p:cNvPicPr/>
          <p:nvPr/>
        </p:nvPicPr>
        <p:blipFill>
          <a:blip r:embed="rId3"/>
          <a:stretch/>
        </p:blipFill>
        <p:spPr>
          <a:xfrm>
            <a:off x="5016600" y="141120"/>
            <a:ext cx="2160360" cy="21592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5" descr=""/>
          <p:cNvPicPr/>
          <p:nvPr/>
        </p:nvPicPr>
        <p:blipFill>
          <a:blip r:embed="rId4"/>
          <a:stretch/>
        </p:blipFill>
        <p:spPr>
          <a:xfrm>
            <a:off x="5005440" y="4595760"/>
            <a:ext cx="4378320" cy="2160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28"/>
          <p:cNvSpPr/>
          <p:nvPr/>
        </p:nvSpPr>
        <p:spPr>
          <a:xfrm>
            <a:off x="8613720" y="4944960"/>
            <a:ext cx="38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  <a:ea typeface="宋体"/>
              </a:rPr>
              <a:t>9.10</a:t>
            </a:r>
            <a:endParaRPr b="1" lang="en-US" sz="800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101" name="图片 30" descr=""/>
          <p:cNvPicPr/>
          <p:nvPr/>
        </p:nvPicPr>
        <p:blipFill>
          <a:blip r:embed="rId5"/>
          <a:srcRect l="0" t="2172" r="32100" b="3904"/>
          <a:stretch/>
        </p:blipFill>
        <p:spPr>
          <a:xfrm>
            <a:off x="9469440" y="14112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9360" y="64101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979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stral"/>
                <a:ea typeface="宋体"/>
              </a:rPr>
              <a:t>教师节幻灯片免费下载</a:t>
            </a:r>
            <a:endParaRPr b="1" lang="en-US" sz="40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2:04:00Z</dcterms:created>
  <dc:creator>pc</dc:creator>
  <dc:description>www.eeppt.com;</dc:description>
  <cp:keywords>www.eeppt.com</cp:keywords>
  <dc:language>en-US</dc:language>
  <cp:lastModifiedBy>think</cp:lastModifiedBy>
  <dcterms:modified xsi:type="dcterms:W3CDTF">2015-09-18T13:20:29Z</dcterms:modified>
  <cp:revision>3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