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5D7-17D5-420B-85AA-3C5BFD1A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B3F-D55C-4F8F-B35B-53402D93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83C-2DFA-496E-A4EB-3B3F428E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484-D252-48AC-98F7-96A77753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68D-AFC1-4C36-91D6-04DC48B4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698-7733-43C7-8BA7-A0382AC9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EE9-1334-4A49-B58C-2EE486B8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35B-5E51-47F2-9AF0-2B510F92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AAA-9D69-4EC4-8F70-FD40CB8F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F66-92DA-4B74-B464-A633A24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22A-1E7A-4399-9AFE-0BAC64D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9A5-D8FB-4DDF-A09C-B7FA1B8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3C47-F4D2-41CF-9949-DCB06015E3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143160" y="350028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14800" y="3897360"/>
            <a:ext cx="41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教师节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9080" y="333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师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776-CCF5-43B3-A8DB-9EFEBA27B8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5212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283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069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568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7140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1568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425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6409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7836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35492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4977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140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56912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c</dc:creator>
  <dc:description>www.eeppt.com;</dc:description>
  <cp:keywords>www.eeppt.com</cp:keywords>
  <dc:language>en-US</dc:language>
  <cp:lastModifiedBy>YANGS</cp:lastModifiedBy>
  <dcterms:modified xsi:type="dcterms:W3CDTF">2015-09-18T13:20:21Z</dcterms:modified>
  <cp:revision>8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