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FC39-899B-4552-BA88-634C48C9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07228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2600" y="3891600"/>
            <a:ext cx="807228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801-8C7F-4A9A-8331-33D1B334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26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790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7D42-2763-4F6D-A04E-71C72C66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2120" y="142848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1640" y="142848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2600" y="389160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2120" y="389160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1640" y="389160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F41-3126-4DA9-AC47-F5B106C7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CD86-9ECF-406F-A5E2-DA665A9F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42600" y="14284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AB28-60D2-40B6-BC48-843C0DB9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B544-1378-46FE-9E37-C77F3461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6B5C-DEBF-409C-850F-32C2AEE4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6AF7-E5D9-4FF5-95C9-F85C9F35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0040" y="214200"/>
            <a:ext cx="82296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D748-5944-4352-946E-84BAFA20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26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9174-7A9C-48CB-9178-D80CC8C7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2600" y="14284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FF85-3025-43E5-81AD-FDD8DB69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790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9CEB-2C31-45C0-8CF2-39C8071C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2600" y="3891600"/>
            <a:ext cx="807228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B52F-B90B-4268-BC0E-A134E02E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07228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42600" y="3891600"/>
            <a:ext cx="807228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9BFF-09C2-4F58-B722-55A6F38B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26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790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9C82-A292-4810-8BF4-7ADF0845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72120" y="142848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1640" y="142848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42600" y="389160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72120" y="389160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1640" y="389160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2F2E-F1DF-4200-A492-81A53722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1C02-CD94-441A-BD8E-7A510633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B1E-1E42-490B-BEE0-A49E12D6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C2B-B7E3-40BB-90D1-783C2701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0040" y="214200"/>
            <a:ext cx="82296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9B0-D567-4FED-8074-AFD4038C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26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D3A1-1829-4FD9-A56B-18DD46A6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90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CC2F-DE29-4A4D-B016-06E968D9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2600" y="3891600"/>
            <a:ext cx="807228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81A1-0B33-4366-89FC-59576E74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600" y="14284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82E5-AB6A-488A-BB3F-EF80EFED5172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42600" y="14284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35E3-A139-439E-A3F1-DAD6FAF4DF0E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7183440" y="29376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-4200120" y="1035360"/>
            <a:ext cx="507024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000000">
                        <a:alpha val="0"/>
                      </a:srgbClr>
                    </a:gs>
                    <a:gs pos="100000">
                      <a:srgbClr val="000000">
                        <a:alpha val="10196"/>
                      </a:srgbClr>
                    </a:gs>
                  </a:gsLst>
                  <a:lin ang="5400000"/>
                </a:gradFill>
                <a:latin typeface="黑体"/>
              </a:rPr>
              <a:t>单击此处添加标题文字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1019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85" name=""/>
          <p:cNvSpPr/>
          <p:nvPr/>
        </p:nvSpPr>
        <p:spPr>
          <a:xfrm>
            <a:off x="108000" y="508644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14360" y="620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金色牡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7183440" y="29376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-4200120" y="1035360"/>
            <a:ext cx="507024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000000">
                        <a:alpha val="0"/>
                      </a:srgbClr>
                    </a:gs>
                    <a:gs pos="100000">
                      <a:srgbClr val="000000">
                        <a:alpha val="10196"/>
                      </a:srgbClr>
                    </a:gs>
                  </a:gsLst>
                  <a:lin ang="5400000"/>
                </a:gradFill>
                <a:latin typeface="黑体"/>
              </a:rPr>
              <a:t>单击此处添加标题文字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1019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89" name=""/>
          <p:cNvSpPr/>
          <p:nvPr/>
        </p:nvSpPr>
        <p:spPr>
          <a:xfrm>
            <a:off x="108000" y="508644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43080" y="21384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</a:rPr>
              <a:t>模板的使用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71680" y="1714680"/>
            <a:ext cx="820728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3A5-A8C9-49F6-AF66-903DDD2B17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999720"/>
            <a:ext cx="2772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感谢您的关注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187280" y="1643040"/>
            <a:ext cx="2768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183440" y="33336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123840" y="81000"/>
            <a:ext cx="489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本模板有第一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网提供，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2:56:27Z</dcterms:created>
  <dc:creator>pc</dc:creator>
  <dc:description>www.eeppt.com;</dc:description>
  <cp:keywords>www.eeppt.com</cp:keywords>
  <dc:language>en-US</dc:language>
  <cp:lastModifiedBy>jccook</cp:lastModifiedBy>
  <dcterms:modified xsi:type="dcterms:W3CDTF">2015-09-18T13:25:55Z</dcterms:modified>
  <cp:revision>21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