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F84BD-0D29-4AF1-85BC-D9EC5150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624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362320" y="3507480"/>
            <a:ext cx="624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6C788-FDB6-49A9-8C7B-DDE35A08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362320" y="350748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64160" y="350748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69F58-C405-4C7C-89EE-96842C00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474800" y="167652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87640" y="167652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362320" y="350748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474800" y="350748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87640" y="3507480"/>
            <a:ext cx="201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49B5-C634-4567-8E91-D482BA66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9AB3F-E795-4675-A9A3-807F2826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621EA-6E34-47D8-AAD0-FD769ECC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F6A17-2F22-4240-A8B9-9FED4450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B09F-9635-4695-93B8-8E111B41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362320" y="533160"/>
            <a:ext cx="6248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91C0B-3631-4EAF-BA6D-EF9A5CE8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362320" y="350748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4906-A58F-47B2-8F06-66138710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64160" y="350748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C37C-DEBE-4DB1-B3AE-3EFDDC32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64160" y="1676520"/>
            <a:ext cx="3048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362320" y="3507480"/>
            <a:ext cx="624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</a:pP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3DE50-19E6-47F4-A59F-486DBE6E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4"/>
          <p:cNvSpPr/>
          <p:nvPr/>
        </p:nvSpPr>
        <p:spPr>
          <a:xfrm>
            <a:off x="0" y="3511440"/>
            <a:ext cx="9144000" cy="334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SzPct val="25000"/>
              <a:buFont typeface="Wingdings" charset="2"/>
              <a:buChar char=""/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Second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969696"/>
              </a:buClr>
              <a:buSzPct val="60000"/>
              <a:buFont typeface="Wingdings" charset="2"/>
              <a:buChar char=""/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Third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Fourth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"/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Fifth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Sixth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</a:pPr>
            <a:r>
              <a:rPr b="1" lang="en-US" sz="2500" spc="-1" strike="noStrike">
                <a:solidFill>
                  <a:srgbClr val="cc9900"/>
                </a:solidFill>
                <a:latin typeface="Verdana"/>
              </a:rPr>
              <a:t>Seventh Outline Level</a:t>
            </a:r>
            <a:endParaRPr b="1" lang="en-US" sz="25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3" name="Rectangle 35"/>
          <p:cNvSpPr/>
          <p:nvPr/>
        </p:nvSpPr>
        <p:spPr>
          <a:xfrm>
            <a:off x="0" y="2014560"/>
            <a:ext cx="2135160" cy="484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36"/>
          <p:cNvSpPr/>
          <p:nvPr/>
        </p:nvSpPr>
        <p:spPr>
          <a:xfrm>
            <a:off x="0" y="6546960"/>
            <a:ext cx="9144000" cy="311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A6CC-0D68-4024-BF03-E1B35FD2B255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Oval 37"/>
          <p:cNvSpPr/>
          <p:nvPr/>
        </p:nvSpPr>
        <p:spPr>
          <a:xfrm>
            <a:off x="547560" y="365040"/>
            <a:ext cx="1122480" cy="11224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Text Box 38"/>
          <p:cNvSpPr/>
          <p:nvPr/>
        </p:nvSpPr>
        <p:spPr>
          <a:xfrm>
            <a:off x="404640" y="70956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견고딕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Text Box 39"/>
          <p:cNvSpPr/>
          <p:nvPr/>
        </p:nvSpPr>
        <p:spPr>
          <a:xfrm>
            <a:off x="6254280" y="6232680"/>
            <a:ext cx="3314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  <a:ea typeface="HY견고딕"/>
              </a:rPr>
              <a:t>YOUR SITE HER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金色</a:t>
            </a: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Gulim"/>
              </a:rPr>
              <a:t>企业</a:t>
            </a: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模板免费下载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Verdana"/>
                <a:ea typeface="Gulim"/>
              </a:rPr>
              <a:t>Add your company slogan</a:t>
            </a:r>
            <a:endParaRPr b="1" lang="en-US" sz="2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25000"/>
              <a:buFont typeface="Wingdings" charset="2"/>
              <a:buChar char=""/>
            </a:pPr>
            <a:r>
              <a:rPr b="1" lang="en-US" sz="2000" spc="-1" strike="noStrike">
                <a:solidFill>
                  <a:srgbClr val="cc9900"/>
                </a:solidFill>
                <a:latin typeface="Verdana"/>
                <a:ea typeface="Gulim"/>
              </a:rPr>
              <a:t>Competitors </a:t>
            </a:r>
            <a:endParaRPr b="1" lang="en-US" sz="20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 may want to allocate one slide per competito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</a:pPr>
            <a:endParaRPr b="1" lang="en-US" sz="2000" spc="-1" strike="noStrike">
              <a:solidFill>
                <a:srgbClr val="cc99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25000"/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Strengths</a:t>
            </a:r>
            <a:r>
              <a:rPr b="1" lang="en-US" sz="2000" spc="-1" strike="noStrike">
                <a:solidFill>
                  <a:srgbClr val="cc9900"/>
                </a:solidFill>
                <a:latin typeface="Verdana"/>
                <a:ea typeface="Gulim"/>
              </a:rPr>
              <a:t> </a:t>
            </a:r>
            <a:endParaRPr b="1" lang="en-US" sz="20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r strengths relative to competitor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25000"/>
              <a:buFont typeface="Wingdings" charset="2"/>
              <a:buChar char=""/>
            </a:pPr>
            <a:r>
              <a:rPr b="1" lang="en-US" sz="2000" spc="-1" strike="noStrike">
                <a:solidFill>
                  <a:srgbClr val="996600"/>
                </a:solidFill>
                <a:latin typeface="Verdana"/>
                <a:ea typeface="Gulim"/>
              </a:rPr>
              <a:t>Weaknesses</a:t>
            </a:r>
            <a:endParaRPr b="1" lang="en-US" sz="2000" spc="-1" strike="noStrike">
              <a:solidFill>
                <a:srgbClr val="cc99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r weaknesses relative to competito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cc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1752480" y="2022480"/>
            <a:ext cx="5648400" cy="644400"/>
            <a:chOff x="1752480" y="2022480"/>
            <a:chExt cx="5648400" cy="644400"/>
          </a:xfrm>
        </p:grpSpPr>
        <p:sp>
          <p:nvSpPr>
            <p:cNvPr id="54" name="AutoShape 5"/>
            <p:cNvSpPr/>
            <p:nvPr/>
          </p:nvSpPr>
          <p:spPr>
            <a:xfrm>
              <a:off x="1752480" y="202248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2117520" y="2143080"/>
              <a:ext cx="491040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1. Introdu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Group 17"/>
          <p:cNvGrpSpPr/>
          <p:nvPr/>
        </p:nvGrpSpPr>
        <p:grpSpPr>
          <a:xfrm>
            <a:off x="1752480" y="2860560"/>
            <a:ext cx="5648400" cy="644400"/>
            <a:chOff x="1752480" y="2860560"/>
            <a:chExt cx="5648400" cy="644400"/>
          </a:xfrm>
        </p:grpSpPr>
        <p:sp>
          <p:nvSpPr>
            <p:cNvPr id="57" name="AutoShape 18"/>
            <p:cNvSpPr/>
            <p:nvPr/>
          </p:nvSpPr>
          <p:spPr>
            <a:xfrm>
              <a:off x="1752480" y="286056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2117520" y="2981160"/>
              <a:ext cx="491040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2. Strateg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Group 20"/>
          <p:cNvGrpSpPr/>
          <p:nvPr/>
        </p:nvGrpSpPr>
        <p:grpSpPr>
          <a:xfrm>
            <a:off x="1752480" y="3699000"/>
            <a:ext cx="5648400" cy="644400"/>
            <a:chOff x="1752480" y="3699000"/>
            <a:chExt cx="5648400" cy="644400"/>
          </a:xfrm>
        </p:grpSpPr>
        <p:sp>
          <p:nvSpPr>
            <p:cNvPr id="60" name="AutoShape 21"/>
            <p:cNvSpPr/>
            <p:nvPr/>
          </p:nvSpPr>
          <p:spPr>
            <a:xfrm>
              <a:off x="1752480" y="369900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>
              <a:off x="2117520" y="3819600"/>
              <a:ext cx="491040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3. Challenges forwa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Group 23"/>
          <p:cNvGrpSpPr/>
          <p:nvPr/>
        </p:nvGrpSpPr>
        <p:grpSpPr>
          <a:xfrm>
            <a:off x="1752480" y="4537080"/>
            <a:ext cx="5648400" cy="644400"/>
            <a:chOff x="1752480" y="4537080"/>
            <a:chExt cx="5648400" cy="644400"/>
          </a:xfrm>
        </p:grpSpPr>
        <p:sp>
          <p:nvSpPr>
            <p:cNvPr id="63" name="AutoShape 24"/>
            <p:cNvSpPr/>
            <p:nvPr/>
          </p:nvSpPr>
          <p:spPr>
            <a:xfrm>
              <a:off x="1752480" y="453708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25"/>
            <p:cNvSpPr/>
            <p:nvPr/>
          </p:nvSpPr>
          <p:spPr>
            <a:xfrm>
              <a:off x="2117520" y="4657680"/>
              <a:ext cx="491040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4. Conclus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Gulim"/>
              </a:rPr>
              <a:t>One Column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049400" y="1782720"/>
            <a:ext cx="7047000" cy="3487680"/>
          </a:xfrm>
          <a:prstGeom prst="roundRect">
            <a:avLst>
              <a:gd name="adj" fmla="val 16667"/>
            </a:avLst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1187280" y="1925640"/>
            <a:ext cx="6280200" cy="2595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122560" y="2475000"/>
            <a:ext cx="5843520" cy="265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371600" y="20574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038480" y="35812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1.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Gulim"/>
              </a:rPr>
              <a:t>Two Column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" name="Group 17"/>
          <p:cNvGrpSpPr/>
          <p:nvPr/>
        </p:nvGrpSpPr>
        <p:grpSpPr>
          <a:xfrm>
            <a:off x="762120" y="2286000"/>
            <a:ext cx="7618320" cy="1338120"/>
            <a:chOff x="762120" y="2286000"/>
            <a:chExt cx="7618320" cy="1338120"/>
          </a:xfrm>
        </p:grpSpPr>
        <p:sp>
          <p:nvSpPr>
            <p:cNvPr id="73" name="AutoShape 5"/>
            <p:cNvSpPr/>
            <p:nvPr/>
          </p:nvSpPr>
          <p:spPr>
            <a:xfrm>
              <a:off x="762120" y="2286000"/>
              <a:ext cx="7618320" cy="1338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6"/>
            <p:cNvSpPr/>
            <p:nvPr/>
          </p:nvSpPr>
          <p:spPr>
            <a:xfrm>
              <a:off x="2251080" y="2405160"/>
              <a:ext cx="6016680" cy="109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8"/>
            <p:cNvSpPr/>
            <p:nvPr/>
          </p:nvSpPr>
          <p:spPr>
            <a:xfrm>
              <a:off x="803520" y="2322360"/>
              <a:ext cx="1447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1.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" name="Group 18"/>
          <p:cNvGrpSpPr/>
          <p:nvPr/>
        </p:nvGrpSpPr>
        <p:grpSpPr>
          <a:xfrm>
            <a:off x="762120" y="3809880"/>
            <a:ext cx="7618320" cy="1338120"/>
            <a:chOff x="762120" y="3809880"/>
            <a:chExt cx="7618320" cy="1338120"/>
          </a:xfrm>
        </p:grpSpPr>
        <p:sp>
          <p:nvSpPr>
            <p:cNvPr id="77" name="AutoShape 11"/>
            <p:cNvSpPr/>
            <p:nvPr/>
          </p:nvSpPr>
          <p:spPr>
            <a:xfrm>
              <a:off x="762120" y="3809880"/>
              <a:ext cx="7618320" cy="1338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AutoShape 12"/>
            <p:cNvSpPr/>
            <p:nvPr/>
          </p:nvSpPr>
          <p:spPr>
            <a:xfrm>
              <a:off x="2251080" y="3929040"/>
              <a:ext cx="6016680" cy="109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803520" y="3846240"/>
              <a:ext cx="1447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2.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" name="Rectangle 14"/>
          <p:cNvSpPr/>
          <p:nvPr/>
        </p:nvSpPr>
        <p:spPr>
          <a:xfrm>
            <a:off x="2362320" y="1752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Gulim"/>
              </a:rPr>
              <a:t>Three Column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5813280" y="3573360"/>
            <a:ext cx="319320" cy="490680"/>
          </a:xfrm>
          <a:prstGeom prst="rightArrow">
            <a:avLst>
              <a:gd name="adj1" fmla="val 45981"/>
              <a:gd name="adj2" fmla="val 4629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3036960" y="3573360"/>
            <a:ext cx="318960" cy="490680"/>
          </a:xfrm>
          <a:prstGeom prst="rightArrow">
            <a:avLst>
              <a:gd name="adj1" fmla="val 45981"/>
              <a:gd name="adj2" fmla="val 4629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Group 24"/>
          <p:cNvGrpSpPr/>
          <p:nvPr/>
        </p:nvGrpSpPr>
        <p:grpSpPr>
          <a:xfrm>
            <a:off x="665280" y="2341440"/>
            <a:ext cx="2241360" cy="2994120"/>
            <a:chOff x="665280" y="2341440"/>
            <a:chExt cx="2241360" cy="2994120"/>
          </a:xfrm>
        </p:grpSpPr>
        <p:sp>
          <p:nvSpPr>
            <p:cNvPr id="85" name="AutoShape 6"/>
            <p:cNvSpPr/>
            <p:nvPr/>
          </p:nvSpPr>
          <p:spPr>
            <a:xfrm>
              <a:off x="665280" y="2341440"/>
              <a:ext cx="2241360" cy="2994120"/>
            </a:xfrm>
            <a:custGeom>
              <a:avLst/>
              <a:gdLst>
                <a:gd name="textAreaLeft" fmla="*/ 109080 w 2241360"/>
                <a:gd name="textAreaRight" fmla="*/ 2132280 w 2241360"/>
                <a:gd name="textAreaTop" fmla="*/ 109080 h 2994120"/>
                <a:gd name="textAreaBottom" fmla="*/ 2885040 h 299412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7"/>
            <p:cNvSpPr/>
            <p:nvPr/>
          </p:nvSpPr>
          <p:spPr>
            <a:xfrm>
              <a:off x="787320" y="2828880"/>
              <a:ext cx="1996560" cy="2390760"/>
            </a:xfrm>
            <a:custGeom>
              <a:avLst/>
              <a:gdLst>
                <a:gd name="textAreaLeft" fmla="*/ 97200 w 1996560"/>
                <a:gd name="textAreaRight" fmla="*/ 1899360 w 199656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64">
                  <a:moveTo>
                    <a:pt x="3600" y="0"/>
                  </a:moveTo>
                  <a:arcTo wR="3600" hR="3600" stAng="16200000" swAng="-5400000"/>
                  <a:lnTo>
                    <a:pt x="0" y="22264"/>
                  </a:lnTo>
                  <a:arcTo wR="3600" hR="3600" stAng="10800000" swAng="-5400000"/>
                  <a:lnTo>
                    <a:pt x="18000" y="258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761760" y="2438280"/>
              <a:ext cx="2057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1.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" name="Group 23"/>
          <p:cNvGrpSpPr/>
          <p:nvPr/>
        </p:nvGrpSpPr>
        <p:grpSpPr>
          <a:xfrm>
            <a:off x="3436920" y="2347920"/>
            <a:ext cx="2241720" cy="2994120"/>
            <a:chOff x="3436920" y="2347920"/>
            <a:chExt cx="2241720" cy="2994120"/>
          </a:xfrm>
        </p:grpSpPr>
        <p:sp>
          <p:nvSpPr>
            <p:cNvPr id="89" name="AutoShape 10"/>
            <p:cNvSpPr/>
            <p:nvPr/>
          </p:nvSpPr>
          <p:spPr>
            <a:xfrm>
              <a:off x="3436920" y="2347920"/>
              <a:ext cx="2241720" cy="2994120"/>
            </a:xfrm>
            <a:custGeom>
              <a:avLst/>
              <a:gdLst>
                <a:gd name="textAreaLeft" fmla="*/ 109440 w 2241720"/>
                <a:gd name="textAreaRight" fmla="*/ 2132280 w 2241720"/>
                <a:gd name="textAreaTop" fmla="*/ 109440 h 2994120"/>
                <a:gd name="textAreaBottom" fmla="*/ 2884680 h 29941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utoShape 11"/>
            <p:cNvSpPr/>
            <p:nvPr/>
          </p:nvSpPr>
          <p:spPr>
            <a:xfrm>
              <a:off x="3559320" y="2835360"/>
              <a:ext cx="1996920" cy="2390760"/>
            </a:xfrm>
            <a:custGeom>
              <a:avLst/>
              <a:gdLst>
                <a:gd name="textAreaLeft" fmla="*/ 97200 w 1996920"/>
                <a:gd name="textAreaRight" fmla="*/ 1899720 w 199692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59">
                  <a:moveTo>
                    <a:pt x="3600" y="0"/>
                  </a:moveTo>
                  <a:arcTo wR="3600" hR="3600" stAng="16200000" swAng="-5400000"/>
                  <a:lnTo>
                    <a:pt x="0" y="22259"/>
                  </a:lnTo>
                  <a:arcTo wR="3600" hR="3600" stAng="10800000" swAng="-5400000"/>
                  <a:lnTo>
                    <a:pt x="18000" y="25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19"/>
            <p:cNvSpPr/>
            <p:nvPr/>
          </p:nvSpPr>
          <p:spPr>
            <a:xfrm>
              <a:off x="3505320" y="2438280"/>
              <a:ext cx="2057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2.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Group 22"/>
          <p:cNvGrpSpPr/>
          <p:nvPr/>
        </p:nvGrpSpPr>
        <p:grpSpPr>
          <a:xfrm>
            <a:off x="6248520" y="2347920"/>
            <a:ext cx="2241360" cy="2994120"/>
            <a:chOff x="6248520" y="2347920"/>
            <a:chExt cx="2241360" cy="2994120"/>
          </a:xfrm>
        </p:grpSpPr>
        <p:sp>
          <p:nvSpPr>
            <p:cNvPr id="93" name="AutoShape 14"/>
            <p:cNvSpPr/>
            <p:nvPr/>
          </p:nvSpPr>
          <p:spPr>
            <a:xfrm>
              <a:off x="6248520" y="2347920"/>
              <a:ext cx="2241360" cy="2994120"/>
            </a:xfrm>
            <a:custGeom>
              <a:avLst/>
              <a:gdLst>
                <a:gd name="textAreaLeft" fmla="*/ 109080 w 2241360"/>
                <a:gd name="textAreaRight" fmla="*/ 2132280 w 2241360"/>
                <a:gd name="textAreaTop" fmla="*/ 109080 h 2994120"/>
                <a:gd name="textAreaBottom" fmla="*/ 2885040 h 299412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AutoShape 15"/>
            <p:cNvSpPr/>
            <p:nvPr/>
          </p:nvSpPr>
          <p:spPr>
            <a:xfrm>
              <a:off x="6400440" y="2819520"/>
              <a:ext cx="1996920" cy="2390760"/>
            </a:xfrm>
            <a:custGeom>
              <a:avLst/>
              <a:gdLst>
                <a:gd name="textAreaLeft" fmla="*/ 97200 w 1996920"/>
                <a:gd name="textAreaRight" fmla="*/ 1899720 w 199692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59">
                  <a:moveTo>
                    <a:pt x="3600" y="0"/>
                  </a:moveTo>
                  <a:arcTo wR="3600" hR="3600" stAng="16200000" swAng="-5400000"/>
                  <a:lnTo>
                    <a:pt x="0" y="22259"/>
                  </a:lnTo>
                  <a:arcTo wR="3600" hR="3600" stAng="10800000" swAng="-5400000"/>
                  <a:lnTo>
                    <a:pt x="18000" y="25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Rectangle 20"/>
            <p:cNvSpPr/>
            <p:nvPr/>
          </p:nvSpPr>
          <p:spPr>
            <a:xfrm>
              <a:off x="6324480" y="2438280"/>
              <a:ext cx="2057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3.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Rectangle 21"/>
          <p:cNvSpPr/>
          <p:nvPr/>
        </p:nvSpPr>
        <p:spPr>
          <a:xfrm>
            <a:off x="2362320" y="1828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4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4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cc9900"/>
              </a:solidFill>
              <a:latin typeface="Verdan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96392-4FC1-451B-B82F-6F6197391D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Object 7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6248160" cy="451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2195640" y="645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Times New Roman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1T00:5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52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