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08A-3985-48A4-9C79-4157D811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06A-4076-480C-B304-39034E02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354-5653-4864-8614-8F5FCE4B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28D8-DB00-42D3-A19B-73F72B68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66DA-C7FC-4835-AD28-73DF607E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FBB-B7C6-4F3C-8620-C0645693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BBD-35EA-4AAC-A3E2-CB94C43B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38B6-D126-419D-BC3E-42F207FC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71E-E849-4CBB-9A65-DEA9A292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1ED-D439-46B9-AA02-4DBCF94E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70CB-B37D-4255-8F8F-F558D8D8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679-B9ED-4AA4-8BC8-F28FCC8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A6F-D405-4A7A-ADA2-C13BFF0A5F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5520" y="33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个性欧美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57240" y="5429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14072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62838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5143680" y="448776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5426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6"/>
          <p:cNvSpPr/>
          <p:nvPr/>
        </p:nvSpPr>
        <p:spPr>
          <a:xfrm>
            <a:off x="5426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26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4500720" y="257184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69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26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3"/>
          <p:cNvSpPr/>
          <p:nvPr/>
        </p:nvSpPr>
        <p:spPr>
          <a:xfrm>
            <a:off x="3500280" y="27147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3069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569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D16-105D-4D14-82BD-A79E663EB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"/>
          <p:cNvSpPr/>
          <p:nvPr/>
        </p:nvSpPr>
        <p:spPr>
          <a:xfrm>
            <a:off x="3643200" y="3500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569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16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