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image2.gif" ContentType="image/gif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09EB-6215-47AB-9FA1-86EC6AA5F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80B1-A36E-41E0-B792-C133D5057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5A78-C00F-4A30-BCC4-3F8043864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46F4-F67E-45A8-8B7C-0EF800771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0CA22-66CE-4BB6-9482-749327551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15901-4C78-4E57-85A4-09B48EB54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37CDC-836F-4456-904C-4D7396E7A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93337-F03F-4B7D-9CC9-08DF8BBCD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97D4D-432C-4CF4-8641-3F2ACF5E5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5B170-B9FE-4FE8-81E0-C8DC54521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4208E-FBF1-482D-A3DF-33A68C934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1058-8860-45C4-B2FF-2FD7AC140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35B46-C831-47F8-80D8-66C240E1D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0B853-7319-4CCD-93C8-F1B35A97A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75793-3CCC-4309-BAE1-3DCC6F558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F9372-041F-42DF-B142-D9BCAF609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FCD60-E758-4FB1-A2E5-93282E235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7521B-3F57-4CF7-B7DF-869F8841D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52892-732C-4E62-8904-EAC4AF163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712EE-B12A-42B8-87E9-C3FA1AB6A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16B6E-E1E4-4D95-BD0D-9218DD04D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8E172-37E1-4CDF-950D-507CF7AC8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B3AF-C077-4D54-8CEB-C45DEEB0B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DADD5-B259-47C4-9425-E130CF40F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59D4D-BFDC-456E-AEF6-ABE61620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3606C-5BD4-4226-9FA5-629EA694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7FAF6-841E-4D14-AD70-3B2AD475F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5FF21-A663-4BA1-BED3-411717BF5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5A66E-4F9C-40C3-9267-C838A0053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5EB88-C894-4660-930C-5E5F465F9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0790-DD32-4DE3-96D3-0BF7C1A3A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4C40-C7B3-4E4D-9177-42D62095B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530C-DD99-4F11-90D8-06B1AAAEC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6609-3B9F-4E30-A481-2BC5F7A9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B9A3-F2A3-4EDD-AB23-65CAD1527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917C-DA33-4C68-AFCC-A43851B4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EE11C-4877-4983-A8C0-06E269D923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12_副本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4DF1E-4413-4999-9E67-3750ADB1D7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12_副本_副本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5E413-FBA9-4184-9261-260248F9CB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044720" y="5734080"/>
            <a:ext cx="50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142720" y="105264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可爱风格卡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DABAE-FBCA-4371-83B8-E8AA6C328C1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09:04:58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7:44Z</dcterms:modified>
  <cp:revision>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