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5F1-9BEB-433C-BCA3-9C963D75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C2D-E8F9-4F6B-8C20-6B9D8738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C24-6364-45A9-9002-5CF94378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191-95EE-4BEF-AE9C-2E5F9127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37A8-0F7E-44AE-9389-24660FD4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49EA-2211-47AC-A556-E085AEE3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A3CC-BD46-4071-A932-E94CC35F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4AE5-0F54-4D37-B95D-9093B3C4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9178-3981-49F9-A83C-F7B0EE6A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3659-B01E-4013-BBDF-17FBC3AA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107E-23CA-457B-833F-BD3DC54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9CB-2517-44B2-A81C-F1A82C8D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BA3E-4D7D-402C-93E8-5F909FF8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418B-B252-4009-9852-7337F3C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9C98-8134-4854-AD0B-426BFA6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C32F-2CE4-4349-A9A0-C3C09152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2C5D-632A-432F-92B5-DB12E510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DAB-8FDA-4AE2-AA3D-583BC3F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BB4-D1C3-48B1-9AF0-80D3E371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D73-B887-471D-A6F6-4A623AE0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6A3-EA05-4884-A5FB-B629C32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D47-0474-4F56-BEDA-165D7CB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9EF-58C1-4218-8BC9-D59E3860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7FA-A9FA-4EB2-89D7-A80CC3F0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2BB9-5BDC-4396-B58B-E8F5E6E9E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73A1-2943-4100-A96E-D72DD2F2BC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thanksgiving_turkey_head_looking_hg_clr"/>
          <p:cNvPicPr/>
          <p:nvPr/>
        </p:nvPicPr>
        <p:blipFill>
          <a:blip r:embed="rId2"/>
          <a:stretch/>
        </p:blipFill>
        <p:spPr>
          <a:xfrm>
            <a:off x="152280" y="60948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thanksgiving_basket_harvest_food_sway_hg_clr"/>
          <p:cNvPicPr/>
          <p:nvPr/>
        </p:nvPicPr>
        <p:blipFill>
          <a:blip r:embed="rId3"/>
          <a:stretch/>
        </p:blipFill>
        <p:spPr>
          <a:xfrm>
            <a:off x="7238880" y="5451480"/>
            <a:ext cx="1905120" cy="1406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12760" y="76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感恩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3623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9B6-64A5-47CA-95EF-EF422A8883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120" y="1601280"/>
            <a:ext cx="807732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3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17:41Z</dcterms:modified>
  <cp:revision>1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