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1BD-6046-4386-BE44-2265F01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A0B-6BAE-4F43-B88F-5390EA59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B2E-3358-4402-B9D1-B3BBCF4D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9BB-53D6-4B22-9E2F-1A13CF95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A694-D370-45C0-81D8-7146BBD1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A612-0E48-4D38-B924-A87D651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C8D3-C1B9-4AC2-A242-8234C94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4F6B-A90C-4BBF-9FEF-BC11C41E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ED82-3FFB-4C83-9D39-54E7F38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C2BA-88FF-48F2-A37A-4346E1DC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3E89-A2FF-426C-9E52-CD1673D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A19-2A25-46F5-8CA6-FE6A08A3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588-4A90-4193-BD8D-E6F9277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9D10-6EF0-47C8-9427-CFB23DC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09EC-A302-401D-92E7-B478971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C03-F531-4948-B5A2-52D5DA41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600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2160" y="19051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600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2160" y="40143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ED97-1709-4942-B651-B39F818D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906-A83C-4B30-B2CF-7CCFBDD7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D32-5F48-4CCD-8097-F8E4361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586-E9A1-4EAC-9C24-7E26D3AC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8380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BA0-1602-47A5-9AD9-A73FE7FA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AF5-3371-49B1-BFE1-D343296C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40143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956-6180-47AC-9C61-261225F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9051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40143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A34-2C9B-4DF6-BD15-B5B788E8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DB12-10F1-414A-8182-F33AB34195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2680" y="27428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F47C-3542-49D6-BD5F-99A8A88950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428640" y="5105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Sub Title here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55280" y="422064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可爱卡通</a:t>
            </a: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339933"/>
                </a:solidFill>
                <a:latin typeface="Arial"/>
                <a:ea typeface="宋体"/>
              </a:rPr>
              <a:t>模板免费</a:t>
            </a:r>
            <a:r>
              <a:rPr b="0" lang="en-US" sz="4000" spc="-1" strike="noStrike">
                <a:solidFill>
                  <a:srgbClr val="339933"/>
                </a:solidFill>
                <a:latin typeface="Arial"/>
              </a:rPr>
              <a:t>下载</a:t>
            </a:r>
            <a:endParaRPr b="0" lang="en-US" sz="40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Reading Fun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Sub Topics here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Print Page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  <a:ea typeface="宋体"/>
              </a:rPr>
              <a:t>Print topics here</a:t>
            </a:r>
            <a:endParaRPr b="0" lang="en-US" sz="3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84B-43D4-45F9-876B-9155CD59C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Arial"/>
                <a:ea typeface="宋体"/>
              </a:rPr>
              <a:t>Transitional Page</a:t>
            </a:r>
            <a:endParaRPr b="0" lang="en-US" sz="4400" spc="-1" strike="noStrike">
              <a:solidFill>
                <a:srgbClr val="33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0:40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3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