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21B5-D354-4AF0-AA70-75F02D46C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1AD-72BE-41A2-801F-C4C00F78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4565-C5FA-4579-B841-E458CCBC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D077-78AD-4CB4-8029-76BFE803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B219-70A4-492C-B6D9-25EA0B10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D80F3-C552-4DE0-BCB6-EEE61FAB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4897-F84C-4A11-A79A-7FCBAF19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82A52-B631-4E6F-A113-F06BE874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5A10-A598-43E8-BE65-5AE16D03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86B6-8F0B-4147-8C5C-4B11A3A9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9DCE-A23D-4E5C-B7BD-E2447223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D097-D33E-4730-AC40-44D547ED8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DC6A3-1FA6-4D56-A1B9-60B8F98B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0D04-ABD9-44C6-8192-1CAF5BE9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67C8-86E0-4940-B5CB-E83763DF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1782-A3E7-4DF6-886C-25F96608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0E605-4F1B-4B6C-AA42-ADB8AB5F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74605-EC34-49AC-AA07-6C601938C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77415-F9CD-43AC-A8A3-771DE399E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BDE03C-2EF5-488C-A959-6AA0BB8FF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00BB1-FF63-4525-AADB-C25184D2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71AC1-C8FC-4B79-87E9-5FD53AC59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CA5B-A72C-455D-901D-3E30C28B2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B10DE-E982-46DB-84BB-9561270F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A7C8B-3FA4-405D-9711-F202DA50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7C8BF-10AF-4397-A42E-0F41C07E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60296-A4A3-47A0-931E-C43B456B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33AD3-51A2-43CC-98D2-EF416E20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75094-6DCD-4C70-884E-F696223A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F68ED-8EF6-411C-85D9-DA4C5E7D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1D2F-6CC2-4F18-B3C0-46C1A947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DEE-AC4E-42DA-9C74-6A2260C2D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A3EF-F925-4303-96D4-18F20E49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8265-E6D7-42B2-BD33-D78A9E77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A01F7-96E8-44F4-8936-89958B79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788F-7BF5-4F54-B19D-5464B11D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theoatmeal.com/" TargetMode="External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hyperlink" Target="http://www.twitter.com/oatmeal" TargetMode="External"/><Relationship Id="rId6" Type="http://schemas.openxmlformats.org/officeDocument/2006/relationships/hyperlink" Target="http://theoatmeal.com/feed/rss" TargetMode="External"/><Relationship Id="rId7" Type="http://schemas.openxmlformats.org/officeDocument/2006/relationships/hyperlink" Target="http://www.facebook.com/theoatmeal" TargetMode="External"/><Relationship Id="rId8" Type="http://schemas.openxmlformats.org/officeDocument/2006/relationships/hyperlink" Target="http://theoatmeal.com/subscribers/email" TargetMode="External"/><Relationship Id="rId9" Type="http://schemas.openxmlformats.org/officeDocument/2006/relationships/hyperlink" Target="http://0at.org/" TargetMode="External"/><Relationship Id="rId10" Type="http://schemas.openxmlformats.org/officeDocument/2006/relationships/hyperlink" Target="http://theoatmeal.com/" TargetMode="External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4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6244-07E8-4671-822F-471F528FBE30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9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AB0D-FF32-446E-B57D-097626CDFD7B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1634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3"/>
          <a:stretch/>
        </p:blipFill>
        <p:spPr>
          <a:xfrm>
            <a:off x="152280" y="152280"/>
            <a:ext cx="3181320" cy="723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4"/>
          <a:stretch/>
        </p:blipFill>
        <p:spPr>
          <a:xfrm>
            <a:off x="0" y="5257800"/>
            <a:ext cx="9144000" cy="14349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1"/>
          <p:cNvSpPr/>
          <p:nvPr/>
        </p:nvSpPr>
        <p:spPr>
          <a:xfrm>
            <a:off x="96840" y="1154160"/>
            <a:ext cx="8975880" cy="410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2"/>
          <p:cNvSpPr/>
          <p:nvPr/>
        </p:nvSpPr>
        <p:spPr>
          <a:xfrm>
            <a:off x="2152440" y="555480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llow The Oatm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2849760" y="5956200"/>
            <a:ext cx="714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5"/>
              </a:rPr>
              <a:t>Twi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4"/>
          <p:cNvSpPr/>
          <p:nvPr/>
        </p:nvSpPr>
        <p:spPr>
          <a:xfrm>
            <a:off x="4570200" y="5952960"/>
            <a:ext cx="446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6"/>
              </a:rPr>
              <a:t>R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5"/>
          <p:cNvSpPr/>
          <p:nvPr/>
        </p:nvSpPr>
        <p:spPr>
          <a:xfrm>
            <a:off x="3627000" y="5954760"/>
            <a:ext cx="872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7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7"/>
          <p:cNvSpPr/>
          <p:nvPr/>
        </p:nvSpPr>
        <p:spPr>
          <a:xfrm>
            <a:off x="5138280" y="5952960"/>
            <a:ext cx="6012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8"/>
              </a:rPr>
              <a:t>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8"/>
          <p:cNvSpPr/>
          <p:nvPr/>
        </p:nvSpPr>
        <p:spPr>
          <a:xfrm>
            <a:off x="0" y="66117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All artwork and content on this site is Copyright © 2010 </a:t>
            </a:r>
            <a:r>
              <a:rPr b="0" lang="en-US" sz="1000" spc="-1" strike="noStrike" u="sng">
                <a:solidFill>
                  <a:srgbClr val="ff6600"/>
                </a:solidFill>
                <a:uFillTx/>
                <a:latin typeface="Calibri"/>
                <a:hlinkClick r:id="rId9"/>
              </a:rPr>
              <a:t>Matthew Inman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. Please don't ste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2275920" y="5952960"/>
            <a:ext cx="5158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Georgia"/>
                <a:hlinkClick r:id="rId10"/>
              </a:rPr>
              <a:t>We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A354-BFAE-49F3-B3C1-7D80361BA033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theoatmeal.com/comics" TargetMode="External"/><Relationship Id="rId3" Type="http://schemas.openxmlformats.org/officeDocument/2006/relationships/hyperlink" Target="http://www.reddit.com/r/pics/comments/b0jqz/the_10_types_of_crappy_interviewees_the_oatmeal/" TargetMode="External"/><Relationship Id="rId4" Type="http://schemas.openxmlformats.org/officeDocument/2006/relationships/hyperlink" Target="http://www.reddit.com/r/pics/comments/b0jqz/the_10_types_of_crappy_interviewees_the_oatmeal/" TargetMode="External"/><Relationship Id="rId5" Type="http://schemas.openxmlformats.org/officeDocument/2006/relationships/hyperlink" Target="http://www.facebook.com/share.php?u=http://theoatmeal.com/comics/interviewees" TargetMode="External"/><Relationship Id="rId6" Type="http://schemas.openxmlformats.org/officeDocument/2006/relationships/hyperlink" Target="http://twitter.com/home?status=The+10+Types+of+Crappy+Interviewees+http://theoatmeal.com/comics/interviewees+from+@oatmeal" TargetMode="External"/><Relationship Id="rId7" Type="http://schemas.openxmlformats.org/officeDocument/2006/relationships/hyperlink" Target="http://www.myspace.com/index.cfm?fuseaction=postto" TargetMode="External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700200" y="1676520"/>
            <a:ext cx="7605720" cy="28479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76320" y="49528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06320" y="106668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可爱卡通人物对话欧美风格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1779480" y="1081080"/>
            <a:ext cx="558504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rcRect l="4308" t="5275" r="0" b="0"/>
          <a:stretch/>
        </p:blipFill>
        <p:spPr>
          <a:xfrm>
            <a:off x="2270160" y="1138320"/>
            <a:ext cx="460368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2295360" y="2328840"/>
            <a:ext cx="4553280" cy="981000"/>
          </a:xfrm>
          <a:prstGeom prst="rect">
            <a:avLst/>
          </a:prstGeom>
          <a:ln w="0">
            <a:noFill/>
          </a:ln>
        </p:spPr>
      </p:pic>
      <p:sp>
        <p:nvSpPr>
          <p:cNvPr id="171" name="TextBox 3"/>
          <p:cNvSpPr/>
          <p:nvPr/>
        </p:nvSpPr>
        <p:spPr>
          <a:xfrm>
            <a:off x="2969640" y="1600200"/>
            <a:ext cx="30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e3f"/>
                </a:solidFill>
                <a:latin typeface="Georgia"/>
              </a:rPr>
              <a:t>Share this comi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3434760" y="3886200"/>
            <a:ext cx="209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e3f"/>
                </a:solidFill>
                <a:latin typeface="Georgia"/>
              </a:rPr>
              <a:t>find more comics @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"/>
          <p:cNvSpPr/>
          <p:nvPr/>
        </p:nvSpPr>
        <p:spPr>
          <a:xfrm>
            <a:off x="3017160" y="4129200"/>
            <a:ext cx="302760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6600"/>
                </a:solidFill>
                <a:uFillTx/>
                <a:latin typeface="Georgia"/>
                <a:hlinkClick r:id="rId2"/>
              </a:rPr>
              <a:t>theoatmeal.com/c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6"/>
          <p:cNvSpPr/>
          <p:nvPr/>
        </p:nvSpPr>
        <p:spPr>
          <a:xfrm>
            <a:off x="2429640" y="2905200"/>
            <a:ext cx="5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hlinkClick r:id="rId3"/>
              </a:rPr>
              <a:t>red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"/>
          <p:cNvSpPr/>
          <p:nvPr/>
        </p:nvSpPr>
        <p:spPr>
          <a:xfrm>
            <a:off x="3272400" y="290520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hlinkClick r:id="rId4"/>
              </a:rPr>
              <a:t>Stum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8"/>
          <p:cNvSpPr/>
          <p:nvPr/>
        </p:nvSpPr>
        <p:spPr>
          <a:xfrm>
            <a:off x="4213800" y="2897280"/>
            <a:ext cx="7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hlinkClick r:id="rId5"/>
              </a:rPr>
              <a:t>Faceb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5183640" y="288432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6600"/>
                </a:solidFill>
                <a:uFillTx/>
                <a:latin typeface="Calibri"/>
                <a:hlinkClick r:id="rId6"/>
              </a:rPr>
              <a:t>Twit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0"/>
          <p:cNvSpPr/>
          <p:nvPr/>
        </p:nvSpPr>
        <p:spPr>
          <a:xfrm>
            <a:off x="6024240" y="29034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hlinkClick r:id="rId7"/>
              </a:rPr>
              <a:t>My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108D-1679-4F0F-9D8F-40D71AE9E7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2119320" y="1152360"/>
            <a:ext cx="490536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2" descr=""/>
          <p:cNvPicPr/>
          <p:nvPr/>
        </p:nvPicPr>
        <p:blipFill>
          <a:blip r:embed="rId1"/>
          <a:srcRect l="0" t="0" r="0" b="4741"/>
          <a:stretch/>
        </p:blipFill>
        <p:spPr>
          <a:xfrm>
            <a:off x="1967040" y="1257480"/>
            <a:ext cx="520992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828800" y="1081080"/>
            <a:ext cx="5486400" cy="39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rcRect l="4259" t="0" r="0" b="0"/>
          <a:stretch/>
        </p:blipFill>
        <p:spPr>
          <a:xfrm>
            <a:off x="1789200" y="1077840"/>
            <a:ext cx="548640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1785960" y="1143000"/>
            <a:ext cx="557208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5960" y="1076400"/>
            <a:ext cx="557208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rcRect l="0" t="4936" r="0" b="0"/>
          <a:stretch/>
        </p:blipFill>
        <p:spPr>
          <a:xfrm>
            <a:off x="2008080" y="1143000"/>
            <a:ext cx="5129280" cy="4051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505320" y="380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6600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rcRect l="0" t="3593" r="0" b="0"/>
          <a:stretch/>
        </p:blipFill>
        <p:spPr>
          <a:xfrm>
            <a:off x="1447920" y="1066680"/>
            <a:ext cx="61657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6T22:04:4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40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93A4EAA9143924D9E7AE997567DACBC</vt:lpwstr>
  </property>
  <property fmtid="{D5CDD505-2E9C-101B-9397-08002B2CF9AE}" pid="3" name="KSOProductBuildVer">
    <vt:lpwstr>2052-9.1.0.5132</vt:lpwstr>
  </property>
</Properties>
</file>