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8F1-A684-42BA-826C-CDF3A59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E6B-7315-4E22-823D-B5AD2FA0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B85-3767-4C96-A4D4-77F5AF48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34E-E530-49E1-B290-0CDD0689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495-3650-4B36-A414-0AADB2F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7BE-1582-425F-B105-A60B580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D1E-60FA-4EC3-B482-8BBFB36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9CC-EBC5-432E-B97C-DC3610C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FDF-0BAF-4F82-8065-9A14C97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5E7-AA7D-431A-B9E2-8AC7ECA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AE0-1315-481F-93FD-8A7957A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63E-ACF8-4D3B-8226-E36E6BE3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0F5-64FC-4499-96C1-AFE2A2B72A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BD76-E787-45A1-BF54-778355F914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1200" y="4955760"/>
            <a:ext cx="82472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" y="5719680"/>
            <a:ext cx="82472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517760" y="4076640"/>
            <a:ext cx="763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040" y="44989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可爱魔法小公主生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15966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8920" y="2187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8920" y="2817720"/>
            <a:ext cx="40402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36800" y="2187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36800" y="2817720"/>
            <a:ext cx="40417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87680" y="2053800"/>
            <a:ext cx="5649840" cy="41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a0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DB9-C063-4BB2-937E-3D40EA9F6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15966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2187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8920" y="2817720"/>
            <a:ext cx="40402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36800" y="2187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a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36800" y="2817720"/>
            <a:ext cx="404172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c0a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a0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7:44Z</dcterms:modified>
  <cp:revision>5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