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VIVE.wav" ContentType="audio/x-wav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9D1A-DF51-4584-99C9-8273E8113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2667-1344-4FD2-BAD5-FEC954C3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77B0-5BD8-4A3C-8A50-F7CF29190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BF24-7929-4E95-9D84-1980C7ECC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799F-B78C-4C2B-BDF0-CBB31E3D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8BF5-F1B7-4767-97EF-B68DD624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31FF-66C8-4332-9520-4AC97674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8549-A9AA-4B31-8774-7A32700D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A3DD-78AE-4343-A0A1-FF73AA40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2064-29F2-4ACE-9025-4165FFC0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1685-DC16-43D9-808A-FE83A655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9CF7-C9CF-48D5-A721-CFB7FFB6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8C11-2559-4CC2-82A3-6AEAE2EF3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VIVE.wav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可爱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熊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卡通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2" name="VIV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124000" y="333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fr-FR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fr-FR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fr-FR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fr-FR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fr-FR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fr-FR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fr-FR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435B-F354-475C-A49E-873F14AE36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47640" y="639720"/>
            <a:ext cx="5828040" cy="45068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lfredo's Dance"/>
              <a:ea typeface="宋体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83680" cy="6942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468000" cy="7029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7T16:47:17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7:42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