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F0C-F8F6-475B-BBC5-9D723D9E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0040" y="40089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86A-7C05-4727-8894-44120A8A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0552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1C1-D639-4C15-9610-26D5295E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152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300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004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05152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0300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FD1-5182-467B-8179-7FC0F18F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EC2-47A0-4840-8448-DE65E2FE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00040" y="38095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5BE8-BADE-44E6-B6AF-DF050A2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061-66DF-4529-9326-412361BC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852-7393-4154-8D1C-830A12D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742-80F4-4789-A7B3-E7683A2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238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4CD-F3A5-41D8-A37D-7DC3010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466-171D-4C89-B522-3993B4C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0040" y="38095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806-B6FB-461A-8188-F5C3B17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552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472-A239-4148-A97C-8685698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7257-8454-4D61-BD42-CFF00FF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0040" y="40089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00DF-7965-4FF5-ADC8-2E4186C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0552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7C4-2A20-478B-ABD7-F65E9B9F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152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3000" y="380952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0004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05152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903000" y="4008960"/>
            <a:ext cx="1762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7D3-A339-42D2-8707-18F195B9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1AF-35E9-47EA-A803-F804A84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261-B922-41BB-BC5A-CC6AA8C5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A4F-7F61-4195-9925-64851644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238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267-6592-42CD-8D5A-B157D517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B11-C321-4202-9D40-F4A7FAED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05520" y="400896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A33-FDBE-4DA0-AA96-90AAD75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004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05520" y="3809520"/>
            <a:ext cx="267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0040" y="4008960"/>
            <a:ext cx="5475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488-2F23-4E42-9A19-BE1327B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4e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8B40-5060-4425-B55B-A2C728AC5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69bff9"/>
              </a:gs>
              <a:gs pos="100000">
                <a:srgbClr val="76b749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50000">
                <a:srgbClr val="d4e8c7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41920" y="3249720"/>
            <a:ext cx="3502080" cy="3608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0"/>
            <a:ext cx="4191120" cy="1789200"/>
          </a:xfrm>
          <a:prstGeom prst="rect">
            <a:avLst/>
          </a:prstGeom>
          <a:gradFill rotWithShape="0">
            <a:gsLst>
              <a:gs pos="0">
                <a:srgbClr val="69bff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D61-67D7-4C4D-9FED-0F61F1E4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2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72388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看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幻灯片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00040" y="3809520"/>
            <a:ext cx="5475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251" name="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f4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17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6b74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b74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f6227"/>
                </a:gs>
                <a:gs pos="50000">
                  <a:srgbClr val="76b749"/>
                </a:gs>
                <a:gs pos="100000">
                  <a:srgbClr val="3f622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6b749">
                    <a:alpha val="0"/>
                  </a:srgbClr>
                </a:gs>
                <a:gs pos="100000">
                  <a:srgbClr val="4a73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264" name="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f4ee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236a"/>
                </a:gs>
                <a:gs pos="100000">
                  <a:srgbClr val="6f4ee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b2a7b"/>
                </a:gs>
                <a:gs pos="50000">
                  <a:srgbClr val="6f4ee6"/>
                </a:gs>
                <a:gs pos="100000">
                  <a:srgbClr val="3b2a7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ee6">
                    <a:alpha val="0"/>
                  </a:srgbClr>
                </a:gs>
                <a:gs pos="100000">
                  <a:srgbClr val="463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279" name="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291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6b749"/>
                </a:gs>
                <a:gs pos="100000">
                  <a:srgbClr val="d17fb6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476520" y="3828960"/>
              <a:ext cx="1704600" cy="2028960"/>
              <a:chOff x="3476520" y="3828960"/>
              <a:chExt cx="1704600" cy="2028960"/>
            </a:xfrm>
          </p:grpSpPr>
          <p:sp>
            <p:nvSpPr>
              <p:cNvPr id="294" name=""/>
              <p:cNvSpPr/>
              <p:nvPr/>
            </p:nvSpPr>
            <p:spPr>
              <a:xfrm rot="20876400">
                <a:off x="3544560" y="504828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76520" y="382896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96680" y="383832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14320" y="385452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06480" y="389880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93760" y="44560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25400" y="3448080"/>
              <a:ext cx="1370880" cy="1718640"/>
              <a:chOff x="1625400" y="3448080"/>
              <a:chExt cx="1370880" cy="1718640"/>
            </a:xfrm>
          </p:grpSpPr>
          <p:sp>
            <p:nvSpPr>
              <p:cNvPr id="301" name=""/>
              <p:cNvSpPr/>
              <p:nvPr/>
            </p:nvSpPr>
            <p:spPr>
              <a:xfrm rot="20826600">
                <a:off x="1701360" y="443844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1625400" y="3448080"/>
                <a:ext cx="1370880" cy="1441080"/>
                <a:chOff x="1625400" y="3448080"/>
                <a:chExt cx="1370880" cy="1441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625400" y="344808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43400" y="345636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56360" y="34696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728000" y="350640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905840" y="39542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1523880" y="2076480"/>
              <a:ext cx="1099440" cy="1139760"/>
              <a:chOff x="1523880" y="2076480"/>
              <a:chExt cx="1099440" cy="1139760"/>
            </a:xfrm>
          </p:grpSpPr>
          <p:sp>
            <p:nvSpPr>
              <p:cNvPr id="309" name=""/>
              <p:cNvSpPr/>
              <p:nvPr/>
            </p:nvSpPr>
            <p:spPr>
              <a:xfrm>
                <a:off x="1523880" y="26830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99840" y="20764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12440" y="20811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23600" y="20923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77600" y="21178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96760" y="24256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90720" y="1619280"/>
              <a:ext cx="803880" cy="762120"/>
              <a:chOff x="2790720" y="1619280"/>
              <a:chExt cx="803880" cy="762120"/>
            </a:xfrm>
          </p:grpSpPr>
          <p:sp>
            <p:nvSpPr>
              <p:cNvPr id="316" name=""/>
              <p:cNvSpPr/>
              <p:nvPr/>
            </p:nvSpPr>
            <p:spPr>
              <a:xfrm>
                <a:off x="2790720" y="2152800"/>
                <a:ext cx="68508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2760" y="1619280"/>
                <a:ext cx="68184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22120" y="1622520"/>
                <a:ext cx="66456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28600" y="1628640"/>
                <a:ext cx="63252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64960" y="1647720"/>
                <a:ext cx="56304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82600" y="18432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4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dffb"/>
                </a:gs>
                <a:gs pos="100000">
                  <a:srgbClr val="69bf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9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56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61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69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74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82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395" name="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396720" y="2063880"/>
              <a:ext cx="2183040" cy="3600720"/>
              <a:chOff x="396720" y="2063880"/>
              <a:chExt cx="2183040" cy="36007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873720" y="2982960"/>
                <a:ext cx="1706040" cy="2681640"/>
                <a:chOff x="873720" y="2982960"/>
                <a:chExt cx="1706040" cy="26816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73720" y="3161880"/>
                  <a:ext cx="1578600" cy="2502720"/>
                  <a:chOff x="873720" y="3161880"/>
                  <a:chExt cx="1578600" cy="25027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3876600">
                    <a:off x="41004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3876600">
                    <a:off x="191592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368360" y="2982960"/>
                  <a:ext cx="1211400" cy="1920240"/>
                  <a:chOff x="1368360" y="2982960"/>
                  <a:chExt cx="1211400" cy="19202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V="1" rot="3876600">
                    <a:off x="101268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3876600">
                    <a:off x="215064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396720" y="2063880"/>
                <a:ext cx="1441800" cy="1440720"/>
                <a:chOff x="396720" y="2063880"/>
                <a:chExt cx="1441800" cy="14407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212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9212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5404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571320" y="2238480"/>
                  <a:ext cx="1092240" cy="1092960"/>
                  <a:chOff x="571320" y="2238480"/>
                  <a:chExt cx="1092240" cy="10929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57132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8536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9652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5592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89784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4018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379600" y="2063880"/>
              <a:ext cx="2183040" cy="3600720"/>
              <a:chOff x="2379600" y="2063880"/>
              <a:chExt cx="2183040" cy="360072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856600" y="2982960"/>
                <a:ext cx="1706040" cy="2681640"/>
                <a:chOff x="2856600" y="2982960"/>
                <a:chExt cx="1706040" cy="26816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856600" y="3161880"/>
                  <a:ext cx="1578600" cy="2502720"/>
                  <a:chOff x="2856600" y="3161880"/>
                  <a:chExt cx="1578600" cy="2502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239292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389880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51240" y="2982960"/>
                  <a:ext cx="1211400" cy="1920240"/>
                  <a:chOff x="3351240" y="2982960"/>
                  <a:chExt cx="1211400" cy="192024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299556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413352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379600" y="2063880"/>
                <a:ext cx="1441800" cy="1440720"/>
                <a:chOff x="2379600" y="2063880"/>
                <a:chExt cx="1441800" cy="14407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47500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47500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3692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554200" y="2238480"/>
                  <a:ext cx="1092240" cy="1092960"/>
                  <a:chOff x="2554200" y="2238480"/>
                  <a:chExt cx="1092240" cy="10929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55420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56824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57940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63880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7496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782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427640" y="2063880"/>
              <a:ext cx="2182680" cy="3600720"/>
              <a:chOff x="4427640" y="2063880"/>
              <a:chExt cx="2182680" cy="36007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904280" y="2982960"/>
                <a:ext cx="1706040" cy="2681640"/>
                <a:chOff x="4904280" y="2982960"/>
                <a:chExt cx="1706040" cy="268164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904280" y="3161880"/>
                  <a:ext cx="1578600" cy="2502720"/>
                  <a:chOff x="4904280" y="3161880"/>
                  <a:chExt cx="1578600" cy="25027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444060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594648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398920" y="2982960"/>
                  <a:ext cx="1211400" cy="1920240"/>
                  <a:chOff x="5398920" y="2982960"/>
                  <a:chExt cx="1211400" cy="19202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504324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618120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427640" y="2063880"/>
                <a:ext cx="1441440" cy="1440720"/>
                <a:chOff x="4427640" y="2063880"/>
                <a:chExt cx="1441440" cy="1440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23040" y="21574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523040" y="21607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584960" y="22212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602240" y="2238480"/>
                  <a:ext cx="1091880" cy="1092960"/>
                  <a:chOff x="4602240" y="2238480"/>
                  <a:chExt cx="1091880" cy="10929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602240" y="22384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616280" y="22446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627440" y="22550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686840" y="22827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93200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4356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442200" y="1905120"/>
              <a:ext cx="2399760" cy="3832560"/>
              <a:chOff x="6442200" y="1905120"/>
              <a:chExt cx="2399760" cy="38325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7136280" y="3056040"/>
                <a:ext cx="1705680" cy="2681640"/>
                <a:chOff x="7136280" y="3056040"/>
                <a:chExt cx="1705680" cy="268164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7136280" y="3234960"/>
                  <a:ext cx="1578600" cy="2502720"/>
                  <a:chOff x="7136280" y="3234960"/>
                  <a:chExt cx="1578600" cy="25027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6672600" y="42069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8178480" y="51757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630560" y="3056040"/>
                  <a:ext cx="1211400" cy="1920240"/>
                  <a:chOff x="7630560" y="3056040"/>
                  <a:chExt cx="1211400" cy="19202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7274880" y="38019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8412840" y="45536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58120" y="20178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59560" y="20210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32640" y="20941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653160" y="2114640"/>
                <a:ext cx="1312920" cy="1310400"/>
                <a:chOff x="6653160" y="2114640"/>
                <a:chExt cx="1312920" cy="13104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53160" y="21146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69720" y="21218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683400" y="21344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54680" y="21679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7147080" y="4168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649640" y="3876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0" idx="3"/>
              <a:endCxn id="481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82" idx="3"/>
              <a:endCxn id="483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05872"/>
              </a:gs>
              <a:gs pos="100000">
                <a:srgbClr val="69bff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236a"/>
              </a:gs>
              <a:gs pos="100000">
                <a:srgbClr val="6f4ee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236a"/>
              </a:gs>
              <a:gs pos="100000">
                <a:srgbClr val="6f4ee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5872"/>
              </a:gs>
              <a:gs pos="100000">
                <a:srgbClr val="69bff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0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f4ee6"/>
                </a:gs>
                <a:gs pos="100000">
                  <a:srgbClr val="3323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bff9"/>
                </a:gs>
                <a:gs pos="100000">
                  <a:srgbClr val="3058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6f4ee6"/>
                </a:gs>
                <a:gs pos="100000">
                  <a:srgbClr val="3323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14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69bff9"/>
                </a:gs>
                <a:gs pos="100000">
                  <a:srgbClr val="3058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11280" y="1477800"/>
          <a:ext cx="7691400" cy="3654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9bff9"/>
                        </a:gs>
                        <a:gs pos="100000">
                          <a:srgbClr val="b1dd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29560" y="925200"/>
            <a:ext cx="7431480" cy="4917960"/>
            <a:chOff x="529560" y="925200"/>
            <a:chExt cx="7431480" cy="4917960"/>
          </a:xfrm>
        </p:grpSpPr>
        <p:sp>
          <p:nvSpPr>
            <p:cNvPr id="532" name=""/>
            <p:cNvSpPr/>
            <p:nvPr/>
          </p:nvSpPr>
          <p:spPr>
            <a:xfrm>
              <a:off x="2187720" y="4178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1461960" y="206496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517400" y="1903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382760" y="192132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34960" y="188856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38200" y="19022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440000" y="190080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423800" y="1907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4506840" y="322416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4400280" y="297144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529560" y="1222560"/>
              <a:ext cx="6918480" cy="4356720"/>
              <a:chOff x="529560" y="1222560"/>
              <a:chExt cx="6918480" cy="4356720"/>
            </a:xfrm>
          </p:grpSpPr>
          <p:sp>
            <p:nvSpPr>
              <p:cNvPr id="543" name=""/>
              <p:cNvSpPr/>
              <p:nvPr/>
            </p:nvSpPr>
            <p:spPr>
              <a:xfrm rot="20712600">
                <a:off x="782280" y="199404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712600">
                <a:off x="4186080" y="319212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712600">
                <a:off x="5562000" y="336024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1003680" y="925200"/>
              <a:ext cx="6957360" cy="4863240"/>
              <a:chOff x="1003680" y="925200"/>
              <a:chExt cx="6957360" cy="4863240"/>
            </a:xfrm>
          </p:grpSpPr>
          <p:sp>
            <p:nvSpPr>
              <p:cNvPr id="547" name=""/>
              <p:cNvSpPr/>
              <p:nvPr/>
            </p:nvSpPr>
            <p:spPr>
              <a:xfrm rot="20601600">
                <a:off x="6073560" y="326340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539200">
                <a:off x="1323720" y="181116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601600">
                <a:off x="4757760" y="309348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20601600">
              <a:off x="2979720" y="2617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3056040" y="285228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6080" y="2438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15880" y="1981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87080" y="27432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8480" y="4038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0960" y="4267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92400" y="34290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60" name="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7f32"/>
                </a:gs>
                <a:gs pos="50000">
                  <a:srgbClr val="76b749"/>
                </a:gs>
                <a:gs pos="100000">
                  <a:srgbClr val="527f3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bff9"/>
                    </a:gs>
                    <a:gs pos="100000">
                      <a:srgbClr val="4278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bf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1c2c1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b7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sp>
            <p:nvSpPr>
              <p:cNvPr id="574" name=""/>
              <p:cNvSpPr/>
              <p:nvPr/>
            </p:nvSpPr>
            <p:spPr>
              <a:xfrm>
                <a:off x="2819520" y="408276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a40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93760" y="41079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17f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4ee6"/>
                    </a:gs>
                    <a:gs pos="100000">
                      <a:srgbClr val="3827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f4e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7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8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bff9"/>
                  </a:gs>
                  <a:gs pos="100000">
                    <a:srgbClr val="305872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012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f4ee6"/>
                  </a:gs>
                  <a:gs pos="100000">
                    <a:srgbClr val="3323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012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3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14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bff9"/>
                  </a:gs>
                  <a:gs pos="100000">
                    <a:srgbClr val="305872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7012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f4ee6"/>
                  </a:gs>
                  <a:gs pos="100000">
                    <a:srgbClr val="3323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012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78E-7BAE-4761-A7CC-092CF4F2E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352680" y="22096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4ee6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4ee6"/>
                  </a:gs>
                </a:gsLst>
                <a:lin ang="5400000"/>
              </a:gradFill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4e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9bff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9bff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9bff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9bff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410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1371600"/>
            <a:ext cx="6705720" cy="4390920"/>
            <a:chOff x="1143000" y="1371600"/>
            <a:chExt cx="6705720" cy="4390920"/>
          </a:xfrm>
        </p:grpSpPr>
        <p:grpSp>
          <p:nvGrpSpPr>
            <p:cNvPr id="133" name=""/>
            <p:cNvGrpSpPr/>
            <p:nvPr/>
          </p:nvGrpSpPr>
          <p:grpSpPr>
            <a:xfrm>
              <a:off x="5562720" y="3095640"/>
              <a:ext cx="2286000" cy="2666880"/>
              <a:chOff x="5562720" y="3095640"/>
              <a:chExt cx="2286000" cy="2666880"/>
            </a:xfrm>
          </p:grpSpPr>
          <p:sp>
            <p:nvSpPr>
              <p:cNvPr id="134" name=""/>
              <p:cNvSpPr/>
              <p:nvPr/>
            </p:nvSpPr>
            <p:spPr>
              <a:xfrm>
                <a:off x="5562720" y="3095640"/>
                <a:ext cx="2286000" cy="2666880"/>
              </a:xfrm>
              <a:custGeom>
                <a:avLst/>
                <a:gdLst>
                  <a:gd name="textAreaLeft" fmla="*/ 111600 w 2286000"/>
                  <a:gd name="textAreaRight" fmla="*/ 2174400 w 2286000"/>
                  <a:gd name="textAreaTop" fmla="*/ 111600 h 2666880"/>
                  <a:gd name="textAreaBottom" fmla="*/ 2555280 h 2666880"/>
                </a:gdLst>
                <a:ahLst/>
                <a:rect l="textAreaLeft" t="textAreaTop" r="textAreaRight" b="textAreaBottom"/>
                <a:pathLst>
                  <a:path w="21600" h="25198">
                    <a:moveTo>
                      <a:pt x="3600" y="0"/>
                    </a:moveTo>
                    <a:arcTo wR="3600" hR="3600" stAng="16200000" swAng="-5400000"/>
                    <a:lnTo>
                      <a:pt x="0" y="21598"/>
                    </a:lnTo>
                    <a:arcTo wR="3600" hR="3600" stAng="10800000" swAng="-5400000"/>
                    <a:lnTo>
                      <a:pt x="18000" y="251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5000" y="3290760"/>
                <a:ext cx="2057400" cy="167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uild Desig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one of aligned company with Microsoft Ltd, and we develop and provide the design templates for Office 97, 2000, and X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143000" y="3095640"/>
              <a:ext cx="2286000" cy="2666880"/>
              <a:chOff x="1143000" y="3095640"/>
              <a:chExt cx="2286000" cy="2666880"/>
            </a:xfrm>
          </p:grpSpPr>
          <p:sp>
            <p:nvSpPr>
              <p:cNvPr id="137" name=""/>
              <p:cNvSpPr/>
              <p:nvPr/>
            </p:nvSpPr>
            <p:spPr>
              <a:xfrm>
                <a:off x="1143000" y="3095640"/>
                <a:ext cx="2286000" cy="2666880"/>
              </a:xfrm>
              <a:custGeom>
                <a:avLst/>
                <a:gdLst>
                  <a:gd name="textAreaLeft" fmla="*/ 111600 w 2286000"/>
                  <a:gd name="textAreaRight" fmla="*/ 2174400 w 2286000"/>
                  <a:gd name="textAreaTop" fmla="*/ 111600 h 2666880"/>
                  <a:gd name="textAreaBottom" fmla="*/ 2555280 h 2666880"/>
                </a:gdLst>
                <a:ahLst/>
                <a:rect l="textAreaLeft" t="textAreaTop" r="textAreaRight" b="textAreaBottom"/>
                <a:pathLst>
                  <a:path w="21600" h="25198">
                    <a:moveTo>
                      <a:pt x="3600" y="0"/>
                    </a:moveTo>
                    <a:arcTo wR="3600" hR="3600" stAng="16200000" swAng="-5400000"/>
                    <a:lnTo>
                      <a:pt x="0" y="21598"/>
                    </a:lnTo>
                    <a:arcTo wR="3600" hR="3600" stAng="10800000" swAng="-5400000"/>
                    <a:lnTo>
                      <a:pt x="18000" y="251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38400" y="3295800"/>
                <a:ext cx="2038320" cy="12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222720" y="299880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ee9fc"/>
                </a:gs>
                <a:gs pos="100000">
                  <a:srgbClr val="69bf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74400" y="299880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c6f6"/>
                </a:gs>
                <a:gs pos="100000">
                  <a:srgbClr val="6f4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048120" y="1371600"/>
                <a:ext cx="2998440" cy="1601280"/>
                <a:chOff x="3048120" y="1371600"/>
                <a:chExt cx="2998440" cy="1601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3048120" y="1514520"/>
                  <a:ext cx="2998440" cy="1458360"/>
                  <a:chOff x="3048120" y="1514520"/>
                  <a:chExt cx="2998440" cy="14583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3080880" y="1560960"/>
                    <a:ext cx="2965680" cy="1411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53d58"/>
                      </a:gs>
                      <a:gs pos="100000">
                        <a:srgbClr val="d17fb6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048120" y="1514520"/>
                    <a:ext cx="2966040" cy="1411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b749"/>
                      </a:gs>
                      <a:gs pos="100000">
                        <a:srgbClr val="c1dead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3189240" y="1371600"/>
                  <a:ext cx="2684520" cy="13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4ee6"/>
                    </a:gs>
                    <a:gs pos="100000">
                      <a:srgbClr val="33236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224160" y="1379520"/>
                  <a:ext cx="261972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0f5"/>
                    </a:gs>
                    <a:gs pos="100000">
                      <a:srgbClr val="6f4ee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51160" y="1392120"/>
                  <a:ext cx="2492640" cy="122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4ee6">
                        <a:alpha val="48235"/>
                      </a:srgbClr>
                    </a:gs>
                    <a:gs pos="100000">
                      <a:srgbClr val="573db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82920" y="1419120"/>
                  <a:ext cx="2194200" cy="9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4ee6">
                        <a:alpha val="38039"/>
                      </a:srgbClr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3882960" y="15717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6840" y="1098720"/>
            <a:ext cx="7750080" cy="5225400"/>
            <a:chOff x="456840" y="1098720"/>
            <a:chExt cx="7750080" cy="5225400"/>
          </a:xfrm>
        </p:grpSpPr>
        <p:sp>
          <p:nvSpPr>
            <p:cNvPr id="153" name=""/>
            <p:cNvSpPr/>
            <p:nvPr/>
          </p:nvSpPr>
          <p:spPr>
            <a:xfrm rot="20241600">
              <a:off x="1077840" y="23094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1f1f1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14475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72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971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f4ee6"/>
                </a:gs>
                <a:gs pos="100000">
                  <a:srgbClr val="22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000" y="46688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69bff9"/>
                </a:gs>
                <a:gs pos="100000">
                  <a:srgbClr val="254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2880" y="40384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16761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283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6680" y="342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39640" y="190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1480" y="218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81560" y="4495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0600" y="5119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4336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73200" y="173484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456840" y="17344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534600" y="1295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1371600"/>
            <a:ext cx="7010280" cy="4343400"/>
            <a:chOff x="990720" y="1371600"/>
            <a:chExt cx="7010280" cy="4343400"/>
          </a:xfrm>
        </p:grpSpPr>
        <p:sp>
          <p:nvSpPr>
            <p:cNvPr id="170" name=""/>
            <p:cNvSpPr/>
            <p:nvPr/>
          </p:nvSpPr>
          <p:spPr>
            <a:xfrm>
              <a:off x="3657600" y="38098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57600" y="32767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27432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9040" y="2973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9040" y="3506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9040" y="4040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1800" y="25146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7040" y="22096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22096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9640" y="25146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840" y="137160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03a53"/>
                </a:gs>
                <a:gs pos="50000">
                  <a:srgbClr val="d17fb6"/>
                </a:gs>
                <a:gs pos="100000">
                  <a:srgbClr val="603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4480" y="213372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4920" y="160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1800" y="51055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4920" y="5338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02160" y="44956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190" name=""/>
            <p:cNvGrpSpPr/>
            <p:nvPr/>
          </p:nvGrpSpPr>
          <p:grpSpPr>
            <a:xfrm>
              <a:off x="2895480" y="1752480"/>
              <a:ext cx="3196800" cy="2890800"/>
              <a:chOff x="2895480" y="1752480"/>
              <a:chExt cx="3196800" cy="2890800"/>
            </a:xfrm>
          </p:grpSpPr>
          <p:sp>
            <p:nvSpPr>
              <p:cNvPr id="191" name=""/>
              <p:cNvSpPr/>
              <p:nvPr/>
            </p:nvSpPr>
            <p:spPr>
              <a:xfrm flipH="1" rot="16200000">
                <a:off x="2813400" y="286596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0800000">
                <a:off x="4250520" y="43164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22360" y="175248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68880" y="189684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d17f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04462"/>
                  </a:gs>
                  <a:gs pos="50000">
                    <a:srgbClr val="d17fb6"/>
                  </a:gs>
                  <a:gs pos="100000">
                    <a:srgbClr val="7044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21"/>
                </a:gs>
                <a:gs pos="50000">
                  <a:srgbClr val="76b749"/>
                </a:gs>
                <a:gs pos="100000">
                  <a:srgbClr val="3654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21"/>
                </a:gs>
                <a:gs pos="50000">
                  <a:srgbClr val="76b749"/>
                </a:gs>
                <a:gs pos="100000">
                  <a:srgbClr val="3654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21"/>
                </a:gs>
                <a:gs pos="50000">
                  <a:srgbClr val="76b749"/>
                </a:gs>
                <a:gs pos="100000">
                  <a:srgbClr val="3654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236a"/>
                </a:gs>
                <a:gs pos="50000">
                  <a:srgbClr val="6f4ee6"/>
                </a:gs>
                <a:gs pos="100000">
                  <a:srgbClr val="3323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7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c1c1c1"/>
              </a:gs>
              <a:gs pos="100000">
                <a:srgbClr val="969696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f4ee6"/>
              </a:gs>
              <a:gs pos="100000">
                <a:srgbClr val="33236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bff9"/>
              </a:gs>
              <a:gs pos="100000">
                <a:srgbClr val="30587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38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