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67A0-4F5E-414D-8F93-6D1EDF046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E98F-0C18-4CD3-A70E-83EDA48F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F247-F0FE-4B2F-BF38-EDB71CB38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90B4-7B7C-4CC4-BE8F-81FE72D94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9903-7439-4B43-AABC-3FB01C86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BF6C-30E3-4E79-91B3-F9B42705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A85C-BE79-43C5-A1B2-82908309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ACD5-B235-4FEB-9597-8936B7CF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73BD-BD26-4E76-9AE0-CBB04E8F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4125-CC57-46E7-98E5-B7A3179B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FE4E-F016-44AD-9028-A55526E2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36F4-26C9-4242-A548-CA707FB3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D23C-3AFD-4B68-82BA-5210C0EE84A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1A66-0AD4-4C25-A634-23F8D807F65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260360" y="4869000"/>
            <a:ext cx="65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汉仪方叠体简"/>
                <a:ea typeface="汉仪方叠体简"/>
              </a:rPr>
              <a:t>快乐万圣节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1"/>
          <p:cNvSpPr/>
          <p:nvPr/>
        </p:nvSpPr>
        <p:spPr>
          <a:xfrm>
            <a:off x="250920" y="638172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"/>
          <p:cNvSpPr/>
          <p:nvPr/>
        </p:nvSpPr>
        <p:spPr>
          <a:xfrm>
            <a:off x="642816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4D69-E7FA-49D6-A887-C8D654F85D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pc</dc:creator>
  <dc:description>www.eeppt.com;</dc:description>
  <cp:keywords>www.eeppt.com</cp:keywords>
  <dc:language>en-US</dc:language>
  <cp:lastModifiedBy>lenovo</cp:lastModifiedBy>
  <dcterms:modified xsi:type="dcterms:W3CDTF">2015-09-18T13:20:04Z</dcterms:modified>
  <cp:revision>7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