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097-2EB3-461F-9D1F-5DDECCF1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3BD-9854-4C11-B7DE-5FE081F9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603-DDC1-4813-AA25-56437593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DDD-B7E1-4775-A15B-9DDC6EFA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A8A3-7F03-46F9-AB76-9D3ADB31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313F-092E-4717-BE98-04D80A91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03D5-F72A-4BAC-8F47-EA6C2AFF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3373-BC78-4FD6-BB11-43CE93B1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9164-828C-4B2A-8A69-011B3122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E99D-3EDD-4471-8B15-25FB0B6C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9E14-CF9B-4476-8A59-B0DFE5C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DA4-E819-4F98-9B68-34D68E12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4C5E-8FE2-449E-9AB7-751ADFD1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0BFE-D4A3-4331-9F77-CAA26D1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8B77-FB15-412A-881F-F7275056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32CB-701E-4E29-8C41-8547BC9E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33BF-329E-4296-BCC8-83C77DE2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EDE-3328-47D1-95BA-8D204DBE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E6B-FE0F-45DA-A879-C3F13EF7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69C-45E2-4AC7-9DE1-2C1AD1F0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1F4-660A-4208-939B-F68935ED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0A0-10E0-4077-AC67-C7453A8B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3AD-6787-4D0E-8B69-9FAB8195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CC5-60F1-4F87-8339-8ACF6A18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1066-692B-4E51-9ACE-1E2BF94DD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43200" y="457200"/>
            <a:ext cx="5562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4E99-56BC-497B-8AD3-72D487E8C56F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0240" y="5335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乐阅读卡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57200" y="45720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1447920"/>
            <a:ext cx="83059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配色方案在【格式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幻灯片设计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配色方案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编辑配色方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添加修改在【视图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母版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幻灯片母版】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括标题和文本格式的设置在【视图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母版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幻灯片母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首页主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；副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页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；内页内容文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宋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1360" y="5335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80880"/>
            <a:ext cx="121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76E4-892E-4440-9B8D-FF340BAE13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00400" y="1599840"/>
            <a:ext cx="438624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438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9T09:55:1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08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