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1.gif" ContentType="image/gif"/>
  <Override PartName="/ppt/media/image14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F10-7417-4E4F-AF77-C84748A0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59D-5C6B-481F-873B-5B021C96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814-C0EB-4A45-854B-943D783D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3E4-01A6-4BC5-90FA-6334A5A6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E4C-77A2-4C19-B37A-9B888BA8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B84-BD2F-46A8-BEAB-B9B9A6C9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67C-BA95-4E78-8F31-ADBB799E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E5EA-E4D2-43BB-9822-B9D87322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91A-1949-4B93-B21D-4CB3FDEE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E79-471B-4C11-AA64-E394A022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BAFE-505D-4D5F-9549-3C3E2275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CC8-CE36-4ACE-BE5C-071A7BBC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9CEB-943B-44AF-B9A1-8B17416B57D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C284-EAFC-4FCD-A6C5-8610FFC852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gif"/><Relationship Id="rId13" Type="http://schemas.openxmlformats.org/officeDocument/2006/relationships/image" Target="../media/image12.png"/><Relationship Id="rId14" Type="http://schemas.openxmlformats.org/officeDocument/2006/relationships/image" Target="../media/image13.gif"/><Relationship Id="rId15" Type="http://schemas.openxmlformats.org/officeDocument/2006/relationships/image" Target="../media/image2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8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image" Target="../media/image17.png"/><Relationship Id="rId35" Type="http://schemas.openxmlformats.org/officeDocument/2006/relationships/image" Target="../media/image17.png"/><Relationship Id="rId36" Type="http://schemas.openxmlformats.org/officeDocument/2006/relationships/image" Target="../media/image19.png"/><Relationship Id="rId37" Type="http://schemas.openxmlformats.org/officeDocument/2006/relationships/image" Target="../media/image20.png"/><Relationship Id="rId38" Type="http://schemas.openxmlformats.org/officeDocument/2006/relationships/image" Target="../media/image17.png"/><Relationship Id="rId39" Type="http://schemas.openxmlformats.org/officeDocument/2006/relationships/image" Target="../media/image17.png"/><Relationship Id="rId40" Type="http://schemas.openxmlformats.org/officeDocument/2006/relationships/image" Target="../media/image17.png"/><Relationship Id="rId41" Type="http://schemas.openxmlformats.org/officeDocument/2006/relationships/image" Target="../media/image20.png"/><Relationship Id="rId42" Type="http://schemas.openxmlformats.org/officeDocument/2006/relationships/image" Target="../media/image21.png"/><Relationship Id="rId43" Type="http://schemas.openxmlformats.org/officeDocument/2006/relationships/image" Target="../media/image22.png"/><Relationship Id="rId44" Type="http://schemas.openxmlformats.org/officeDocument/2006/relationships/image" Target="../media/image23.png"/><Relationship Id="rId45" Type="http://schemas.openxmlformats.org/officeDocument/2006/relationships/image" Target="../media/image24.png"/><Relationship Id="rId4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9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433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3792944_130159007399_2 拷贝.png"/>
          <p:cNvPicPr/>
          <p:nvPr/>
        </p:nvPicPr>
        <p:blipFill>
          <a:blip r:embed="rId2"/>
          <a:stretch/>
        </p:blipFill>
        <p:spPr>
          <a:xfrm>
            <a:off x="8164440" y="0"/>
            <a:ext cx="979560" cy="1000080"/>
          </a:xfrm>
          <a:prstGeom prst="rect">
            <a:avLst/>
          </a:prstGeom>
          <a:ln w="0">
            <a:noFill/>
          </a:ln>
        </p:spPr>
      </p:pic>
      <p:sp>
        <p:nvSpPr>
          <p:cNvPr id="43" name="矩形 6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红色背景大图 点击还原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2" descr="Nipic_5211513_20110903135511024346 拷贝.png"/>
          <p:cNvPicPr/>
          <p:nvPr/>
        </p:nvPicPr>
        <p:blipFill>
          <a:blip r:embed="rId4">
            <a:lum bright="10000"/>
          </a:blip>
          <a:stretch/>
        </p:blipFill>
        <p:spPr>
          <a:xfrm rot="19473000">
            <a:off x="-4413240" y="-3558960"/>
            <a:ext cx="16002000" cy="98474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71" descr="6.png"/>
          <p:cNvPicPr/>
          <p:nvPr/>
        </p:nvPicPr>
        <p:blipFill>
          <a:blip r:embed="rId5"/>
          <a:stretch/>
        </p:blipFill>
        <p:spPr>
          <a:xfrm>
            <a:off x="0" y="407196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72" descr="5.png"/>
          <p:cNvPicPr/>
          <p:nvPr/>
        </p:nvPicPr>
        <p:blipFill>
          <a:blip r:embed="rId6"/>
          <a:stretch/>
        </p:blipFill>
        <p:spPr>
          <a:xfrm>
            <a:off x="1857240" y="4000680"/>
            <a:ext cx="585792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73" descr="1.png"/>
          <p:cNvPicPr/>
          <p:nvPr/>
        </p:nvPicPr>
        <p:blipFill>
          <a:blip r:embed="rId7"/>
          <a:stretch/>
        </p:blipFill>
        <p:spPr>
          <a:xfrm flipH="1">
            <a:off x="7929360" y="0"/>
            <a:ext cx="1214280" cy="42148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74" descr="1.png"/>
          <p:cNvPicPr/>
          <p:nvPr/>
        </p:nvPicPr>
        <p:blipFill>
          <a:blip r:embed="rId8"/>
          <a:stretch/>
        </p:blipFill>
        <p:spPr>
          <a:xfrm>
            <a:off x="0" y="0"/>
            <a:ext cx="1143000" cy="414324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2"/>
          <p:cNvGrpSpPr/>
          <p:nvPr/>
        </p:nvGrpSpPr>
        <p:grpSpPr>
          <a:xfrm>
            <a:off x="-360" y="3500280"/>
            <a:ext cx="3500640" cy="1643400"/>
            <a:chOff x="-360" y="3500280"/>
            <a:chExt cx="3500640" cy="1643400"/>
          </a:xfrm>
        </p:grpSpPr>
        <p:pic>
          <p:nvPicPr>
            <p:cNvPr id="51" name="图片 176" descr="4.png"/>
            <p:cNvPicPr/>
            <p:nvPr/>
          </p:nvPicPr>
          <p:blipFill>
            <a:blip r:embed="rId9"/>
            <a:stretch/>
          </p:blipFill>
          <p:spPr>
            <a:xfrm>
              <a:off x="0" y="3500280"/>
              <a:ext cx="3500280" cy="162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77" descr="2.png"/>
            <p:cNvPicPr/>
            <p:nvPr/>
          </p:nvPicPr>
          <p:blipFill>
            <a:blip r:embed="rId10"/>
            <a:stretch/>
          </p:blipFill>
          <p:spPr>
            <a:xfrm flipH="1">
              <a:off x="-360" y="3628800"/>
              <a:ext cx="1413720" cy="151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图片 178" descr="8.png"/>
          <p:cNvPicPr/>
          <p:nvPr/>
        </p:nvPicPr>
        <p:blipFill>
          <a:blip r:embed="rId11"/>
          <a:stretch/>
        </p:blipFill>
        <p:spPr>
          <a:xfrm>
            <a:off x="7358040" y="3571920"/>
            <a:ext cx="1857240" cy="1571760"/>
          </a:xfrm>
          <a:prstGeom prst="rect">
            <a:avLst/>
          </a:prstGeom>
          <a:ln w="0">
            <a:noFill/>
          </a:ln>
        </p:spPr>
      </p:pic>
      <p:grpSp>
        <p:nvGrpSpPr>
          <p:cNvPr id="54" name="组合 77"/>
          <p:cNvGrpSpPr/>
          <p:nvPr/>
        </p:nvGrpSpPr>
        <p:grpSpPr>
          <a:xfrm>
            <a:off x="7286760" y="-71280"/>
            <a:ext cx="2198520" cy="3470040"/>
            <a:chOff x="7286760" y="-71280"/>
            <a:chExt cx="2198520" cy="3470040"/>
          </a:xfrm>
        </p:grpSpPr>
        <p:pic>
          <p:nvPicPr>
            <p:cNvPr id="55" name="Picture 21" descr="吉星高高挂"/>
            <p:cNvPicPr/>
            <p:nvPr/>
          </p:nvPicPr>
          <p:blipFill>
            <a:blip r:embed="rId12"/>
            <a:stretch/>
          </p:blipFill>
          <p:spPr>
            <a:xfrm>
              <a:off x="7286760" y="-71280"/>
              <a:ext cx="2198520" cy="34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流程图: 决策 182"/>
            <p:cNvSpPr/>
            <p:nvPr/>
          </p:nvSpPr>
          <p:spPr>
            <a:xfrm>
              <a:off x="7683480" y="330120"/>
              <a:ext cx="1428840" cy="1166760"/>
            </a:xfrm>
            <a:prstGeom prst="flowChartDecision">
              <a:avLst/>
            </a:prstGeom>
            <a:solidFill>
              <a:srgbClr val="cc0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图片 183" descr="3792944_130159007399_2 拷贝.png"/>
            <p:cNvPicPr/>
            <p:nvPr/>
          </p:nvPicPr>
          <p:blipFill>
            <a:blip r:embed="rId13"/>
            <a:stretch/>
          </p:blipFill>
          <p:spPr>
            <a:xfrm>
              <a:off x="7977960" y="519840"/>
              <a:ext cx="85716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组合 75"/>
          <p:cNvGrpSpPr/>
          <p:nvPr/>
        </p:nvGrpSpPr>
        <p:grpSpPr>
          <a:xfrm>
            <a:off x="-357120" y="0"/>
            <a:ext cx="2235240" cy="3527280"/>
            <a:chOff x="-357120" y="0"/>
            <a:chExt cx="2235240" cy="3527280"/>
          </a:xfrm>
        </p:grpSpPr>
        <p:pic>
          <p:nvPicPr>
            <p:cNvPr id="59" name="Picture 22" descr="福禄岁岁增"/>
            <p:cNvPicPr/>
            <p:nvPr/>
          </p:nvPicPr>
          <p:blipFill>
            <a:blip r:embed="rId14"/>
            <a:stretch/>
          </p:blipFill>
          <p:spPr>
            <a:xfrm>
              <a:off x="-357120" y="0"/>
              <a:ext cx="223524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流程图: 决策 186"/>
            <p:cNvSpPr/>
            <p:nvPr/>
          </p:nvSpPr>
          <p:spPr>
            <a:xfrm>
              <a:off x="20520" y="438840"/>
              <a:ext cx="1500120" cy="1132560"/>
            </a:xfrm>
            <a:prstGeom prst="flowChartDecision">
              <a:avLst/>
            </a:prstGeom>
            <a:solidFill>
              <a:srgbClr val="cc0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187" descr="3792944_130159007399_2 拷贝.png"/>
            <p:cNvPicPr/>
            <p:nvPr/>
          </p:nvPicPr>
          <p:blipFill>
            <a:blip r:embed="rId15"/>
            <a:stretch/>
          </p:blipFill>
          <p:spPr>
            <a:xfrm>
              <a:off x="378000" y="611640"/>
              <a:ext cx="857160" cy="87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图片 202" descr="图片1 拷贝.png"/>
          <p:cNvPicPr/>
          <p:nvPr/>
        </p:nvPicPr>
        <p:blipFill>
          <a:blip r:embed="rId16"/>
          <a:stretch/>
        </p:blipFill>
        <p:spPr>
          <a:xfrm>
            <a:off x="3071880" y="1868400"/>
            <a:ext cx="3500280" cy="3275280"/>
          </a:xfrm>
          <a:prstGeom prst="rect">
            <a:avLst/>
          </a:prstGeom>
          <a:ln w="0">
            <a:noFill/>
          </a:ln>
        </p:spPr>
      </p:pic>
      <p:grpSp>
        <p:nvGrpSpPr>
          <p:cNvPr id="63" name="组合 14"/>
          <p:cNvGrpSpPr/>
          <p:nvPr/>
        </p:nvGrpSpPr>
        <p:grpSpPr>
          <a:xfrm>
            <a:off x="4985640" y="2621880"/>
            <a:ext cx="497520" cy="437760"/>
            <a:chOff x="4985640" y="2621880"/>
            <a:chExt cx="497520" cy="437760"/>
          </a:xfrm>
        </p:grpSpPr>
        <p:sp>
          <p:nvSpPr>
            <p:cNvPr id="64" name="任意多边形 204"/>
            <p:cNvSpPr/>
            <p:nvPr/>
          </p:nvSpPr>
          <p:spPr>
            <a:xfrm rot="21414000">
              <a:off x="5017320" y="2633760"/>
              <a:ext cx="456120" cy="3682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弧形 205"/>
            <p:cNvSpPr/>
            <p:nvPr/>
          </p:nvSpPr>
          <p:spPr>
            <a:xfrm rot="8146800">
              <a:off x="4983120" y="2862720"/>
              <a:ext cx="122400" cy="42840"/>
            </a:xfrm>
            <a:prstGeom prst="pie">
              <a:avLst/>
            </a:prstGeom>
            <a:noFill/>
            <a:ln w="9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弧形 206"/>
            <p:cNvSpPr/>
            <p:nvPr/>
          </p:nvSpPr>
          <p:spPr>
            <a:xfrm rot="8146800">
              <a:off x="4997880" y="2887560"/>
              <a:ext cx="122400" cy="42840"/>
            </a:xfrm>
            <a:prstGeom prst="pie">
              <a:avLst/>
            </a:prstGeom>
            <a:noFill/>
            <a:ln w="9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弧形 207"/>
            <p:cNvSpPr/>
            <p:nvPr/>
          </p:nvSpPr>
          <p:spPr>
            <a:xfrm rot="8146800">
              <a:off x="5016600" y="2924280"/>
              <a:ext cx="122400" cy="42840"/>
            </a:xfrm>
            <a:prstGeom prst="pie">
              <a:avLst/>
            </a:prstGeom>
            <a:noFill/>
            <a:ln w="9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弧形 208"/>
            <p:cNvSpPr/>
            <p:nvPr/>
          </p:nvSpPr>
          <p:spPr>
            <a:xfrm rot="7506000">
              <a:off x="5043600" y="2944080"/>
              <a:ext cx="134640" cy="39240"/>
            </a:xfrm>
            <a:prstGeom prst="pie">
              <a:avLst/>
            </a:prstGeom>
            <a:noFill/>
            <a:ln w="9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弧形 209"/>
            <p:cNvSpPr/>
            <p:nvPr/>
          </p:nvSpPr>
          <p:spPr>
            <a:xfrm rot="7334400">
              <a:off x="5085360" y="2964240"/>
              <a:ext cx="134640" cy="39240"/>
            </a:xfrm>
            <a:prstGeom prst="pie">
              <a:avLst/>
            </a:prstGeom>
            <a:noFill/>
            <a:ln w="9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弧形 210"/>
            <p:cNvSpPr/>
            <p:nvPr/>
          </p:nvSpPr>
          <p:spPr>
            <a:xfrm rot="6323400">
              <a:off x="5122440" y="2969640"/>
              <a:ext cx="134640" cy="39240"/>
            </a:xfrm>
            <a:prstGeom prst="pie">
              <a:avLst/>
            </a:prstGeom>
            <a:noFill/>
            <a:ln w="9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22"/>
          <p:cNvGrpSpPr/>
          <p:nvPr/>
        </p:nvGrpSpPr>
        <p:grpSpPr>
          <a:xfrm>
            <a:off x="4595040" y="2600280"/>
            <a:ext cx="226080" cy="350280"/>
            <a:chOff x="4595040" y="2600280"/>
            <a:chExt cx="226080" cy="350280"/>
          </a:xfrm>
        </p:grpSpPr>
        <p:sp>
          <p:nvSpPr>
            <p:cNvPr id="72" name="任意多边形 212"/>
            <p:cNvSpPr/>
            <p:nvPr/>
          </p:nvSpPr>
          <p:spPr>
            <a:xfrm>
              <a:off x="4668840" y="2600280"/>
              <a:ext cx="152280" cy="3056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弧形 213"/>
            <p:cNvSpPr/>
            <p:nvPr/>
          </p:nvSpPr>
          <p:spPr>
            <a:xfrm rot="7761600">
              <a:off x="4584240" y="2809800"/>
              <a:ext cx="172080" cy="54000"/>
            </a:xfrm>
            <a:prstGeom prst="pie">
              <a:avLst/>
            </a:prstGeom>
            <a:noFill/>
            <a:ln w="9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弧形 214"/>
            <p:cNvSpPr/>
            <p:nvPr/>
          </p:nvSpPr>
          <p:spPr>
            <a:xfrm rot="7761600">
              <a:off x="4609440" y="2821680"/>
              <a:ext cx="172080" cy="54000"/>
            </a:xfrm>
            <a:prstGeom prst="pie">
              <a:avLst/>
            </a:prstGeom>
            <a:noFill/>
            <a:ln w="9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弧形 215"/>
            <p:cNvSpPr/>
            <p:nvPr/>
          </p:nvSpPr>
          <p:spPr>
            <a:xfrm rot="7761600">
              <a:off x="4631040" y="2839680"/>
              <a:ext cx="172080" cy="54000"/>
            </a:xfrm>
            <a:prstGeom prst="pie">
              <a:avLst/>
            </a:prstGeom>
            <a:noFill/>
            <a:ln w="9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0" descr="210450"/>
          <p:cNvPicPr/>
          <p:nvPr/>
        </p:nvPicPr>
        <p:blipFill>
          <a:blip r:embed="rId17"/>
          <a:stretch/>
        </p:blipFill>
        <p:spPr>
          <a:xfrm>
            <a:off x="-71280" y="-71280"/>
            <a:ext cx="4776480" cy="5373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1" descr="210450"/>
          <p:cNvPicPr/>
          <p:nvPr/>
        </p:nvPicPr>
        <p:blipFill>
          <a:blip r:embed="rId18"/>
          <a:stretch/>
        </p:blipFill>
        <p:spPr>
          <a:xfrm>
            <a:off x="4498920" y="-71280"/>
            <a:ext cx="4716360" cy="53733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17" descr="14.png"/>
          <p:cNvPicPr/>
          <p:nvPr/>
        </p:nvPicPr>
        <p:blipFill>
          <a:blip r:embed="rId19"/>
          <a:stretch/>
        </p:blipFill>
        <p:spPr>
          <a:xfrm>
            <a:off x="4214880" y="4278240"/>
            <a:ext cx="747720" cy="5079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220" descr="14.png"/>
          <p:cNvPicPr/>
          <p:nvPr/>
        </p:nvPicPr>
        <p:blipFill>
          <a:blip r:embed="rId20"/>
          <a:stretch/>
        </p:blipFill>
        <p:spPr>
          <a:xfrm>
            <a:off x="4214880" y="4349880"/>
            <a:ext cx="785880" cy="5331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21" descr="14.png"/>
          <p:cNvPicPr/>
          <p:nvPr/>
        </p:nvPicPr>
        <p:blipFill>
          <a:blip r:embed="rId21"/>
          <a:stretch/>
        </p:blipFill>
        <p:spPr>
          <a:xfrm>
            <a:off x="4286160" y="4349880"/>
            <a:ext cx="642960" cy="4363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22" descr="14.png"/>
          <p:cNvPicPr/>
          <p:nvPr/>
        </p:nvPicPr>
        <p:blipFill>
          <a:blip r:embed="rId22"/>
          <a:stretch/>
        </p:blipFill>
        <p:spPr>
          <a:xfrm rot="20940000">
            <a:off x="4201920" y="4276800"/>
            <a:ext cx="757080" cy="5126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23" descr="14.png"/>
          <p:cNvPicPr/>
          <p:nvPr/>
        </p:nvPicPr>
        <p:blipFill>
          <a:blip r:embed="rId23"/>
          <a:stretch/>
        </p:blipFill>
        <p:spPr>
          <a:xfrm>
            <a:off x="4214880" y="4357800"/>
            <a:ext cx="841320" cy="5713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25" descr="14.png"/>
          <p:cNvPicPr/>
          <p:nvPr/>
        </p:nvPicPr>
        <p:blipFill>
          <a:blip r:embed="rId24"/>
          <a:stretch/>
        </p:blipFill>
        <p:spPr>
          <a:xfrm>
            <a:off x="4143240" y="4206960"/>
            <a:ext cx="959040" cy="6508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26" descr="14.png"/>
          <p:cNvPicPr/>
          <p:nvPr/>
        </p:nvPicPr>
        <p:blipFill>
          <a:blip r:embed="rId25"/>
          <a:stretch/>
        </p:blipFill>
        <p:spPr>
          <a:xfrm>
            <a:off x="4214880" y="4500720"/>
            <a:ext cx="785880" cy="5331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27" descr="14.png"/>
          <p:cNvPicPr/>
          <p:nvPr/>
        </p:nvPicPr>
        <p:blipFill>
          <a:blip r:embed="rId26"/>
          <a:stretch/>
        </p:blipFill>
        <p:spPr>
          <a:xfrm>
            <a:off x="4357800" y="4635360"/>
            <a:ext cx="642960" cy="4366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28" descr="14.png"/>
          <p:cNvPicPr/>
          <p:nvPr/>
        </p:nvPicPr>
        <p:blipFill>
          <a:blip r:embed="rId27"/>
          <a:stretch/>
        </p:blipFill>
        <p:spPr>
          <a:xfrm>
            <a:off x="4143240" y="4357800"/>
            <a:ext cx="947880" cy="6429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30" descr="14.png"/>
          <p:cNvPicPr/>
          <p:nvPr/>
        </p:nvPicPr>
        <p:blipFill>
          <a:blip r:embed="rId28"/>
          <a:stretch/>
        </p:blipFill>
        <p:spPr>
          <a:xfrm>
            <a:off x="4286160" y="4421160"/>
            <a:ext cx="642960" cy="4366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31" descr="14.png"/>
          <p:cNvPicPr/>
          <p:nvPr/>
        </p:nvPicPr>
        <p:blipFill>
          <a:blip r:embed="rId29"/>
          <a:stretch/>
        </p:blipFill>
        <p:spPr>
          <a:xfrm>
            <a:off x="4214880" y="4421160"/>
            <a:ext cx="642960" cy="4366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32" descr="14.png"/>
          <p:cNvPicPr/>
          <p:nvPr/>
        </p:nvPicPr>
        <p:blipFill>
          <a:blip r:embed="rId30"/>
          <a:stretch/>
        </p:blipFill>
        <p:spPr>
          <a:xfrm>
            <a:off x="4071960" y="4441680"/>
            <a:ext cx="928800" cy="630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33" descr="14.png"/>
          <p:cNvPicPr/>
          <p:nvPr/>
        </p:nvPicPr>
        <p:blipFill>
          <a:blip r:embed="rId31"/>
          <a:stretch/>
        </p:blipFill>
        <p:spPr>
          <a:xfrm rot="20936400">
            <a:off x="4123800" y="4403880"/>
            <a:ext cx="965520" cy="9414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34" descr="14.png"/>
          <p:cNvPicPr/>
          <p:nvPr/>
        </p:nvPicPr>
        <p:blipFill>
          <a:blip r:embed="rId32"/>
          <a:stretch/>
        </p:blipFill>
        <p:spPr>
          <a:xfrm>
            <a:off x="4214880" y="4357800"/>
            <a:ext cx="841320" cy="5713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35" descr="14.png"/>
          <p:cNvPicPr/>
          <p:nvPr/>
        </p:nvPicPr>
        <p:blipFill>
          <a:blip r:embed="rId33"/>
          <a:stretch/>
        </p:blipFill>
        <p:spPr>
          <a:xfrm>
            <a:off x="4214880" y="4286160"/>
            <a:ext cx="958680" cy="6508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36" descr="14.png"/>
          <p:cNvPicPr/>
          <p:nvPr/>
        </p:nvPicPr>
        <p:blipFill>
          <a:blip r:embed="rId34"/>
          <a:stretch/>
        </p:blipFill>
        <p:spPr>
          <a:xfrm>
            <a:off x="4143240" y="4214880"/>
            <a:ext cx="997200" cy="6760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37" descr="14.png"/>
          <p:cNvPicPr/>
          <p:nvPr/>
        </p:nvPicPr>
        <p:blipFill>
          <a:blip r:embed="rId35"/>
          <a:stretch/>
        </p:blipFill>
        <p:spPr>
          <a:xfrm>
            <a:off x="4357800" y="4429080"/>
            <a:ext cx="642960" cy="4366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38" descr="14.png"/>
          <p:cNvPicPr/>
          <p:nvPr/>
        </p:nvPicPr>
        <p:blipFill>
          <a:blip r:embed="rId36"/>
          <a:stretch/>
        </p:blipFill>
        <p:spPr>
          <a:xfrm>
            <a:off x="4143240" y="4260960"/>
            <a:ext cx="857520" cy="6681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39" descr="14.png"/>
          <p:cNvPicPr/>
          <p:nvPr/>
        </p:nvPicPr>
        <p:blipFill>
          <a:blip r:embed="rId37"/>
          <a:stretch/>
        </p:blipFill>
        <p:spPr>
          <a:xfrm>
            <a:off x="4214880" y="4489560"/>
            <a:ext cx="857160" cy="5824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40" descr="14.png"/>
          <p:cNvPicPr/>
          <p:nvPr/>
        </p:nvPicPr>
        <p:blipFill>
          <a:blip r:embed="rId38"/>
          <a:stretch/>
        </p:blipFill>
        <p:spPr>
          <a:xfrm rot="578400">
            <a:off x="4190760" y="4361040"/>
            <a:ext cx="941400" cy="6397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41" descr="14.png"/>
          <p:cNvPicPr/>
          <p:nvPr/>
        </p:nvPicPr>
        <p:blipFill>
          <a:blip r:embed="rId39"/>
          <a:stretch/>
        </p:blipFill>
        <p:spPr>
          <a:xfrm>
            <a:off x="4357800" y="4429080"/>
            <a:ext cx="747720" cy="5079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43" descr="14.png"/>
          <p:cNvPicPr/>
          <p:nvPr/>
        </p:nvPicPr>
        <p:blipFill>
          <a:blip r:embed="rId40"/>
          <a:stretch/>
        </p:blipFill>
        <p:spPr>
          <a:xfrm>
            <a:off x="4214880" y="4429080"/>
            <a:ext cx="841320" cy="5716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44" descr="14.png"/>
          <p:cNvPicPr/>
          <p:nvPr/>
        </p:nvPicPr>
        <p:blipFill>
          <a:blip r:embed="rId41"/>
          <a:stretch/>
        </p:blipFill>
        <p:spPr>
          <a:xfrm>
            <a:off x="4143240" y="4286160"/>
            <a:ext cx="1052640" cy="7146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49" descr="14.png"/>
          <p:cNvPicPr/>
          <p:nvPr/>
        </p:nvPicPr>
        <p:blipFill>
          <a:blip r:embed="rId42"/>
          <a:stretch/>
        </p:blipFill>
        <p:spPr>
          <a:xfrm>
            <a:off x="4071960" y="4214880"/>
            <a:ext cx="1157400" cy="7858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50" descr="14.png"/>
          <p:cNvPicPr/>
          <p:nvPr/>
        </p:nvPicPr>
        <p:blipFill>
          <a:blip r:embed="rId43"/>
          <a:stretch/>
        </p:blipFill>
        <p:spPr>
          <a:xfrm>
            <a:off x="4071960" y="4224240"/>
            <a:ext cx="1143000" cy="77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44"/>
          <a:stretch/>
        </p:blipFill>
        <p:spPr>
          <a:xfrm>
            <a:off x="1720800" y="1004760"/>
            <a:ext cx="614376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54" descr="图片1.jpg 拷贝.png"/>
          <p:cNvPicPr/>
          <p:nvPr/>
        </p:nvPicPr>
        <p:blipFill>
          <a:blip r:embed="rId45"/>
          <a:stretch/>
        </p:blipFill>
        <p:spPr>
          <a:xfrm>
            <a:off x="3349800" y="-71280"/>
            <a:ext cx="2222280" cy="1000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67800" y="25002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开门红新年快乐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7" presetSubtype="8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7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57" dur="200" fill="hold"/>
                                        <p:tgtEl>
                                          <p:spTgt spid="7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58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59" dur="200" fill="hold"/>
                                        <p:tgtEl>
                                          <p:spTgt spid="7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0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61" dur="200" fill="hold"/>
                                        <p:tgtEl>
                                          <p:spTgt spid="8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2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63" dur="200" fill="hold"/>
                                        <p:tgtEl>
                                          <p:spTgt spid="8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4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65" dur="200" fill="hold"/>
                                        <p:tgtEl>
                                          <p:spTgt spid="8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6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67" dur="200" fill="hold"/>
                                        <p:tgtEl>
                                          <p:spTgt spid="8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8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69" dur="200" fill="hold"/>
                                        <p:tgtEl>
                                          <p:spTgt spid="8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0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71" dur="200" fill="hold"/>
                                        <p:tgtEl>
                                          <p:spTgt spid="8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2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73" dur="200" fill="hold"/>
                                        <p:tgtEl>
                                          <p:spTgt spid="8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75" dur="200" fill="hold"/>
                                        <p:tgtEl>
                                          <p:spTgt spid="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77" dur="200" fill="hold"/>
                                        <p:tgtEl>
                                          <p:spTgt spid="8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79" dur="200" fill="hold"/>
                                        <p:tgtEl>
                                          <p:spTgt spid="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0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81" dur="200" fill="hold"/>
                                        <p:tgtEl>
                                          <p:spTgt spid="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2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83" dur="200" fill="hold"/>
                                        <p:tgtEl>
                                          <p:spTgt spid="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4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85" dur="200" fill="hold"/>
                                        <p:tgtEl>
                                          <p:spTgt spid="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6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87" dur="200" fill="hold"/>
                                        <p:tgtEl>
                                          <p:spTgt spid="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8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89" dur="200" fill="hold"/>
                                        <p:tgtEl>
                                          <p:spTgt spid="9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91" dur="200" fill="hold"/>
                                        <p:tgtEl>
                                          <p:spTgt spid="9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2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93" dur="200" fill="hold"/>
                                        <p:tgtEl>
                                          <p:spTgt spid="9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4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95" dur="200" fill="hold"/>
                                        <p:tgtEl>
                                          <p:spTgt spid="9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6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97" dur="200" fill="hold"/>
                                        <p:tgtEl>
                                          <p:spTgt spid="9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8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99" dur="200" fill="hold"/>
                                        <p:tgtEl>
                                          <p:spTgt spid="9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00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01" dur="2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02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03" dur="2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04" dur="indefinite" autoRev="1" nodeType="withEffect" fill="hold" presetClass="emph" presetID="6" repeatCount="3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05" dur="2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path" presetID="0" repeatCount="300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3.88889E-006 3.68681E-006 C -0.00365 -0.19822 -0.0073 -0.3955 -0.01198 -0.53977 C -0.01684 -0.68373 -0.0224 -0.77929 -0.029 -0.8656 C -0.03559 -0.95161 -0.04046 -1.00494 -0.05157 -1.05703 C -0.06285 -1.10913 -0.08889 -1.15753 -0.09618 -1.17756 E">
                                      <p:cBhvr>
                                        <p:cTn id="207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0" repeatCount="300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44444E-006 8.44897E-007 C -0.01753 -0.20167 -0.03489 -0.40333 -0.0585 -0.55011 C -0.08229 -0.69658 -0.10989 -0.79494 -0.14253 -0.88221 C -0.175 -0.97009 -0.19878 -1.02436 -0.25434 -1.07771 C -0.30989 -1.13074 -0.43871 -1.18039 -0.47552 -1.20074 E">
                                      <p:cBhvr>
                                        <p:cTn id="209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path" presetID="0" repeatCount="3000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5.55556E-007 -1.53562E-006 C 0.01198 -0.18532 0.02431 -0.37033 0.04097 -0.50478 C 0.05746 -0.63984 0.07691 -0.72926 0.1 -0.81005 C 0.12309 -0.88961 0.13958 -0.93956 0.17882 -0.98859 C 0.21788 -1.037 0.30851 -1.08202 0.33472 -1.10083 E">
                                      <p:cBhvr>
                                        <p:cTn id="211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path" presetID="0" repeatCount="300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94444E-006 -4.5746E-006 C 0.02639 -0.12762 0.05295 -0.25493 0.08889 -0.34771 C 0.125 -0.4405 0.16701 -0.50215 0.21649 -0.55795 C 0.26614 -0.61344 0.30226 -0.64765 0.3868 -0.68125 C 0.47135 -0.71485 0.66736 -0.74599 0.72361 -0.75863 E">
                                      <p:cBhvr>
                                        <p:cTn id="213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0" repeatCount="300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3.05556E-006 -4.72985E-006 C 0.02274 -0.09663 0.04548 -0.19234 0.07639 -0.26211 C 0.10746 -0.3322 0.14375 -0.37912 0.18646 -0.42111 C 0.22916 -0.46279 0.26024 -0.48904 0.33298 -0.51404 C 0.4059 -0.53936 0.57465 -0.56282 0.62309 -0.57209 E">
                                      <p:cBhvr>
                                        <p:cTn id="215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path" presetID="0" repeatCount="3000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4.44444E-006 4.80419E-006 C 0.00695 -0.21123 0.01407 -0.42214 0.02362 -0.5754 C 0.03334 -0.72896 0.04445 -0.83195 0.05782 -0.92322 C 0.07101 -1.01511 0.08073 -1.07216 0.1033 -1.12766 C 0.12587 -1.18317 0.17813 -1.23528 0.19323 -1.25656 E">
                                      <p:cBhvr>
                                        <p:cTn id="217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path" presetID="0" repeatCount="300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5.55556E-007 9.98767E-007 C -0.01076 -0.21054 -0.02118 -0.42109 -0.03559 -0.57306 C -0.05 -0.72657 -0.06667 -0.82861 -0.08629 -0.92016 C -0.10608 -1.01048 -0.12031 -1.06751 -0.15399 -1.123 C -0.18733 -1.17756 -0.2651 -1.22996 -0.28733 -1.25123 E">
                                      <p:cBhvr>
                                        <p:cTn id="219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path" presetID="0" repeatCount="300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1.94444E-006 4.88286E-006 C 0.01476 -0.18496 0.03004 -0.36992 0.05052 -0.50401 C 0.07118 -0.63872 0.09514 -0.72873 0.12344 -0.80919 C 0.15191 -0.88934 0.1724 -0.93928 0.22066 -0.98737 C 0.2691 -1.03638 0.38125 -1.08139 0.41354 -1.10019 E">
                                      <p:cBhvr>
                                        <p:cTn id="221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path" presetID="0" repeatCount="300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1.94444E-006 -8.29479E-007 C -0.02517 -0.10762 -0.05052 -0.21523 -0.08489 -0.29355 C -0.1191 -0.37188 -0.15903 -0.4243 -0.20625 -0.47117 C -0.25347 -0.51804 -0.28802 -0.54702 -0.3684 -0.57539 C -0.44896 -0.60376 -0.63541 -0.63028 -0.68889 -0.64107 E">
                                      <p:cBhvr>
                                        <p:cTn id="223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path" presetID="0" repeatCount="300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44444E-006 -0.00031 C -0.01336 -0.18958 -0.02534 -0.37916 -0.04114 -0.51665 C -0.05711 -0.65475 -0.07691 -0.74692 -0.09791 -0.82923 C -0.12048 -0.91215 -0.13767 -0.9624 -0.17604 -1.01233 C -0.21302 -1.06196 -0.30156 -1.10882 -0.32656 -1.12793 E">
                                      <p:cBhvr>
                                        <p:cTn id="225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path" presetID="0" repeatCount="300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3.05556E-006 1.72626E-007 C -0.02396 -0.12885 -0.04775 -0.25678 -0.08004 -0.35049 C -0.11233 -0.4442 -0.15018 -0.50647 -0.19462 -0.56227 C -0.23924 -0.61837 -0.2717 -0.6529 -0.3474 -0.68681 C -0.42344 -0.72072 -0.59914 -0.75216 -0.64966 -0.7648 E">
                                      <p:cBhvr>
                                        <p:cTn id="227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path" presetID="0" repeatCount="3000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3.05556E-006 -1.17139E-006 C 0.00833 -0.19852 0.01684 -0.39642 0.02847 -0.54007 C 0.03993 -0.68434 0.05347 -0.78052 0.06944 -0.86652 C 0.08524 -0.95253 0.09687 -1.00524 0.12413 -1.05764 C 0.15121 -1.10974 0.21406 -1.15875 0.23229 -1.1791 E">
                                      <p:cBhvr>
                                        <p:cTn id="229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path" presetID="0" repeatCount="300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5.55556E-007 -2.51541E-006 C 0.01996 -0.16954 0.0401 -0.33847 0.06806 -0.46146 C 0.09566 -0.58446 0.12795 -0.66677 0.16597 -0.73982 C 0.20417 -0.81288 0.23194 -0.85851 0.29653 -0.9029 C 0.36146 -0.94728 0.51215 -0.98859 0.55538 -1.00616 E">
                                      <p:cBhvr>
                                        <p:cTn id="231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0" repeatCount="300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44444E-006 -0.0003 C -0.02256 -0.16183 -0.04496 -0.32336 -0.07482 -0.44081 C -0.10538 -0.55826 -0.1401 -0.63686 -0.18159 -0.70715 C -0.22343 -0.77743 -0.25329 -0.8209 -0.32413 -0.86313 C -0.39513 -0.90536 -0.55868 -0.94482 -0.60538 -0.96146 E">
                                      <p:cBhvr>
                                        <p:cTn id="233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path" presetID="0" repeatCount="3000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3.05556E-006 -0.00031 C -0.01875 -0.18679 -0.03784 -0.37388 -0.06354 -0.50942 C -0.08923 -0.64526 -0.11927 -0.73665 -0.15486 -0.81692 C -0.19027 -0.89781 -0.21597 -0.94844 -0.27673 -0.99722 C -0.33715 -1.04662 -0.47743 -1.092 -0.51736 -1.11146 E">
                                      <p:cBhvr>
                                        <p:cTn id="235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path" presetID="0" repeatCount="300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1.11111E-006 -2.06418E-006 C -0.00035 -0.18945 -0.0007 -0.37828 -0.00104 -0.51651 C -0.00139 -0.65381 -0.00174 -0.74483 -0.00226 -0.82783 C -0.00278 -0.9099 -0.00313 -0.9605 -0.00399 -1.01049 C -0.00504 -1.06047 -0.00712 -1.10706 -0.00764 -1.12681 E">
                                      <p:cBhvr>
                                        <p:cTn id="237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path" presetID="0" repeatCount="300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1.94444E-006 -1.1344E-006 C -0.00642 -0.21424 -0.01302 -0.42756 -0.02187 -0.5823 C -0.03055 -0.73705 -0.0408 -0.84094 -0.05295 -0.93372 C -0.0651 -1.02589 -0.07396 -1.08354 -0.09479 -1.13995 C -0.11545 -1.19605 -0.16337 -1.24784 -0.17708 -1.26973 E">
                                      <p:cBhvr>
                                        <p:cTn id="239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path" presetID="0" repeatCount="300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 -0.00617 C 0.02465 -0.11128 0.04948 -0.21578 0.08316 -0.29223 C 0.11684 -0.36868 0.15625 -0.41955 0.2026 -0.46517 C 0.24913 -0.51079 0.28299 -0.53884 0.36198 -0.56659 C 0.44115 -0.59402 0.62465 -0.61961 0.67726 -0.6304 E">
                                      <p:cBhvr>
                                        <p:cTn id="241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path" presetID="0" repeatCount="3000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 -2.34279E-006 C -0.025 -0.14765 -0.04931 -0.29531 -0.08299 -0.4029 C -0.11615 -0.51048 -0.15486 -0.5823 -0.20104 -0.64673 C -0.24653 -0.71085 -0.28003 -0.75 -0.35816 -0.78884 C -0.43628 -0.82768 -0.61719 -0.86405 -0.66892 -0.87916 E">
                                      <p:cBhvr>
                                        <p:cTn id="243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path" presetID="0" repeatCount="300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2.22222E-006 -4.62392E-006 C 0.00261 -0.20314 0.00556 -0.40505 0.00938 -0.5524 C 0.0132 -0.69975 0.01754 -0.79839 0.02292 -0.88594 C 0.02813 -0.9741 0.03212 -1.02897 0.04097 -1.08199 C 0.05 -1.13563 0.07084 -1.18557 0.07691 -1.20622 E">
                                      <p:cBhvr>
                                        <p:cTn id="245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path" presetID="0" repeatCount="300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08837 0.13255 C -0.06805 -0.06412 -0.04705 -0.26171 -0.0184 -0.40444 C 0.0099 -0.54747 0.04323 -0.64365 0.08212 -0.72873 C 0.12118 -0.81473 0.14983 -0.86775 0.21649 -0.91954 C 0.28299 -0.97102 0.43802 -1.01911 0.48264 -1.03915 E">
                                      <p:cBhvr>
                                        <p:cTn id="247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0" repeatCount="300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-4.44444E-006 1.3136E-006 C -0.0217 -0.17176 -0.03767 -0.34197 -0.0592 -0.46654 C -0.08055 -0.5905 -0.10746 -0.67345 -0.13958 -0.74838 C -0.1717 -0.82239 -0.19322 -0.86802 -0.2467 -0.91335 C -0.30052 -0.95837 -0.42378 -1 -0.45572 -1.01758 E">
                                      <p:cBhvr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0" repeatCount="3000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2.5E-006 -3.69914E-006 C 0.02291 -0.14796 0.04653 -0.29469 0.07812 -0.40259 C 0.11007 -0.50955 0.14705 -0.58138 0.1908 -0.6458 C 0.23437 -0.70931 0.26632 -0.74876 0.3408 -0.7876 C 0.41545 -0.82645 0.58819 -0.86282 0.63784 -0.877 E">
                                      <p:cBhvr>
                                        <p:cTn id="251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path" presetID="0" repeatCount="300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0.00018 -4.59926E-006 C -0.02344 -0.11868 -0.0467 -0.23612 -0.07969 -0.32213 C -0.1125 -0.40844 -0.15122 -0.46578 -0.19584 -0.51726 C -0.24028 -0.56843 -0.27309 -0.60018 -0.34861 -0.63162 C -0.42622 -0.66276 -0.60174 -0.69143 -0.65417 -0.70283 E">
                                      <p:cBhvr>
                                        <p:cTn id="253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path" presetID="0" repeatCount="300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-2.5E-006 6.16523E-007 C -0.02291 -0.08631 -0.04566 -0.17109 -0.07673 -0.23335 C -0.10764 -0.29501 -0.14375 -0.33693 -0.18646 -0.37361 C -0.22916 -0.41091 -0.26024 -0.43372 -0.33281 -0.45654 C -0.40555 -0.47873 -0.57361 -0.49969 -0.62205 -0.50802 E">
                                      <p:cBhvr>
                                        <p:cTn id="255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900"/>
                            </p:stCondLst>
                            <p:childTnLst>
                              <p:par>
                                <p:cTn id="2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400"/>
                            </p:stCondLst>
                            <p:childTnLst>
                              <p:par>
                                <p:cTn id="2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400"/>
                            </p:stCondLst>
                            <p:childTnLst>
                              <p:par>
                                <p:cTn id="29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9400"/>
                            </p:stCondLst>
                            <p:childTnLst>
                              <p:par>
                                <p:cTn id="302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9900"/>
                            </p:stCondLst>
                            <p:childTnLst>
                              <p:par>
                                <p:cTn id="3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901"/>
                            </p:stCondLst>
                            <p:childTnLst>
                              <p:par>
                                <p:cTn id="314" dur="indefinite" nodeType="after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401"/>
                            </p:stCondLst>
                            <p:childTnLst>
                              <p:par>
                                <p:cTn id="32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50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0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3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5D3-5B08-4C77-88F0-15E1B3F60E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8" descr="9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433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5" descr="3792944_130159007399_2 拷贝.png"/>
          <p:cNvPicPr/>
          <p:nvPr/>
        </p:nvPicPr>
        <p:blipFill>
          <a:blip r:embed="rId2"/>
          <a:stretch/>
        </p:blipFill>
        <p:spPr>
          <a:xfrm>
            <a:off x="8164440" y="0"/>
            <a:ext cx="979560" cy="1000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682560" y="1285920"/>
            <a:ext cx="8461440" cy="2309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3:42:18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19:56Z</dcterms:modified>
  <cp:revision>42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