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F427C-5BFC-47A0-A9C0-C2ACA9E84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BE5B0-8CBC-4679-B846-7D10D59AD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89A77-5C82-40CC-8C4F-AAE4284E0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EC92-7250-45BB-A02E-39A344397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842920" y="40428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2C81E-A331-4FCA-BD78-8C0C0724D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0C91B-1CD5-4908-88B6-524EB1BA9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86E6C-38FF-45F5-88EB-5CE583119A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093FD-6E51-4ED2-919E-E566D16B6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42920" y="40428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CED2D-CB81-4E1E-AA2B-0FC5BC599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58EE0-2357-4C88-92DD-B0A2C85F0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6F30D-2403-4B42-BE0E-94B6F3176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7726-D29A-4C73-BCC8-3F7FE20A8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1" descr="bg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5acd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A9D3286-5761-4361-A076-2B7EF672DF51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0" descr="logo"/>
          <p:cNvPicPr/>
          <p:nvPr/>
        </p:nvPicPr>
        <p:blipFill>
          <a:blip r:embed="rId3"/>
          <a:srcRect l="5396" t="5349" r="74912" b="80615"/>
          <a:stretch/>
        </p:blipFill>
        <p:spPr>
          <a:xfrm>
            <a:off x="468360" y="219240"/>
            <a:ext cx="1808280" cy="96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8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5acd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7320" y="5208120"/>
            <a:ext cx="6512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华康海报体W12(P)"/>
                <a:ea typeface="华康海报体W12(P)"/>
              </a:rPr>
              <a:t>卡通儿童节节日</a:t>
            </a:r>
            <a:r>
              <a:rPr b="0" lang="en-US" sz="4000" spc="-1" strike="noStrike">
                <a:solidFill>
                  <a:srgbClr val="ffc000"/>
                </a:solidFill>
                <a:latin typeface="华康海报体W12(P)"/>
                <a:ea typeface="华康海报体W12(P)"/>
              </a:rPr>
              <a:t>PPT</a:t>
            </a:r>
            <a:r>
              <a:rPr b="0" lang="zh-CN" sz="4000" spc="-1" strike="noStrike">
                <a:solidFill>
                  <a:srgbClr val="ffc000"/>
                </a:solidFill>
                <a:latin typeface="华康海报体W12(P)"/>
                <a:ea typeface="华康海报体W12(P)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1A37149-6BD5-4507-8137-FAC934633B43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2110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D1F31668-8E0C-487E-BBD3-B1BDFF3DB280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此处添加节日的问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562040" y="1820880"/>
            <a:ext cx="6438960" cy="53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此处添加节日的问候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"/>
          <p:cNvPicPr/>
          <p:nvPr/>
        </p:nvPicPr>
        <p:blipFill>
          <a:blip r:embed="rId1"/>
          <a:stretch/>
        </p:blipFill>
        <p:spPr>
          <a:xfrm>
            <a:off x="1077840" y="1501920"/>
            <a:ext cx="735120" cy="9856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0"/>
          <p:cNvSpPr/>
          <p:nvPr/>
        </p:nvSpPr>
        <p:spPr>
          <a:xfrm>
            <a:off x="1562040" y="2708280"/>
            <a:ext cx="6438960" cy="53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此处添加节日的问候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1"/>
          <p:cNvPicPr/>
          <p:nvPr/>
        </p:nvPicPr>
        <p:blipFill>
          <a:blip r:embed="rId2"/>
          <a:stretch/>
        </p:blipFill>
        <p:spPr>
          <a:xfrm>
            <a:off x="1077840" y="2389320"/>
            <a:ext cx="735120" cy="9856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12"/>
          <p:cNvSpPr/>
          <p:nvPr/>
        </p:nvSpPr>
        <p:spPr>
          <a:xfrm>
            <a:off x="1562040" y="3594240"/>
            <a:ext cx="6438960" cy="53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此处添加节日的问候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1"/>
          <p:cNvPicPr/>
          <p:nvPr/>
        </p:nvPicPr>
        <p:blipFill>
          <a:blip r:embed="rId3"/>
          <a:stretch/>
        </p:blipFill>
        <p:spPr>
          <a:xfrm>
            <a:off x="1077840" y="3274920"/>
            <a:ext cx="735120" cy="98604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4"/>
          <p:cNvSpPr/>
          <p:nvPr/>
        </p:nvSpPr>
        <p:spPr>
          <a:xfrm>
            <a:off x="1562040" y="4495680"/>
            <a:ext cx="6438960" cy="53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此处添加节日的问候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5" descr="1"/>
          <p:cNvPicPr/>
          <p:nvPr/>
        </p:nvPicPr>
        <p:blipFill>
          <a:blip r:embed="rId4"/>
          <a:stretch/>
        </p:blipFill>
        <p:spPr>
          <a:xfrm>
            <a:off x="1077840" y="4176720"/>
            <a:ext cx="735120" cy="985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578400" y="13334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99cc"/>
                </a:solidFill>
                <a:uFillTx/>
                <a:latin typeface="Arial"/>
                <a:hlinkClick r:id="rId5"/>
              </a:rPr>
              <a:t>ppt模板网站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E61CA-A8BA-4C0E-A492-5A9BE56C1A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459A769-9ACA-429D-BD82-0D16EF8550D6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bg1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468360" y="5140440"/>
            <a:ext cx="820728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pc</dc:creator>
  <dc:description>www.eeppt.com;</dc:description>
  <cp:keywords>www.eeppt.com</cp:keywords>
  <dc:language>en-US</dc:language>
  <cp:lastModifiedBy>jccook</cp:lastModifiedBy>
  <dcterms:modified xsi:type="dcterms:W3CDTF">2015-09-18T13:17:30Z</dcterms:modified>
  <cp:revision>154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