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496-3E06-475A-8DA6-8C29FBBD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6B9-61B8-4456-8F27-7B783F7D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48A-623C-4D14-8EC5-3E248A3C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59F-BBE5-4993-B32D-56844C9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267-1B6F-4272-B1E2-A5C37F26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656-3263-4817-9497-4ED26FFF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DF7-87C5-4D81-A131-327F694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8D3-DF72-4C93-9C49-3E675144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28D-FD16-4AF2-8B52-488694AB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E2D-15AA-45C4-9CA4-C8832D1A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F2A-983D-49E5-A1AE-E81B9B14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742-7367-4BB2-A2FA-1F06C835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819144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7740720" y="836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7380360" y="62064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8155080" y="112536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7020000" y="47628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1"/>
          <a:stretch/>
        </p:blipFill>
        <p:spPr>
          <a:xfrm>
            <a:off x="6732720" y="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2"/>
          <a:stretch/>
        </p:blipFill>
        <p:spPr>
          <a:xfrm>
            <a:off x="7812000" y="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38AE-E23E-4BAF-A21C-74C7DBDBD0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742-9559-4527-8DC2-6D2D80417B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9920" y="692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9:15:1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29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