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521-3CB4-472C-8F68-4AA9E762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AD5-A603-4052-9F8C-A5CFE7C4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161-437B-41D4-85FB-DDEED811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A76-5611-4A8E-A4C0-0F3ACAC2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8D7E-2BA2-438A-9E2E-21B36ADE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E196-F0F5-464A-97D0-09C4F9C3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CB6B-7DC4-4A2A-9AAE-593B8463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13FF-69AD-48F3-964C-B6E131D1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3740-87C7-444C-8A26-6A8E3635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8DC7-7708-4CDB-BE67-DCCB7FEF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68D4-B6BE-404D-84A9-1B6F6029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E81-CD20-45B5-8E34-1EB69645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DB5C-0FA2-43A4-BE39-DBDC9D3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8D65-261F-4D92-B420-DFFB1D37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51B4-9700-4D41-BDD8-AAF04941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2B5A-E647-421C-BD88-AF2C8778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FF55-96E4-497F-A0A8-6803C642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30E-00C2-43E3-8289-6F221E12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784-D3E0-4F4E-8854-84621D46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756-9422-4B2F-9CBB-00117216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3D9-17F3-4EC3-8F27-1BFC1BDF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276-A2B5-4B20-ABF9-34DF8E86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AC2-7F70-4328-B45D-AFE4DAB1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995-D534-42A1-B123-4B8187F4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9640" y="26028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0920" y="6337440"/>
            <a:ext cx="504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8360" y="6341760"/>
            <a:ext cx="1584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C764-368A-41E7-B299-D316A2DD11EF}" type="slidenum"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00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00000" y="188640"/>
            <a:ext cx="45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08720" y="188640"/>
            <a:ext cx="1486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94A1-5024-43C0-8080-9C13A9F53F93}" type="slidenum"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80640" y="1052640"/>
            <a:ext cx="32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B5D4-7961-4A52-8B53-79D0CCBBC5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00000"/>
              </a:solidFill>
              <a:latin typeface="Arial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35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