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9F55-7EC3-4A2E-85B6-06861AABA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3F01-94FE-462F-8C45-85C6562E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E9CE-7E88-4F98-8032-B6FB56BD0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3CE8-00AA-4BAB-ADE0-305BF385E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BC51-646F-447C-A620-C6123086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5BB8-5C14-441C-B0DA-8C4C9518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D2B9-994B-4B6A-9B3F-CB1374D2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AFF8-2E96-4D35-AF83-204D00B4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664E-0ECF-492F-9AA1-DF2A3426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DB6E-BF83-45AC-B66E-C4ED0E83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B4BB-B9C6-4D8C-B876-696EFE69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981C-10DF-418F-9BD2-27461557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B9D5-F5F1-45BB-8ED4-6BC4FD94733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18E7-F463-4B2D-BA72-188B794D7B5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-11160" y="-11160"/>
            <a:ext cx="9155160" cy="686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-11160" y="0"/>
            <a:ext cx="9155160" cy="6870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2"/>
          <p:cNvSpPr/>
          <p:nvPr/>
        </p:nvSpPr>
        <p:spPr>
          <a:xfrm>
            <a:off x="2792520" y="3259080"/>
            <a:ext cx="3558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Franklin Gothic Book"/>
                <a:ea typeface="黑体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Franklin Gothic Book"/>
                <a:ea typeface="黑体"/>
              </a:rPr>
              <a:t>模板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Franklin Gothic Book"/>
                <a:ea typeface="黑体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Franklin Gothic Book"/>
                <a:ea typeface="黑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95640" y="4911480"/>
            <a:ext cx="6649920" cy="11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ranklin Gothic Medium"/>
              </a:rPr>
              <a:t>伦敦奥运会</a:t>
            </a:r>
            <a:r>
              <a:rPr b="1" lang="en-US" sz="3600" spc="-1" strike="noStrike">
                <a:solidFill>
                  <a:srgbClr val="000000"/>
                </a:solidFill>
                <a:latin typeface="Franklin Gothic Medium"/>
              </a:rPr>
              <a:t>PPT</a:t>
            </a:r>
            <a:r>
              <a:rPr b="1" lang="zh-CN" sz="3600" spc="-1" strike="noStrike">
                <a:solidFill>
                  <a:srgbClr val="000000"/>
                </a:solidFill>
                <a:latin typeface="Franklin Gothic Medium"/>
              </a:rPr>
              <a:t>模板打包下载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4" name=""/>
          <p:cNvSpPr/>
          <p:nvPr/>
        </p:nvSpPr>
        <p:spPr>
          <a:xfrm>
            <a:off x="1042920" y="6238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13840"/>
            <a:ext cx="55008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-11160" y="-11160"/>
            <a:ext cx="915516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-11160" y="-11160"/>
            <a:ext cx="9155160" cy="68691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28880" y="2642760"/>
            <a:ext cx="55008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13840"/>
            <a:ext cx="55008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"/>
          <p:cNvSpPr/>
          <p:nvPr/>
        </p:nvSpPr>
        <p:spPr>
          <a:xfrm>
            <a:off x="969840" y="2421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Franklin Gothic Medium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13840"/>
            <a:ext cx="55008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70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2"/>
          <a:srcRect l="2477" t="2264" r="88944" b="82142"/>
          <a:stretch/>
        </p:blipFill>
        <p:spPr>
          <a:xfrm>
            <a:off x="214200" y="142920"/>
            <a:ext cx="78588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07:39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5:49Z</dcterms:modified>
  <cp:revision>2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