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5D9-DC00-45E1-B427-C655E65B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497-5485-4E00-A33D-265B17D9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7D3-E522-40CA-A823-8E62F92C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755-DD74-4FFE-9006-1F46C76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BA6-4EA6-4793-806D-226B637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319-8716-4A95-8D0E-9C1BE4A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F55-5799-433D-8343-24EE85E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FAA-AD27-4DEF-8633-458ECDE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EB7-15EB-48AF-8577-EA221F9E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4FF-4CB9-4515-9C07-7FDBFFF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104-CDA2-49FF-98DB-5272772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91F-C853-4122-B9B9-F0BE2851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CEA-6CF4-4BFB-B88C-CEF4F49A19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8E64-7E35-4B1E-89D2-BC9C17E8B3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52280" y="8734320"/>
            <a:ext cx="744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160640" y="3456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浪漫情人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9" descr=""/>
          <p:cNvPicPr/>
          <p:nvPr/>
        </p:nvPicPr>
        <p:blipFill>
          <a:blip r:embed="rId1"/>
          <a:stretch/>
        </p:blipFill>
        <p:spPr>
          <a:xfrm>
            <a:off x="0" y="6048360"/>
            <a:ext cx="4645080" cy="309564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16"/>
          <p:cNvSpPr/>
          <p:nvPr/>
        </p:nvSpPr>
        <p:spPr>
          <a:xfrm>
            <a:off x="2421000" y="5292720"/>
            <a:ext cx="3724200" cy="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8"/>
          <p:cNvSpPr/>
          <p:nvPr/>
        </p:nvSpPr>
        <p:spPr>
          <a:xfrm>
            <a:off x="6134040" y="5184720"/>
            <a:ext cx="216000" cy="216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5" descr=""/>
          <p:cNvPicPr/>
          <p:nvPr/>
        </p:nvPicPr>
        <p:blipFill>
          <a:blip r:embed="rId2"/>
          <a:srcRect l="2598" t="8283" r="23583" b="12769"/>
          <a:stretch/>
        </p:blipFill>
        <p:spPr>
          <a:xfrm>
            <a:off x="476280" y="826920"/>
            <a:ext cx="54720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1000" y="860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9" descr=""/>
          <p:cNvPicPr/>
          <p:nvPr/>
        </p:nvPicPr>
        <p:blipFill>
          <a:blip r:embed="rId1"/>
          <a:srcRect l="0" t="2763" r="0" b="0"/>
          <a:stretch/>
        </p:blipFill>
        <p:spPr>
          <a:xfrm>
            <a:off x="0" y="755640"/>
            <a:ext cx="6858000" cy="48909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" descr=""/>
          <p:cNvPicPr/>
          <p:nvPr/>
        </p:nvPicPr>
        <p:blipFill>
          <a:blip r:embed="rId2"/>
          <a:srcRect l="0" t="2763" r="0" b="0"/>
          <a:stretch/>
        </p:blipFill>
        <p:spPr>
          <a:xfrm>
            <a:off x="-1440" y="1116000"/>
            <a:ext cx="6856200" cy="4890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1"/>
          <p:cNvSpPr/>
          <p:nvPr/>
        </p:nvSpPr>
        <p:spPr>
          <a:xfrm>
            <a:off x="1614600" y="692640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喜欢你读书时的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1074600" y="747720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一个有内涵的女孩是甜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412920" y="0"/>
            <a:ext cx="6163920" cy="7169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1530360" y="716904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喜欢与你在网上聊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514440" y="771984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因为我不想让其他人占用你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1"/>
          <p:cNvSpPr/>
          <p:nvPr/>
        </p:nvSpPr>
        <p:spPr>
          <a:xfrm>
            <a:off x="1901880" y="716904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见不到你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359000" y="771984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想把爱航运到你的身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169236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FDC-FC7D-40BE-AC9D-4E57B95EA3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rcRect l="3904" t="2088" r="27348" b="-351"/>
          <a:stretch/>
        </p:blipFill>
        <p:spPr>
          <a:xfrm>
            <a:off x="-28440" y="0"/>
            <a:ext cx="4267080" cy="9183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653000" y="2189160"/>
            <a:ext cx="1724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3"/>
          <p:cNvSpPr/>
          <p:nvPr/>
        </p:nvSpPr>
        <p:spPr>
          <a:xfrm flipV="1">
            <a:off x="5514840" y="0"/>
            <a:ext cx="0" cy="1908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4"/>
          <p:cNvSpPr/>
          <p:nvPr/>
        </p:nvSpPr>
        <p:spPr>
          <a:xfrm flipV="1">
            <a:off x="5514840" y="7236000"/>
            <a:ext cx="0" cy="1908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1625760"/>
            <a:ext cx="6858000" cy="4890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68640" y="6732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不只是玫瑰才显浪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113360" y="7254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感动因为意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3000" y="8244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rcRect l="-230" t="172" r="152" b="10509"/>
          <a:stretch/>
        </p:blipFill>
        <p:spPr>
          <a:xfrm>
            <a:off x="-15840" y="0"/>
            <a:ext cx="687384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249640" y="7275600"/>
            <a:ext cx="23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书体坊硬笔行书3500"/>
                <a:ea typeface="书体坊硬笔行书3500"/>
              </a:rPr>
              <a:t>把爱捧在手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232000" y="77994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书体坊硬笔行书3500"/>
                <a:ea typeface="书体坊硬笔行书3500"/>
              </a:rPr>
              <a:t>这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书体坊硬笔行书3500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书体坊硬笔行书3500"/>
                <a:ea typeface="书体坊硬笔行书3500"/>
              </a:rPr>
              <a:t>放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书体坊硬笔行书3500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书体坊硬笔行书3500"/>
                <a:ea typeface="书体坊硬笔行书3500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2" descr=""/>
          <p:cNvPicPr/>
          <p:nvPr/>
        </p:nvPicPr>
        <p:blipFill>
          <a:blip r:embed="rId1"/>
          <a:srcRect l="0" t="8744" r="0" b="4792"/>
          <a:stretch/>
        </p:blipFill>
        <p:spPr>
          <a:xfrm>
            <a:off x="303120" y="108000"/>
            <a:ext cx="6251760" cy="7156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3"/>
          <p:cNvSpPr/>
          <p:nvPr/>
        </p:nvSpPr>
        <p:spPr>
          <a:xfrm>
            <a:off x="1374840" y="7273800"/>
            <a:ext cx="41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爱情的闹钟每天把我叫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2077920" y="7812000"/>
            <a:ext cx="27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爱意味着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rcRect l="0" t="0" r="0" b="21963"/>
          <a:stretch/>
        </p:blipFill>
        <p:spPr>
          <a:xfrm>
            <a:off x="392040" y="0"/>
            <a:ext cx="6073920" cy="713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1898640" y="727380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每小时的每一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077920" y="7812000"/>
            <a:ext cx="27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必须让你开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1901880" y="716904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喜欢与你共进午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170000" y="771984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因为我知道你最喜欢吃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0" y="15476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1"/>
          <p:cNvSpPr/>
          <p:nvPr/>
        </p:nvSpPr>
        <p:spPr>
          <a:xfrm>
            <a:off x="2192400" y="7361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我要学着做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" descr=""/>
          <p:cNvPicPr/>
          <p:nvPr/>
        </p:nvPicPr>
        <p:blipFill>
          <a:blip r:embed="rId1"/>
          <a:srcRect l="0" t="36495" r="966" b="0"/>
          <a:stretch/>
        </p:blipFill>
        <p:spPr>
          <a:xfrm>
            <a:off x="-6480" y="-33480"/>
            <a:ext cx="6864480" cy="6602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557360" y="78897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因为菜也是会说话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3"/>
          <p:cNvSpPr/>
          <p:nvPr/>
        </p:nvSpPr>
        <p:spPr>
          <a:xfrm>
            <a:off x="1898640" y="727380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只要两个人在一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2077920" y="7812000"/>
            <a:ext cx="27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喝茶都是浪漫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-23760"/>
            <a:ext cx="6858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" descr=""/>
          <p:cNvPicPr/>
          <p:nvPr/>
        </p:nvPicPr>
        <p:blipFill>
          <a:blip r:embed="rId1"/>
          <a:stretch/>
        </p:blipFill>
        <p:spPr>
          <a:xfrm>
            <a:off x="0" y="183528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1898640" y="70261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不一定需要房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1898640" y="754848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有爱就不会寒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5:30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1:33Z</dcterms:modified>
  <cp:revision>2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