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983-8CBF-4BBE-8A6F-3330EDA9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54572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C13-F05B-47DD-8E7A-026A4532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5457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16760" y="45457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D73-4974-402B-A697-799FD0D8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1600" y="42670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7760" y="42670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5457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1600" y="45457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7760" y="45457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72B-5F88-42DF-BB4B-B2AEE600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3C6D-5F13-49B4-BCB9-EA9CF343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42670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BB5F-DAA9-4DAA-9523-FBBD6F61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E555-2859-403E-90D8-08D926D9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DA56-E546-45CE-8338-F858877E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6B53-C751-46E0-9F47-166A1CEC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A316-FB6C-4888-A47A-F78BB0CC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5457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FB20-C021-42E4-9790-2C58801F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42670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DDFA-E364-48E6-BD60-B5B97AD9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16760" y="45457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E971-A6AC-4EBA-8516-09792F33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54572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DAE7-3B52-4343-9F5A-3F7B32E9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54572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6721-CA96-4449-9C7F-89233E4A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5457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16760" y="45457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2584-9F4A-43EF-A859-62C6C8E5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1600" y="42670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77760" y="42670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5457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1600" y="45457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77760" y="45457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D8D7-3888-42ED-8FAD-595B0EA0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5F0-5120-4C3A-8AD2-ADB0A5C5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E0D-FAC7-4AF0-A5FA-8FB29839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A2A-CFAB-467A-BB96-36A861B1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2EA-5799-4104-A582-4DE212FC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5457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E6F-EFBE-41A4-A9E2-2216B4D4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16760" y="45457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712-5E21-458A-AE0A-530558BC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16760" y="42670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54572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A547-04F0-4E8D-9BA8-B392A7D9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270D-137B-478F-A272-F8F9B8075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51A0-022A-4EEE-A2CC-FE2458479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bee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In The Making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42670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bee7"/>
                </a:solidFill>
                <a:latin typeface="Arial"/>
              </a:rPr>
              <a:t>YOUR SUBTITLE GOES HERE</a:t>
            </a:r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64560" y="3808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蓝色大方企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Your Subtopics Go He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0666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023-2E82-4D80-B6F0-24109823A1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element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81080" y="129528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981080" y="411480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638680" y="129528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440" y="42670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bbee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10:4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50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