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camera.wav" ContentType="audio/x-wav"/>
  <Override PartName="/ppt/media/type.wav" ContentType="audio/x-wav"/>
  <Override PartName="/ppt/media/chimes.wav" ContentType="audio/x-wav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138-4724-409C-AD7B-FDF9900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135-4EE2-4A74-9BE1-A9A9A233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5DE-A017-4AF3-B812-76060BA3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F26-D54A-4145-8DCE-ED41F2A1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6D558-E881-405E-9FE9-79153E07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EC9A9-5871-4C4A-820E-BF6013FB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B1DB-3FF2-4426-AF48-AD9DC329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10818-E1EE-4BCB-9B89-52CD5534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730E0-7511-4115-8C9A-1CD51C86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B949-1ECD-44D1-9F56-0CADD5FC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21FA0-949F-4490-B224-5A84DFD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D91-2208-48C9-88E5-49C09CB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217F-9085-446A-B52E-3A3F6AF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CFB0-2E49-4F2E-9885-1625E927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6343C-30A0-4D6B-B25C-30375D0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52056-E4C2-49FF-943B-4A7AC36E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5B124-F150-42B0-A921-1E6AE493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1BF61-9FB3-4CD7-BC78-188BD565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F80B3-BA9A-42C2-A38A-5B19F6CA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15F0C-CB41-49F0-A32A-5336285B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E3AA2-5D4D-4221-8FFD-9AD28A45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C80FA-D87B-4749-AA6B-CB52E2B7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30A-4CAD-4F4D-BB9B-E1C2C84B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2ABCA-5568-4CB5-9ACA-0C92C25C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A50A2-87AC-4A15-9F70-7ADA6CB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08F70-C94F-4653-956F-B4644B8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721B-8792-4AA4-BC04-163DA05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F0989-EB4C-4409-AC6A-AF10F3D2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B6E9E-D42A-45B5-B7F7-AD0F2639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AF5CD-647B-4BB6-8714-E8EF6ADE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0683-9C23-49A1-9C6C-CF5ED54B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722F-8BEF-4363-9667-268BEF3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7AF6-1FC6-4B07-95CE-FF8C7F1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C35-E6C5-472A-8390-F6A9F3F1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655E-F7A9-4352-846B-E7B7D526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7B12-DA5A-4B8E-85DA-4724D028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5C54-46A2-438E-95D1-B714156F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C188-BD2E-4CC6-8BFF-0F0993F7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28FE-91BD-400D-BCE3-E2E69D5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D5D7-969D-4103-B3F1-0807AB7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33AD-3623-4481-B00B-ED0C50F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DF38-0FE4-44AF-B7E8-B064E965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0DD7-B208-4970-82E8-2E39DC7D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BF4E-B227-4EB1-B563-86D39A82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0F4-2D5F-4E1A-B9C3-FD29495C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F6EB-D222-484D-BD74-343E6DAA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31469-27B3-4E98-9601-01E4A56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A75D-AB75-4E52-ACBB-AEA4659C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3DB4E-F5F3-46F0-AF00-E86EFAA4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76572-DFC7-4C41-BD0C-D62CBED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AEC6-27C8-4534-A705-8BCFC08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2CB4-E70F-4BF1-89D9-E72B96B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0CD2-334B-4F6B-96D5-71A885C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58DA-2987-4E4E-A1A2-39AAB641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F9905-147E-4384-B03F-861120E4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273-D931-4170-9981-25211A2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2789-C7CA-4ADF-B53A-D2E54BD1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411FE-263A-4264-93E7-908EEFA3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38028-449C-451D-8899-AD172CEA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2B65-E12D-4F15-94B9-67AEFB0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1000-B74B-4579-9CB2-4D11F06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DCCD6-F268-4E22-BB4A-0304734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022D-D5E5-4D0E-AF32-5D2BB8D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1CEB-6A4B-4D24-8CB0-B54308D4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CF9A-D40B-46BE-86E3-3CCF6CA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922E-31AA-4FA5-A2AD-F0EBAB0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916-CDEB-47D9-BA03-888F384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8B2DD-F4C6-413F-B8AB-AA4082E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CADD-9B3F-431C-8C30-75A6E83C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A2E6-CBDC-4273-97C7-86853CB0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7E2-D3A2-436B-81F7-08E0D4C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9C1-FA95-4B19-BDAA-1677961E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A36-5ABB-434B-BF9E-007320F2C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167-D3D5-4EB8-90E2-0E2B613B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855-3C1D-4110-9058-CF21679943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2D3-1204-4E3A-B173-D2AD64CE5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84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88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213" name="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B6D-CA84-4ACA-A4BA-2DAB81A972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262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266" name="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D9EF-DBBC-47BB-AAE9-6703C57D5D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彭 美 佳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个人简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25400" y="476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蓝色地球背景求职简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个 人 状 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39640" y="2205000"/>
          <a:ext cx="8229600" cy="2297160"/>
        </p:xfrm>
        <a:graphic>
          <a:graphicData uri="http://schemas.openxmlformats.org/drawingml/2006/table">
            <a:tbl>
              <a:tblPr/>
              <a:tblGrid>
                <a:gridCol w="1593720"/>
                <a:gridCol w="1584360"/>
                <a:gridCol w="1584360"/>
                <a:gridCol w="1800360"/>
                <a:gridCol w="1666800"/>
              </a:tblGrid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姓       名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彭美佳 女士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国   籍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中 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民       族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汉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身  材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0cm    60k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       龄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户口所在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北 京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婚姻状况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未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目前所在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北 京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15000">
    <p:blinds dir="horz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求职意向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50920" y="2492280"/>
          <a:ext cx="8569080" cy="2879640"/>
        </p:xfrm>
        <a:graphic>
          <a:graphicData uri="http://schemas.openxmlformats.org/drawingml/2006/table">
            <a:tbl>
              <a:tblPr/>
              <a:tblGrid>
                <a:gridCol w="2142720"/>
                <a:gridCol w="1962360"/>
                <a:gridCol w="2016000"/>
                <a:gridCol w="2448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人才类型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全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应聘职位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书记员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民事诉讼法官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工作年限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职            称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无职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求职类型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全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可到职日期  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随时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月薪要求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面议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希望工作地区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朝阳、怀柔、顺义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checker dir="horz"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工作经历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4000" y="1915920"/>
            <a:ext cx="784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200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   翔鹭化纤厦门有限公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工 作 部 门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朝阳法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所 在 职 位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水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汽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气工程师 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职 位 描 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000T/D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市政自来水的二次供应，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84T/H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纯水生产（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B3T+MB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或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B3T+RO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的运行管理；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00T/D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废水经化学混凝、加压浮除、上浮式厌氧污泥床、推流式活性污泥及接触氧化处理，最后经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系统处理后回用于循环冷却水系统等工艺的运行管理；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循环冷却水系统、循环冷冻水系统的运行管理；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cover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总制冷量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0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冷吨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BARA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吸收式制冷机、特灵离心式制冷       机、约克离心式制冷机、开利离心式制冷机、日立螺杆制冷机、约克螺杆制冷机的运行管理；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生产工艺用中央空调及舒适性环境中央空调的运行管理；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T/H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5kg /cm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燃油蒸汽锅炉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mkcal/H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燃油热载体锅炉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T/H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电热蒸汽锅炉的运行管理；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离心式空压机（英格索兰、库柏、艾律特、阿特拉斯）、空气冷干机、深冷制氮等的运行管理；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上述公用设备的维护保养和维修；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成本能源的核算及控制；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扩建、技改工程的规划、设计、施工监理及调试运行管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mb dir="horz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DFF-E31F-4632-908C-4D12ACD9F9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教育背景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200" y="190512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毕业院校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北京理工大学、北京三警校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最高学历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大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毕业日期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-07-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所学专业一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法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所学专业二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计算机与金融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受教育培训经历：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.9.1-2002.7.1  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北京理工大学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毕业证书编号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0102346554675453) 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英        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.9.1-2004.7.1  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北京三警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毕业证书编号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100075200406001231) 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计算机与金融　   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当时以全校第一名的成绩考上了这所学校　　通过北京地区成人本科学士学位英语统一考试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全班只有我一个人考上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7:17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