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A76D-0726-4261-A99F-CC48280F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454248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F315-4030-4762-9633-33CC1282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45424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45424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934A-8766-4513-BA9E-163F5AD3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4343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4343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45424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45424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45424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E993-A340-49B0-9D0E-CD3C367A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3AA4-35AF-4C50-A553-E1AE7066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024F-4B8E-4816-92D9-F5F9D91F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73E7-7B24-4407-8614-38F1F7C6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5533-5067-494E-A096-806961A8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DA38-D70D-479E-9372-E6CCC568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3733920"/>
            <a:ext cx="9144000" cy="25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5C0A-637D-49F7-B8DB-19B41975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45424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C6ED-A69F-44C0-AEB8-75654A4D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4C52-673D-419E-B239-4937FDE8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45424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F5CC-2C97-4694-A85C-DAA093E1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454248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CE3B-E109-46B3-ABD1-335F19B3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454248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1587-D7D7-4D20-979D-82C696BB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45424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45424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892F-35DE-431D-9AC1-5BB81BF7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4343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4343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45424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45424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45424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C98A-0FF4-43F4-9E97-945A9245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69FD-11F1-4D40-82C0-A9900257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4C06-1998-4A24-8AF6-666AC910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4B8F-DD76-4953-9786-7EDCB36A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3733920"/>
            <a:ext cx="9144000" cy="25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D542-B86A-49D2-9B26-A45F5319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45424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48EF-34C8-43E9-872F-D6C159C0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45424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D58B-4BBA-41DA-8025-29FC7251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454248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3240-A1CA-4D0B-A8EC-FF333A1E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746B-A322-4806-A461-2FB4F4F0ECD1}" type="slidenum">
              <a:rPr b="1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4486c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4486c"/>
                </a:solidFill>
                <a:latin typeface="Arial Blac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4486c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4486c"/>
                </a:solidFill>
                <a:latin typeface="Arial Blac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4486c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9F2E-7EEE-43F6-B1E7-B24FFA75287F}" type="slidenum">
              <a:rPr b="0" lang="en-US" sz="1000" spc="-1" strike="noStrike">
                <a:solidFill>
                  <a:srgbClr val="24486c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336699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336699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336699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336699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Berrylishiou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our Subtitle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50360" y="10666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蓝色海洋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Your Topic Goes Her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403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Your subtopic goes here</a:t>
            </a: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nsitional P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981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Your Topic Goes Her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403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Your subtopic goes here</a:t>
            </a: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4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C2A-5DD5-4E4C-919A-4E6BE342DF8C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03360" y="5122800"/>
            <a:ext cx="2084400" cy="1563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122800"/>
            <a:ext cx="2084400" cy="1563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907320" y="5122800"/>
            <a:ext cx="2084400" cy="1563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52280" y="5122800"/>
            <a:ext cx="2084400" cy="15638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20:21:3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53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