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4A30-0F61-4179-91CD-EECB7D614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800244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4000" y="3702600"/>
            <a:ext cx="800244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6FDF-6CC2-43CE-949A-E9237A7C0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44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4000" y="370260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4400" y="370260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CDDB-8661-40A1-B2B2-E72ED543C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89760" y="105228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5520" y="105228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4000" y="370260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89760" y="370260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95520" y="370260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8A2D-8473-4761-B96C-21D7FCA22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032A4-1140-4732-97B4-051790A38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4000" y="1052280"/>
            <a:ext cx="800244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CEFC1-6805-4849-8074-7BA3AE980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800244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3C239-238D-4C7F-9AEF-9E4D9B8BB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39049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4400" y="1052280"/>
            <a:ext cx="39049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1139C-C38C-4660-9FA5-4FAFAF2A6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5298D-AEC1-40D0-820A-443646874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826920" y="115560"/>
            <a:ext cx="784872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009F6-DD4A-45D9-A8E2-D798D6DE5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4400" y="1052280"/>
            <a:ext cx="39049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4000" y="370260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F2C54-580C-4690-924C-02BC90EA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4000" y="1052280"/>
            <a:ext cx="800244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99D0-3C05-4B33-84D3-5D4114407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39049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44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84400" y="370260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B1C3A-D59B-446A-977F-1F9DE9AF5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44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4000" y="3702600"/>
            <a:ext cx="800244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A9BDB-0298-4F9B-98A4-B50940E0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800244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4000" y="3702600"/>
            <a:ext cx="800244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84CBA-0099-4F17-AFD2-4A8451BED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844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4000" y="370260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84400" y="370260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DE32C-65C1-46B1-A179-01E6E29CA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89760" y="105228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5520" y="105228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4000" y="370260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89760" y="370260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95520" y="3702600"/>
            <a:ext cx="25765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808C8-DA4F-4EA8-A2FC-41348AA50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800244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64C5-9738-4F88-86A0-60DDCC719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39049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4400" y="1052280"/>
            <a:ext cx="39049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9673-C489-4577-A5C6-8F6720703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2042-AFDB-4C5B-B119-9BCE3CB83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26920" y="115560"/>
            <a:ext cx="784872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48DF-F827-418E-B895-FF61A3B3A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4400" y="1052280"/>
            <a:ext cx="39049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370260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270F-C674-47D4-ABEF-46F99F16F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39049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44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4400" y="370260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EAF3-5537-4083-93AB-AA12F899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6920" y="824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4400" y="1052280"/>
            <a:ext cx="39049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000" y="3702600"/>
            <a:ext cx="800244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FA5D-FD88-4449-A0B6-46073207F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440" y="0"/>
            <a:ext cx="9142560" cy="1095480"/>
          </a:xfrm>
          <a:custGeom>
            <a:avLst/>
            <a:gdLst/>
            <a:ahLst/>
            <a:rect l="l" t="t" r="r" b="b"/>
            <a:pathLst>
              <a:path w="5759" h="690">
                <a:moveTo>
                  <a:pt x="452" y="0"/>
                </a:moveTo>
                <a:lnTo>
                  <a:pt x="0" y="522"/>
                </a:lnTo>
                <a:lnTo>
                  <a:pt x="0" y="690"/>
                </a:lnTo>
                <a:lnTo>
                  <a:pt x="455" y="504"/>
                </a:lnTo>
                <a:lnTo>
                  <a:pt x="5759" y="504"/>
                </a:lnTo>
                <a:lnTo>
                  <a:pt x="5759" y="0"/>
                </a:lnTo>
                <a:lnTo>
                  <a:pt x="452" y="0"/>
                </a:lnTo>
                <a:close/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0"/>
            <a:ext cx="8427960" cy="793800"/>
          </a:xfrm>
          <a:custGeom>
            <a:avLst/>
            <a:gdLst/>
            <a:ahLst/>
            <a:rect l="l" t="t" r="r" b="b"/>
            <a:pathLst>
              <a:path w="3636" h="516">
                <a:moveTo>
                  <a:pt x="0" y="0"/>
                </a:moveTo>
                <a:lnTo>
                  <a:pt x="0" y="516"/>
                </a:lnTo>
                <a:lnTo>
                  <a:pt x="3636" y="516"/>
                </a:lnTo>
                <a:lnTo>
                  <a:pt x="3636" y="12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47600"/>
            <a:ext cx="0" cy="5126040"/>
          </a:xfrm>
          <a:prstGeom prst="line">
            <a:avLst/>
          </a:prstGeom>
          <a:ln w="936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-4680" y="6161040"/>
            <a:ext cx="866520" cy="701640"/>
          </a:xfrm>
          <a:custGeom>
            <a:avLst/>
            <a:gdLst/>
            <a:ahLst/>
            <a:rect l="l" t="t" r="r" b="b"/>
            <a:pathLst>
              <a:path w="546" h="442">
                <a:moveTo>
                  <a:pt x="1" y="22"/>
                </a:moveTo>
                <a:lnTo>
                  <a:pt x="546" y="442"/>
                </a:lnTo>
                <a:lnTo>
                  <a:pt x="546" y="382"/>
                </a:lnTo>
                <a:lnTo>
                  <a:pt x="0" y="0"/>
                </a:lnTo>
                <a:lnTo>
                  <a:pt x="1" y="22"/>
                </a:lnTo>
                <a:close/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57160" y="6767640"/>
            <a:ext cx="8286840" cy="903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800280"/>
            <a:ext cx="9144000" cy="5972040"/>
          </a:xfrm>
          <a:custGeom>
            <a:avLst/>
            <a:gdLst/>
            <a:ahLst/>
            <a:rect l="l" t="t" r="r" b="b"/>
            <a:pathLst>
              <a:path w="5760" h="3762">
                <a:moveTo>
                  <a:pt x="5760" y="0"/>
                </a:moveTo>
                <a:lnTo>
                  <a:pt x="438" y="0"/>
                </a:lnTo>
                <a:lnTo>
                  <a:pt x="0" y="180"/>
                </a:lnTo>
                <a:lnTo>
                  <a:pt x="6" y="3378"/>
                </a:lnTo>
                <a:lnTo>
                  <a:pt x="546" y="3762"/>
                </a:lnTo>
                <a:lnTo>
                  <a:pt x="5754" y="3750"/>
                </a:lnTo>
                <a:lnTo>
                  <a:pt x="5760" y="0"/>
                </a:lnTo>
                <a:close/>
              </a:path>
            </a:pathLst>
          </a:custGeom>
          <a:gradFill rotWithShape="0">
            <a:gsLst>
              <a:gs pos="0">
                <a:srgbClr val="37a3d1"/>
              </a:gs>
              <a:gs pos="100000">
                <a:srgbClr val="2f8c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684000" y="1052280"/>
            <a:ext cx="800244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e6e6e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6e6e6"/>
              </a:buClr>
              <a:buSzPct val="7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e6e6e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31111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Gulim"/>
                <a:ea typeface="Gulim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Gulim"/>
                <a:ea typeface="Gulim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577836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Gulim"/>
                <a:ea typeface="Gulim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Gulim"/>
                <a:ea typeface="Gulim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7439400" y="6410160"/>
            <a:ext cx="168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6e6e6"/>
                </a:solidFill>
                <a:latin typeface="Arial"/>
                <a:ea typeface="Gulim"/>
              </a:rPr>
              <a:t>Company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-101880" y="6482880"/>
            <a:ext cx="507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400" spc="-1" strike="noStrike">
                <a:solidFill>
                  <a:srgbClr val="b2b2b2"/>
                </a:solidFill>
                <a:latin typeface="Times New Roman"/>
                <a:ea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D49A6-2950-4A9C-AEE0-89C547AB5CD3}" type="slidenum">
              <a:rPr b="1" lang="ko-KR" sz="1400" spc="-1" strike="noStrike">
                <a:solidFill>
                  <a:srgbClr val="b2b2b2"/>
                </a:solidFill>
                <a:latin typeface="Times New Roman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title"/>
          </p:nvPr>
        </p:nvSpPr>
        <p:spPr>
          <a:xfrm>
            <a:off x="826920" y="115560"/>
            <a:ext cx="78487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425c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78120" y="-9360"/>
            <a:ext cx="7269120" cy="6886440"/>
          </a:xfrm>
          <a:custGeom>
            <a:avLst/>
            <a:gdLst/>
            <a:ahLst/>
            <a:rect l="l" t="t" r="r" b="b"/>
            <a:pathLst>
              <a:path w="4579" h="4338">
                <a:moveTo>
                  <a:pt x="1471" y="0"/>
                </a:moveTo>
                <a:lnTo>
                  <a:pt x="1" y="1020"/>
                </a:lnTo>
                <a:lnTo>
                  <a:pt x="0" y="2805"/>
                </a:lnTo>
                <a:lnTo>
                  <a:pt x="2221" y="4338"/>
                </a:lnTo>
                <a:lnTo>
                  <a:pt x="4579" y="4332"/>
                </a:lnTo>
                <a:lnTo>
                  <a:pt x="4573" y="0"/>
                </a:lnTo>
                <a:lnTo>
                  <a:pt x="1471" y="0"/>
                </a:lnTo>
                <a:close/>
              </a:path>
            </a:pathLst>
          </a:custGeom>
          <a:gradFill rotWithShape="0">
            <a:gsLst>
              <a:gs pos="0">
                <a:srgbClr val="2b81a6"/>
              </a:gs>
              <a:gs pos="100000">
                <a:srgbClr val="37a3d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Gulim"/>
                <a:ea typeface="Gulim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Gulim"/>
                <a:ea typeface="Gulim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Gulim"/>
                <a:ea typeface="Gulim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Gulim"/>
                <a:ea typeface="Gulim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Gulim"/>
                <a:ea typeface="Gulim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5B0A2-B433-4845-A660-471D0D71A865}" type="slidenum">
              <a:rPr b="0" lang="ko-KR" sz="1400" spc="-1" strike="noStrike">
                <a:solidFill>
                  <a:srgbClr val="000000"/>
                </a:solidFill>
                <a:latin typeface="Gulim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851120" y="0"/>
            <a:ext cx="7296120" cy="68817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2050560" y="1557000"/>
            <a:ext cx="496908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6e6e6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6e6e6"/>
              </a:buClr>
              <a:buSzPct val="70000"/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6e6e6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811160" y="1455840"/>
            <a:ext cx="0" cy="3128760"/>
          </a:xfrm>
          <a:prstGeom prst="line">
            <a:avLst/>
          </a:prstGeom>
          <a:ln w="936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71440" y="-4680"/>
            <a:ext cx="1552680" cy="1585800"/>
            <a:chOff x="271440" y="-4680"/>
            <a:chExt cx="1552680" cy="1585800"/>
          </a:xfrm>
        </p:grpSpPr>
        <p:sp>
          <p:nvSpPr>
            <p:cNvPr id="94" name=""/>
            <p:cNvSpPr/>
            <p:nvPr/>
          </p:nvSpPr>
          <p:spPr>
            <a:xfrm>
              <a:off x="1036440" y="-4680"/>
              <a:ext cx="787680" cy="1585800"/>
            </a:xfrm>
            <a:custGeom>
              <a:avLst/>
              <a:gdLst/>
              <a:ahLst/>
              <a:rect l="l" t="t" r="r" b="b"/>
              <a:pathLst>
                <a:path w="496" h="999">
                  <a:moveTo>
                    <a:pt x="84" y="0"/>
                  </a:moveTo>
                  <a:lnTo>
                    <a:pt x="496" y="854"/>
                  </a:lnTo>
                  <a:lnTo>
                    <a:pt x="496" y="999"/>
                  </a:lnTo>
                  <a:lnTo>
                    <a:pt x="0" y="188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71440" y="0"/>
              <a:ext cx="895320" cy="297000"/>
            </a:xfrm>
            <a:custGeom>
              <a:avLst/>
              <a:gdLst/>
              <a:ahLst/>
              <a:rect l="l" t="t" r="r" b="b"/>
              <a:pathLst>
                <a:path w="564" h="187">
                  <a:moveTo>
                    <a:pt x="564" y="0"/>
                  </a:moveTo>
                  <a:lnTo>
                    <a:pt x="482" y="187"/>
                  </a:lnTo>
                  <a:lnTo>
                    <a:pt x="0" y="0"/>
                  </a:lnTo>
                  <a:lnTo>
                    <a:pt x="564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65160" y="4179960"/>
            <a:ext cx="1762200" cy="5284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71640" y="-9360"/>
            <a:ext cx="1895400" cy="1519200"/>
          </a:xfrm>
          <a:custGeom>
            <a:avLst/>
            <a:gdLst/>
            <a:ahLst/>
            <a:rect l="l" t="t" r="r" b="b"/>
            <a:pathLst>
              <a:path w="1194" h="957">
                <a:moveTo>
                  <a:pt x="843" y="0"/>
                </a:moveTo>
                <a:lnTo>
                  <a:pt x="0" y="885"/>
                </a:lnTo>
                <a:lnTo>
                  <a:pt x="0" y="957"/>
                </a:lnTo>
                <a:lnTo>
                  <a:pt x="1194" y="0"/>
                </a:lnTo>
                <a:lnTo>
                  <a:pt x="843" y="0"/>
                </a:lnTo>
                <a:close/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871640" y="-14400"/>
            <a:ext cx="2138400" cy="1581120"/>
          </a:xfrm>
          <a:custGeom>
            <a:avLst/>
            <a:gdLst/>
            <a:ahLst/>
            <a:rect l="l" t="t" r="r" b="b"/>
            <a:pathLst>
              <a:path w="1347" h="996">
                <a:moveTo>
                  <a:pt x="1347" y="0"/>
                </a:moveTo>
                <a:lnTo>
                  <a:pt x="0" y="996"/>
                </a:lnTo>
                <a:lnTo>
                  <a:pt x="0" y="957"/>
                </a:lnTo>
                <a:lnTo>
                  <a:pt x="1191" y="0"/>
                </a:lnTo>
                <a:lnTo>
                  <a:pt x="1347" y="0"/>
                </a:lnTo>
                <a:close/>
              </a:path>
            </a:pathLst>
          </a:custGeom>
          <a:solidFill>
            <a:srgbClr val="37a3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871640" y="-14400"/>
            <a:ext cx="2338560" cy="1627200"/>
          </a:xfrm>
          <a:custGeom>
            <a:avLst/>
            <a:gdLst/>
            <a:ahLst/>
            <a:rect l="l" t="t" r="r" b="b"/>
            <a:pathLst>
              <a:path w="1473" h="1025">
                <a:moveTo>
                  <a:pt x="1473" y="6"/>
                </a:moveTo>
                <a:lnTo>
                  <a:pt x="2" y="1025"/>
                </a:lnTo>
                <a:lnTo>
                  <a:pt x="0" y="995"/>
                </a:lnTo>
                <a:lnTo>
                  <a:pt x="1344" y="0"/>
                </a:lnTo>
                <a:lnTo>
                  <a:pt x="1473" y="6"/>
                </a:lnTo>
                <a:close/>
              </a:path>
            </a:pathLst>
          </a:custGeom>
          <a:solidFill>
            <a:srgbClr val="1142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874880" y="4437000"/>
            <a:ext cx="3525840" cy="2435400"/>
          </a:xfrm>
          <a:custGeom>
            <a:avLst/>
            <a:gdLst/>
            <a:ahLst/>
            <a:rect l="l" t="t" r="r" b="b"/>
            <a:pathLst>
              <a:path w="2221" h="1534">
                <a:moveTo>
                  <a:pt x="2221" y="1533"/>
                </a:moveTo>
                <a:lnTo>
                  <a:pt x="0" y="0"/>
                </a:lnTo>
                <a:lnTo>
                  <a:pt x="1" y="25"/>
                </a:lnTo>
                <a:lnTo>
                  <a:pt x="2059" y="1534"/>
                </a:lnTo>
                <a:lnTo>
                  <a:pt x="2221" y="1533"/>
                </a:lnTo>
                <a:close/>
              </a:path>
            </a:pathLst>
          </a:custGeom>
          <a:solidFill>
            <a:srgbClr val="1142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876320" y="4475160"/>
            <a:ext cx="3265560" cy="2392200"/>
          </a:xfrm>
          <a:custGeom>
            <a:avLst/>
            <a:gdLst/>
            <a:ahLst/>
            <a:rect l="l" t="t" r="r" b="b"/>
            <a:pathLst>
              <a:path w="2057" h="1507">
                <a:moveTo>
                  <a:pt x="2057" y="1507"/>
                </a:moveTo>
                <a:lnTo>
                  <a:pt x="0" y="0"/>
                </a:lnTo>
                <a:lnTo>
                  <a:pt x="0" y="30"/>
                </a:lnTo>
                <a:lnTo>
                  <a:pt x="1857" y="1507"/>
                </a:lnTo>
                <a:lnTo>
                  <a:pt x="2057" y="1507"/>
                </a:lnTo>
                <a:close/>
              </a:path>
            </a:pathLst>
          </a:custGeom>
          <a:solidFill>
            <a:srgbClr val="37a3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871640" y="4518000"/>
            <a:ext cx="2946600" cy="2344680"/>
          </a:xfrm>
          <a:custGeom>
            <a:avLst/>
            <a:gdLst/>
            <a:ahLst/>
            <a:rect l="l" t="t" r="r" b="b"/>
            <a:pathLst>
              <a:path w="1856" h="1477">
                <a:moveTo>
                  <a:pt x="1344" y="1474"/>
                </a:moveTo>
                <a:lnTo>
                  <a:pt x="0" y="97"/>
                </a:lnTo>
                <a:lnTo>
                  <a:pt x="0" y="0"/>
                </a:lnTo>
                <a:lnTo>
                  <a:pt x="1856" y="1474"/>
                </a:lnTo>
                <a:lnTo>
                  <a:pt x="1848" y="1477"/>
                </a:lnTo>
                <a:lnTo>
                  <a:pt x="1344" y="1474"/>
                </a:lnTo>
                <a:close/>
              </a:path>
            </a:pathLst>
          </a:custGeom>
          <a:solidFill>
            <a:srgbClr val="89c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6360" y="4248000"/>
            <a:ext cx="1317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425c"/>
                </a:solidFill>
                <a:latin typeface="Arial"/>
                <a:ea typeface="Gulim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1425c"/>
                </a:solidFill>
                <a:latin typeface="Arial"/>
                <a:ea typeface="Gulim"/>
              </a:rPr>
              <a:t>Company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876320" y="1552680"/>
            <a:ext cx="0" cy="2957400"/>
          </a:xfrm>
          <a:prstGeom prst="line">
            <a:avLst/>
          </a:prstGeom>
          <a:ln w="9360">
            <a:solidFill>
              <a:srgbClr val="37a3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50560" y="1557000"/>
            <a:ext cx="496908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PowerPoint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esign Template 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2050560" y="2636640"/>
            <a:ext cx="54738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dd your subheading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1808280" y="-9360"/>
            <a:ext cx="7332480" cy="6946560"/>
          </a:xfrm>
          <a:custGeom>
            <a:avLst/>
            <a:gdLst/>
            <a:ahLst/>
            <a:rect l="l" t="t" r="r" b="b"/>
            <a:pathLst>
              <a:path w="4579" h="4338">
                <a:moveTo>
                  <a:pt x="1471" y="0"/>
                </a:moveTo>
                <a:lnTo>
                  <a:pt x="1" y="1020"/>
                </a:lnTo>
                <a:lnTo>
                  <a:pt x="0" y="2805"/>
                </a:lnTo>
                <a:lnTo>
                  <a:pt x="2221" y="4338"/>
                </a:lnTo>
                <a:lnTo>
                  <a:pt x="4579" y="4332"/>
                </a:lnTo>
                <a:lnTo>
                  <a:pt x="4573" y="0"/>
                </a:lnTo>
                <a:lnTo>
                  <a:pt x="147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56040" y="1917720"/>
            <a:ext cx="434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蓝色经典报告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500"/>
                            </p:stCondLst>
                            <p:childTnLst>
                              <p:par>
                                <p:cTn id="3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500"/>
                            </p:stCondLst>
                            <p:childTnLst>
                              <p:par>
                                <p:cTn id="4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0"/>
                            </p:stCondLst>
                            <p:childTnLst>
                              <p:par>
                                <p:cTn id="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500"/>
                            </p:stCondLst>
                            <p:childTnLst>
                              <p:par>
                                <p:cTn id="53" nodeType="after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5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579600" y="1992240"/>
            <a:ext cx="7953120" cy="4308480"/>
          </a:xfrm>
          <a:prstGeom prst="rect">
            <a:avLst/>
          </a:prstGeom>
          <a:gradFill rotWithShape="0">
            <a:gsLst>
              <a:gs pos="0">
                <a:srgbClr val="37a3d1"/>
              </a:gs>
              <a:gs pos="100000">
                <a:srgbClr val="2286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77800" y="1397160"/>
            <a:ext cx="2540160" cy="4432320"/>
          </a:xfrm>
          <a:custGeom>
            <a:avLst/>
            <a:gdLst>
              <a:gd name="textAreaLeft" fmla="*/ 86760 w 2540160"/>
              <a:gd name="textAreaRight" fmla="*/ 2453400 w 2540160"/>
              <a:gd name="textAreaTop" fmla="*/ 86760 h 4432320"/>
              <a:gd name="textAreaBottom" fmla="*/ 4345560 h 4432320"/>
            </a:gdLst>
            <a:ahLst/>
            <a:rect l="textAreaLeft" t="textAreaTop" r="textAreaRight" b="textAreaBottom"/>
            <a:pathLst>
              <a:path w="21600" h="37688">
                <a:moveTo>
                  <a:pt x="2521" y="0"/>
                </a:moveTo>
                <a:arcTo wR="2521" hR="2521" stAng="16200000" swAng="-5400000"/>
                <a:lnTo>
                  <a:pt x="0" y="35167"/>
                </a:lnTo>
                <a:arcTo wR="2521" hR="2521" stAng="10800000" swAng="-5400000"/>
                <a:lnTo>
                  <a:pt x="19079" y="37688"/>
                </a:lnTo>
                <a:arcTo wR="2521" hR="2521" stAng="5400000" swAng="-5400000"/>
                <a:lnTo>
                  <a:pt x="21600" y="2521"/>
                </a:lnTo>
                <a:arcTo wR="2521" hR="2521" stAng="0" swAng="-5400000"/>
                <a:close/>
              </a:path>
            </a:pathLst>
          </a:custGeom>
          <a:gradFill rotWithShape="0">
            <a:gsLst>
              <a:gs pos="0">
                <a:srgbClr val="11425c"/>
              </a:gs>
              <a:gs pos="100000">
                <a:srgbClr val="2286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1680" y="1984320"/>
            <a:ext cx="254628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62120" y="46080"/>
            <a:ext cx="82166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425c"/>
                </a:solidFill>
                <a:latin typeface="Verdana"/>
              </a:rPr>
              <a:t>Click to edit headline</a:t>
            </a: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228" name=""/>
          <p:cNvSpPr/>
          <p:nvPr/>
        </p:nvSpPr>
        <p:spPr>
          <a:xfrm>
            <a:off x="1402200" y="149688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resul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71680" y="5578560"/>
            <a:ext cx="254628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229040" y="5751360"/>
            <a:ext cx="11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▲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7%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282680" y="5803920"/>
            <a:ext cx="30492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270240" y="1397160"/>
            <a:ext cx="2540160" cy="4432320"/>
          </a:xfrm>
          <a:custGeom>
            <a:avLst/>
            <a:gdLst>
              <a:gd name="textAreaLeft" fmla="*/ 86760 w 2540160"/>
              <a:gd name="textAreaRight" fmla="*/ 2453400 w 2540160"/>
              <a:gd name="textAreaTop" fmla="*/ 86760 h 4432320"/>
              <a:gd name="textAreaBottom" fmla="*/ 4345560 h 4432320"/>
            </a:gdLst>
            <a:ahLst/>
            <a:rect l="textAreaLeft" t="textAreaTop" r="textAreaRight" b="textAreaBottom"/>
            <a:pathLst>
              <a:path w="21600" h="37688">
                <a:moveTo>
                  <a:pt x="2521" y="0"/>
                </a:moveTo>
                <a:arcTo wR="2521" hR="2521" stAng="16200000" swAng="-5400000"/>
                <a:lnTo>
                  <a:pt x="0" y="35167"/>
                </a:lnTo>
                <a:arcTo wR="2521" hR="2521" stAng="10800000" swAng="-5400000"/>
                <a:lnTo>
                  <a:pt x="19079" y="37688"/>
                </a:lnTo>
                <a:arcTo wR="2521" hR="2521" stAng="5400000" swAng="-5400000"/>
                <a:lnTo>
                  <a:pt x="21600" y="2521"/>
                </a:lnTo>
                <a:arcTo wR="2521" hR="2521" stAng="0" swAng="-5400000"/>
                <a:close/>
              </a:path>
            </a:pathLst>
          </a:custGeom>
          <a:gradFill rotWithShape="0">
            <a:gsLst>
              <a:gs pos="0">
                <a:srgbClr val="11425c"/>
              </a:gs>
              <a:gs pos="100000">
                <a:srgbClr val="2286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63760" y="1984320"/>
            <a:ext cx="254664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094640" y="149688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resul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263760" y="5578560"/>
            <a:ext cx="254664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21480" y="5751360"/>
            <a:ext cx="11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▲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7%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975120" y="5803920"/>
            <a:ext cx="30492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962680" y="1397160"/>
            <a:ext cx="2539800" cy="4432320"/>
          </a:xfrm>
          <a:custGeom>
            <a:avLst/>
            <a:gdLst>
              <a:gd name="textAreaLeft" fmla="*/ 86760 w 2539800"/>
              <a:gd name="textAreaRight" fmla="*/ 2453040 w 2539800"/>
              <a:gd name="textAreaTop" fmla="*/ 86760 h 4432320"/>
              <a:gd name="textAreaBottom" fmla="*/ 4345560 h 4432320"/>
            </a:gdLst>
            <a:ahLst/>
            <a:rect l="textAreaLeft" t="textAreaTop" r="textAreaRight" b="textAreaBottom"/>
            <a:pathLst>
              <a:path w="21600" h="37693">
                <a:moveTo>
                  <a:pt x="2521" y="0"/>
                </a:moveTo>
                <a:arcTo wR="2521" hR="2521" stAng="16200000" swAng="-5400000"/>
                <a:lnTo>
                  <a:pt x="0" y="35172"/>
                </a:lnTo>
                <a:arcTo wR="2521" hR="2521" stAng="10800000" swAng="-5400000"/>
                <a:lnTo>
                  <a:pt x="19079" y="37693"/>
                </a:lnTo>
                <a:arcTo wR="2521" hR="2521" stAng="5400000" swAng="-5400000"/>
                <a:lnTo>
                  <a:pt x="21600" y="2521"/>
                </a:lnTo>
                <a:arcTo wR="2521" hR="2521" stAng="0" swAng="-5400000"/>
                <a:close/>
              </a:path>
            </a:pathLst>
          </a:custGeom>
          <a:gradFill rotWithShape="0">
            <a:gsLst>
              <a:gs pos="0">
                <a:srgbClr val="11425c"/>
              </a:gs>
              <a:gs pos="100000">
                <a:srgbClr val="2286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956200" y="1984320"/>
            <a:ext cx="254628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787080" y="149688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resul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956200" y="5578560"/>
            <a:ext cx="254628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79440" y="4368960"/>
            <a:ext cx="768600" cy="484200"/>
          </a:xfrm>
          <a:custGeom>
            <a:avLst/>
            <a:gdLst/>
            <a:ahLst/>
            <a:rect l="l" t="t" r="r" b="b"/>
            <a:pathLst>
              <a:path w="484" h="305">
                <a:moveTo>
                  <a:pt x="0" y="304"/>
                </a:moveTo>
                <a:lnTo>
                  <a:pt x="304" y="0"/>
                </a:lnTo>
                <a:lnTo>
                  <a:pt x="484" y="1"/>
                </a:lnTo>
                <a:lnTo>
                  <a:pt x="210" y="305"/>
                </a:lnTo>
                <a:lnTo>
                  <a:pt x="0" y="304"/>
                </a:lnTo>
                <a:close/>
              </a:path>
            </a:pathLst>
          </a:custGeom>
          <a:gradFill rotWithShape="0">
            <a:gsLst>
              <a:gs pos="0">
                <a:srgbClr val="11425c">
                  <a:alpha val="0"/>
                </a:srgbClr>
              </a:gs>
              <a:gs pos="100000">
                <a:srgbClr val="071e2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613920" y="5751360"/>
            <a:ext cx="11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▲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7%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667560" y="5803920"/>
            <a:ext cx="30492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104920" y="4356000"/>
            <a:ext cx="768600" cy="484200"/>
          </a:xfrm>
          <a:custGeom>
            <a:avLst/>
            <a:gdLst/>
            <a:ahLst/>
            <a:rect l="l" t="t" r="r" b="b"/>
            <a:pathLst>
              <a:path w="484" h="305">
                <a:moveTo>
                  <a:pt x="0" y="304"/>
                </a:moveTo>
                <a:lnTo>
                  <a:pt x="304" y="0"/>
                </a:lnTo>
                <a:lnTo>
                  <a:pt x="484" y="1"/>
                </a:lnTo>
                <a:lnTo>
                  <a:pt x="210" y="305"/>
                </a:lnTo>
                <a:lnTo>
                  <a:pt x="0" y="304"/>
                </a:lnTo>
                <a:close/>
              </a:path>
            </a:pathLst>
          </a:custGeom>
          <a:gradFill rotWithShape="0">
            <a:gsLst>
              <a:gs pos="0">
                <a:srgbClr val="11425c">
                  <a:alpha val="0"/>
                </a:srgbClr>
              </a:gs>
              <a:gs pos="100000">
                <a:srgbClr val="071e2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826920" y="2101680"/>
          <a:ext cx="2305080" cy="31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101680"/>
                    <a:ext cx="2305080" cy="31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>
            <a:off x="4149720" y="4371840"/>
            <a:ext cx="676440" cy="484200"/>
          </a:xfrm>
          <a:custGeom>
            <a:avLst/>
            <a:gdLst/>
            <a:ahLst/>
            <a:rect l="l" t="t" r="r" b="b"/>
            <a:pathLst>
              <a:path w="484" h="305">
                <a:moveTo>
                  <a:pt x="0" y="304"/>
                </a:moveTo>
                <a:lnTo>
                  <a:pt x="304" y="0"/>
                </a:lnTo>
                <a:lnTo>
                  <a:pt x="484" y="1"/>
                </a:lnTo>
                <a:lnTo>
                  <a:pt x="210" y="305"/>
                </a:lnTo>
                <a:lnTo>
                  <a:pt x="0" y="304"/>
                </a:lnTo>
                <a:close/>
              </a:path>
            </a:pathLst>
          </a:custGeom>
          <a:gradFill rotWithShape="0">
            <a:gsLst>
              <a:gs pos="0">
                <a:srgbClr val="11425c">
                  <a:alpha val="0"/>
                </a:srgbClr>
              </a:gs>
              <a:gs pos="100000">
                <a:srgbClr val="071e2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889520" y="4362480"/>
            <a:ext cx="676080" cy="484200"/>
          </a:xfrm>
          <a:custGeom>
            <a:avLst/>
            <a:gdLst/>
            <a:ahLst/>
            <a:rect l="l" t="t" r="r" b="b"/>
            <a:pathLst>
              <a:path w="484" h="305">
                <a:moveTo>
                  <a:pt x="0" y="304"/>
                </a:moveTo>
                <a:lnTo>
                  <a:pt x="304" y="0"/>
                </a:lnTo>
                <a:lnTo>
                  <a:pt x="484" y="1"/>
                </a:lnTo>
                <a:lnTo>
                  <a:pt x="210" y="305"/>
                </a:lnTo>
                <a:lnTo>
                  <a:pt x="0" y="304"/>
                </a:lnTo>
                <a:close/>
              </a:path>
            </a:pathLst>
          </a:custGeom>
          <a:gradFill rotWithShape="0">
            <a:gsLst>
              <a:gs pos="0">
                <a:srgbClr val="11425c">
                  <a:alpha val="0"/>
                </a:srgbClr>
              </a:gs>
              <a:gs pos="100000">
                <a:srgbClr val="071e2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3365640" y="2184480"/>
          <a:ext cx="2468520" cy="323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65640" y="2184480"/>
                    <a:ext cx="2468520" cy="32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>
            <a:off x="6667560" y="4349880"/>
            <a:ext cx="676080" cy="484200"/>
          </a:xfrm>
          <a:custGeom>
            <a:avLst/>
            <a:gdLst/>
            <a:ahLst/>
            <a:rect l="l" t="t" r="r" b="b"/>
            <a:pathLst>
              <a:path w="484" h="305">
                <a:moveTo>
                  <a:pt x="0" y="304"/>
                </a:moveTo>
                <a:lnTo>
                  <a:pt x="304" y="0"/>
                </a:lnTo>
                <a:lnTo>
                  <a:pt x="484" y="1"/>
                </a:lnTo>
                <a:lnTo>
                  <a:pt x="210" y="305"/>
                </a:lnTo>
                <a:lnTo>
                  <a:pt x="0" y="304"/>
                </a:lnTo>
                <a:close/>
              </a:path>
            </a:pathLst>
          </a:custGeom>
          <a:gradFill rotWithShape="0">
            <a:gsLst>
              <a:gs pos="0">
                <a:srgbClr val="11425c">
                  <a:alpha val="0"/>
                </a:srgbClr>
              </a:gs>
              <a:gs pos="100000">
                <a:srgbClr val="071e2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493040" y="4340160"/>
            <a:ext cx="676080" cy="484200"/>
          </a:xfrm>
          <a:custGeom>
            <a:avLst/>
            <a:gdLst/>
            <a:ahLst/>
            <a:rect l="l" t="t" r="r" b="b"/>
            <a:pathLst>
              <a:path w="484" h="305">
                <a:moveTo>
                  <a:pt x="0" y="304"/>
                </a:moveTo>
                <a:lnTo>
                  <a:pt x="304" y="0"/>
                </a:lnTo>
                <a:lnTo>
                  <a:pt x="484" y="1"/>
                </a:lnTo>
                <a:lnTo>
                  <a:pt x="210" y="305"/>
                </a:lnTo>
                <a:lnTo>
                  <a:pt x="0" y="304"/>
                </a:lnTo>
                <a:close/>
              </a:path>
            </a:pathLst>
          </a:custGeom>
          <a:gradFill rotWithShape="0">
            <a:gsLst>
              <a:gs pos="0">
                <a:srgbClr val="11425c">
                  <a:alpha val="0"/>
                </a:srgbClr>
              </a:gs>
              <a:gs pos="100000">
                <a:srgbClr val="071e2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5"/>
          <a:stretch/>
        </p:blipFill>
        <p:spPr>
          <a:xfrm>
            <a:off x="6058080" y="2044800"/>
            <a:ext cx="2468520" cy="3238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4630-5983-4E1F-9F36-1206123B658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1425c"/>
                </a:solidFill>
                <a:latin typeface="Verdana"/>
              </a:rPr>
              <a:t>使用规范说明</a:t>
            </a: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89cfe8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89cfe8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89cfe8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89cfe8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89cfe8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89cfe8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89cfe8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89cfe8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89cfe8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89cfe8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89cfe8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89cfe8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89cfe8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89cfe8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89cfe8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89cfe8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89cfe8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89cfe8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89cfe8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89cfe8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89cfe8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89cfe8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89cfe8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89cfe8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89cfe8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18CC-1CCE-4523-BC6A-3065BF61738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62120" y="46080"/>
            <a:ext cx="82166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425c"/>
                </a:solidFill>
                <a:latin typeface="Verdana"/>
              </a:rPr>
              <a:t>Click to edit headline</a:t>
            </a: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259" name=""/>
          <p:cNvSpPr/>
          <p:nvPr/>
        </p:nvSpPr>
        <p:spPr>
          <a:xfrm>
            <a:off x="482760" y="1574640"/>
            <a:ext cx="8159760" cy="451512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79600" y="1663560"/>
            <a:ext cx="7953120" cy="4294440"/>
          </a:xfrm>
          <a:prstGeom prst="rect">
            <a:avLst/>
          </a:prstGeom>
          <a:gradFill rotWithShape="0">
            <a:gsLst>
              <a:gs pos="0">
                <a:srgbClr val="37a3d1"/>
              </a:gs>
              <a:gs pos="100000">
                <a:srgbClr val="2286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473040" y="1353960"/>
            <a:ext cx="4352760" cy="507960"/>
            <a:chOff x="473040" y="1353960"/>
            <a:chExt cx="4352760" cy="507960"/>
          </a:xfrm>
        </p:grpSpPr>
        <p:sp>
          <p:nvSpPr>
            <p:cNvPr id="262" name=""/>
            <p:cNvSpPr/>
            <p:nvPr/>
          </p:nvSpPr>
          <p:spPr>
            <a:xfrm>
              <a:off x="709560" y="1369800"/>
              <a:ext cx="4116240" cy="48744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3040" y="1353960"/>
              <a:ext cx="939960" cy="507960"/>
            </a:xfrm>
            <a:custGeom>
              <a:avLst/>
              <a:gdLst/>
              <a:ahLst/>
              <a:rect l="l" t="t" r="r" b="b"/>
              <a:pathLst>
                <a:path w="1334" h="491">
                  <a:moveTo>
                    <a:pt x="2" y="0"/>
                  </a:moveTo>
                  <a:lnTo>
                    <a:pt x="0" y="491"/>
                  </a:lnTo>
                  <a:lnTo>
                    <a:pt x="872" y="491"/>
                  </a:lnTo>
                  <a:lnTo>
                    <a:pt x="1334" y="0"/>
                  </a:lnTo>
                  <a:lnTo>
                    <a:pt x="2" y="0"/>
                  </a:lnTo>
                  <a:close/>
                </a:path>
              </a:pathLst>
            </a:custGeom>
            <a:gradFill rotWithShape="0">
              <a:gsLst>
                <a:gs pos="0">
                  <a:srgbClr val="11425c"/>
                </a:gs>
                <a:gs pos="100000">
                  <a:srgbClr val="2286b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461600" y="1457280"/>
              <a:ext cx="228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Gulim"/>
                </a:rPr>
                <a:t>Click to edit your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30120" y="843120"/>
            <a:ext cx="7923240" cy="532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740D-6EA0-49DE-86E9-951C9902F9C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46080"/>
            <a:ext cx="82166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425c"/>
                </a:solidFill>
                <a:latin typeface="Verdana"/>
              </a:rPr>
              <a:t>Contents</a:t>
            </a: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857240" y="1735200"/>
            <a:ext cx="6029280" cy="709560"/>
            <a:chOff x="1857240" y="1735200"/>
            <a:chExt cx="6029280" cy="709560"/>
          </a:xfrm>
        </p:grpSpPr>
        <p:sp>
          <p:nvSpPr>
            <p:cNvPr id="112" name=""/>
            <p:cNvSpPr/>
            <p:nvPr/>
          </p:nvSpPr>
          <p:spPr>
            <a:xfrm>
              <a:off x="2185920" y="1763640"/>
              <a:ext cx="5700600" cy="67500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857240" y="1741680"/>
              <a:ext cx="1301760" cy="703080"/>
            </a:xfrm>
            <a:custGeom>
              <a:avLst/>
              <a:gdLst/>
              <a:ahLst/>
              <a:rect l="l" t="t" r="r" b="b"/>
              <a:pathLst>
                <a:path w="1334" h="491">
                  <a:moveTo>
                    <a:pt x="2" y="0"/>
                  </a:moveTo>
                  <a:lnTo>
                    <a:pt x="0" y="491"/>
                  </a:lnTo>
                  <a:lnTo>
                    <a:pt x="872" y="491"/>
                  </a:lnTo>
                  <a:lnTo>
                    <a:pt x="1334" y="0"/>
                  </a:lnTo>
                  <a:lnTo>
                    <a:pt x="2" y="0"/>
                  </a:lnTo>
                  <a:close/>
                </a:path>
              </a:pathLst>
            </a:custGeom>
            <a:gradFill rotWithShape="0">
              <a:gsLst>
                <a:gs pos="0">
                  <a:srgbClr val="11425c"/>
                </a:gs>
                <a:gs pos="100000">
                  <a:srgbClr val="2286b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034000" y="1735200"/>
              <a:ext cx="47016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85328" dir="1593903" blurRad="0" rotWithShape="0">
                <a:srgbClr val="11425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e6e6e6"/>
                  </a:solidFill>
                  <a:latin typeface="Verdana"/>
                  <a:ea typeface="Gulim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68080" y="1860480"/>
              <a:ext cx="197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Intro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1857240" y="2712960"/>
            <a:ext cx="6029280" cy="709560"/>
            <a:chOff x="1857240" y="2712960"/>
            <a:chExt cx="6029280" cy="709560"/>
          </a:xfrm>
        </p:grpSpPr>
        <p:sp>
          <p:nvSpPr>
            <p:cNvPr id="117" name=""/>
            <p:cNvSpPr/>
            <p:nvPr/>
          </p:nvSpPr>
          <p:spPr>
            <a:xfrm>
              <a:off x="2185920" y="2741400"/>
              <a:ext cx="5700600" cy="67500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857240" y="2719440"/>
              <a:ext cx="1301760" cy="703080"/>
            </a:xfrm>
            <a:custGeom>
              <a:avLst/>
              <a:gdLst/>
              <a:ahLst/>
              <a:rect l="l" t="t" r="r" b="b"/>
              <a:pathLst>
                <a:path w="1334" h="491">
                  <a:moveTo>
                    <a:pt x="2" y="0"/>
                  </a:moveTo>
                  <a:lnTo>
                    <a:pt x="0" y="491"/>
                  </a:lnTo>
                  <a:lnTo>
                    <a:pt x="872" y="491"/>
                  </a:lnTo>
                  <a:lnTo>
                    <a:pt x="1334" y="0"/>
                  </a:lnTo>
                  <a:lnTo>
                    <a:pt x="2" y="0"/>
                  </a:lnTo>
                  <a:close/>
                </a:path>
              </a:pathLst>
            </a:custGeom>
            <a:gradFill rotWithShape="0">
              <a:gsLst>
                <a:gs pos="0">
                  <a:srgbClr val="11425c"/>
                </a:gs>
                <a:gs pos="100000">
                  <a:srgbClr val="2286b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034000" y="2712960"/>
              <a:ext cx="47016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85328" dir="1593903" blurRad="0" rotWithShape="0">
                <a:srgbClr val="11425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e6e6e6"/>
                  </a:solidFill>
                  <a:latin typeface="Verdana"/>
                  <a:ea typeface="Gulim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281400" y="2838240"/>
              <a:ext cx="138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Strate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857240" y="3691080"/>
            <a:ext cx="6029280" cy="709560"/>
            <a:chOff x="1857240" y="3691080"/>
            <a:chExt cx="6029280" cy="709560"/>
          </a:xfrm>
        </p:grpSpPr>
        <p:sp>
          <p:nvSpPr>
            <p:cNvPr id="122" name=""/>
            <p:cNvSpPr/>
            <p:nvPr/>
          </p:nvSpPr>
          <p:spPr>
            <a:xfrm>
              <a:off x="2185920" y="3719520"/>
              <a:ext cx="5700600" cy="67500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857240" y="3697560"/>
              <a:ext cx="1301760" cy="703080"/>
            </a:xfrm>
            <a:custGeom>
              <a:avLst/>
              <a:gdLst/>
              <a:ahLst/>
              <a:rect l="l" t="t" r="r" b="b"/>
              <a:pathLst>
                <a:path w="1334" h="491">
                  <a:moveTo>
                    <a:pt x="2" y="0"/>
                  </a:moveTo>
                  <a:lnTo>
                    <a:pt x="0" y="491"/>
                  </a:lnTo>
                  <a:lnTo>
                    <a:pt x="872" y="491"/>
                  </a:lnTo>
                  <a:lnTo>
                    <a:pt x="1334" y="0"/>
                  </a:lnTo>
                  <a:lnTo>
                    <a:pt x="2" y="0"/>
                  </a:lnTo>
                  <a:close/>
                </a:path>
              </a:pathLst>
            </a:custGeom>
            <a:gradFill rotWithShape="0">
              <a:gsLst>
                <a:gs pos="0">
                  <a:srgbClr val="11425c"/>
                </a:gs>
                <a:gs pos="100000">
                  <a:srgbClr val="2286b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34000" y="3691080"/>
              <a:ext cx="47016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85328" dir="1593903" blurRad="0" rotWithShape="0">
                <a:srgbClr val="11425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e6e6e6"/>
                  </a:solidFill>
                  <a:latin typeface="Verdana"/>
                  <a:ea typeface="Gulim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305880" y="3816360"/>
              <a:ext cx="303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Challenges Forwar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1857240" y="4668840"/>
            <a:ext cx="6029280" cy="709560"/>
            <a:chOff x="1857240" y="4668840"/>
            <a:chExt cx="6029280" cy="709560"/>
          </a:xfrm>
        </p:grpSpPr>
        <p:sp>
          <p:nvSpPr>
            <p:cNvPr id="127" name=""/>
            <p:cNvSpPr/>
            <p:nvPr/>
          </p:nvSpPr>
          <p:spPr>
            <a:xfrm>
              <a:off x="2185920" y="4697280"/>
              <a:ext cx="5700600" cy="67500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857240" y="4675320"/>
              <a:ext cx="1301760" cy="703080"/>
            </a:xfrm>
            <a:custGeom>
              <a:avLst/>
              <a:gdLst/>
              <a:ahLst/>
              <a:rect l="l" t="t" r="r" b="b"/>
              <a:pathLst>
                <a:path w="1334" h="491">
                  <a:moveTo>
                    <a:pt x="2" y="0"/>
                  </a:moveTo>
                  <a:lnTo>
                    <a:pt x="0" y="491"/>
                  </a:lnTo>
                  <a:lnTo>
                    <a:pt x="872" y="491"/>
                  </a:lnTo>
                  <a:lnTo>
                    <a:pt x="1334" y="0"/>
                  </a:lnTo>
                  <a:lnTo>
                    <a:pt x="2" y="0"/>
                  </a:lnTo>
                  <a:close/>
                </a:path>
              </a:pathLst>
            </a:custGeom>
            <a:gradFill rotWithShape="0">
              <a:gsLst>
                <a:gs pos="0">
                  <a:srgbClr val="11425c"/>
                </a:gs>
                <a:gs pos="100000">
                  <a:srgbClr val="2286b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034000" y="4668840"/>
              <a:ext cx="47016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85328" dir="1593903" blurRad="0" rotWithShape="0">
                <a:srgbClr val="11425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e6e6e6"/>
                  </a:solidFill>
                  <a:latin typeface="Verdana"/>
                  <a:ea typeface="Gulim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60160" y="4794120"/>
              <a:ext cx="175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Conclus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4D55-7249-4874-9167-2F9451CD941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500"/>
                            </p:stCondLst>
                            <p:childTnLst>
                              <p:par>
                                <p:cTn id="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46080"/>
            <a:ext cx="82166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425c"/>
                </a:solidFill>
                <a:latin typeface="Verdana"/>
              </a:rPr>
              <a:t>Click to edit headline</a:t>
            </a: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800244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mpetito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You may want to allocate one slide per competito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rength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Your strengths relative to competito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akness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Your weaknesses relative to competito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3484-BA14-4B94-B0A3-C9263CB4B5B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46080"/>
            <a:ext cx="82166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425c"/>
                </a:solidFill>
                <a:latin typeface="Verdana"/>
              </a:rPr>
              <a:t>Click to edit headline</a:t>
            </a: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482760" y="1574640"/>
            <a:ext cx="8159760" cy="451512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9600" y="1663560"/>
            <a:ext cx="7953120" cy="4294440"/>
          </a:xfrm>
          <a:prstGeom prst="rect">
            <a:avLst/>
          </a:prstGeom>
          <a:gradFill rotWithShape="0">
            <a:gsLst>
              <a:gs pos="0">
                <a:srgbClr val="37a3d1"/>
              </a:gs>
              <a:gs pos="100000">
                <a:srgbClr val="2286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52760" y="2438280"/>
            <a:ext cx="2195280" cy="1092240"/>
          </a:xfrm>
          <a:custGeom>
            <a:avLst/>
            <a:gdLst>
              <a:gd name="textAreaLeft" fmla="*/ 0 w 2195280"/>
              <a:gd name="textAreaRight" fmla="*/ 2195640 w 2195280"/>
              <a:gd name="textAreaTop" fmla="*/ 0 h 1092240"/>
              <a:gd name="textAreaBottom" fmla="*/ 1092600 h 10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37a3d1"/>
              </a:gs>
              <a:gs pos="100000">
                <a:srgbClr val="89cfe8"/>
              </a:gs>
            </a:gsLst>
            <a:lin ang="10800000"/>
          </a:gradFill>
          <a:ln w="12600">
            <a:solidFill>
              <a:srgbClr val="2286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49160" y="2438280"/>
            <a:ext cx="2195640" cy="1092240"/>
          </a:xfrm>
          <a:custGeom>
            <a:avLst/>
            <a:gdLst>
              <a:gd name="textAreaLeft" fmla="*/ 0 w 2195640"/>
              <a:gd name="textAreaRight" fmla="*/ 2195640 w 2195640"/>
              <a:gd name="textAreaTop" fmla="*/ 0 h 1092240"/>
              <a:gd name="textAreaBottom" fmla="*/ 1092600 h 10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89cfe8"/>
              </a:gs>
              <a:gs pos="100000">
                <a:srgbClr val="ffffff"/>
              </a:gs>
            </a:gsLst>
            <a:lin ang="10800000"/>
          </a:gradFill>
          <a:ln w="12600">
            <a:solidFill>
              <a:srgbClr val="2286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356000" y="2438280"/>
            <a:ext cx="2195640" cy="1092240"/>
          </a:xfrm>
          <a:custGeom>
            <a:avLst/>
            <a:gdLst>
              <a:gd name="textAreaLeft" fmla="*/ 0 w 2195640"/>
              <a:gd name="textAreaRight" fmla="*/ 2195640 w 2195640"/>
              <a:gd name="textAreaTop" fmla="*/ 0 h 1092240"/>
              <a:gd name="textAreaBottom" fmla="*/ 1092600 h 10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2286bd"/>
              </a:gs>
              <a:gs pos="100000">
                <a:srgbClr val="37a3d1"/>
              </a:gs>
            </a:gsLst>
            <a:lin ang="10800000"/>
          </a:gradFill>
          <a:ln w="12600">
            <a:solidFill>
              <a:srgbClr val="2286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159600" y="2438280"/>
            <a:ext cx="2195280" cy="1092240"/>
          </a:xfrm>
          <a:custGeom>
            <a:avLst/>
            <a:gdLst>
              <a:gd name="textAreaLeft" fmla="*/ 0 w 2195280"/>
              <a:gd name="textAreaRight" fmla="*/ 2195640 w 2195280"/>
              <a:gd name="textAreaTop" fmla="*/ 0 h 1092240"/>
              <a:gd name="textAreaBottom" fmla="*/ 1092600 h 10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11425c"/>
              </a:gs>
              <a:gs pos="100000">
                <a:srgbClr val="2286bd"/>
              </a:gs>
            </a:gsLst>
            <a:lin ang="10800000"/>
          </a:gradFill>
          <a:ln w="12600">
            <a:solidFill>
              <a:srgbClr val="2286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70320" y="21067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279320" y="20937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8680" y="20811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98040" y="20685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3848040"/>
            <a:ext cx="7562880" cy="184788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20800" y="3906720"/>
            <a:ext cx="7445160" cy="174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269000" y="28177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425c"/>
                </a:solidFill>
                <a:latin typeface="Arial"/>
                <a:ea typeface="Gulim"/>
              </a:rPr>
              <a:t>ste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402720" y="28177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425c"/>
                </a:solidFill>
                <a:latin typeface="Arial"/>
                <a:ea typeface="Gulim"/>
              </a:rPr>
              <a:t>ste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193360" y="28177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425c"/>
                </a:solidFill>
                <a:latin typeface="Arial"/>
                <a:ea typeface="Gulim"/>
              </a:rPr>
              <a:t>ste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996600" y="281772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ste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473040" y="1353960"/>
            <a:ext cx="4352760" cy="507960"/>
            <a:chOff x="473040" y="1353960"/>
            <a:chExt cx="4352760" cy="507960"/>
          </a:xfrm>
        </p:grpSpPr>
        <p:sp>
          <p:nvSpPr>
            <p:cNvPr id="151" name=""/>
            <p:cNvSpPr/>
            <p:nvPr/>
          </p:nvSpPr>
          <p:spPr>
            <a:xfrm>
              <a:off x="709560" y="1369800"/>
              <a:ext cx="4116240" cy="48744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73040" y="1353960"/>
              <a:ext cx="939960" cy="507960"/>
            </a:xfrm>
            <a:custGeom>
              <a:avLst/>
              <a:gdLst/>
              <a:ahLst/>
              <a:rect l="l" t="t" r="r" b="b"/>
              <a:pathLst>
                <a:path w="1334" h="491">
                  <a:moveTo>
                    <a:pt x="2" y="0"/>
                  </a:moveTo>
                  <a:lnTo>
                    <a:pt x="0" y="491"/>
                  </a:lnTo>
                  <a:lnTo>
                    <a:pt x="872" y="491"/>
                  </a:lnTo>
                  <a:lnTo>
                    <a:pt x="1334" y="0"/>
                  </a:lnTo>
                  <a:lnTo>
                    <a:pt x="2" y="0"/>
                  </a:lnTo>
                  <a:close/>
                </a:path>
              </a:pathLst>
            </a:custGeom>
            <a:gradFill rotWithShape="0">
              <a:gsLst>
                <a:gs pos="0">
                  <a:srgbClr val="11425c"/>
                </a:gs>
                <a:gs pos="100000">
                  <a:srgbClr val="2286b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61600" y="1457280"/>
              <a:ext cx="228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Gulim"/>
                </a:rPr>
                <a:t>Click to edit your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6E81-EE52-42D1-9E0F-FA346E20CB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46080"/>
            <a:ext cx="82166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425c"/>
                </a:solidFill>
                <a:latin typeface="Verdana"/>
              </a:rPr>
              <a:t>Click to edit headline</a:t>
            </a: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1523880"/>
            <a:ext cx="4057560" cy="315612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54040" y="1612800"/>
            <a:ext cx="3863880" cy="2984760"/>
          </a:xfrm>
          <a:prstGeom prst="rect">
            <a:avLst/>
          </a:prstGeom>
          <a:gradFill rotWithShape="0">
            <a:gsLst>
              <a:gs pos="0">
                <a:srgbClr val="37a3d1"/>
              </a:gs>
              <a:gs pos="100000">
                <a:srgbClr val="2286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163600" y="4622040"/>
            <a:ext cx="644760" cy="4827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7a3d1"/>
              </a:gs>
              <a:gs pos="100000">
                <a:srgbClr val="2286bd"/>
              </a:gs>
            </a:gsLst>
            <a:lin ang="5400000"/>
          </a:gradFill>
          <a:ln w="12600">
            <a:solidFill>
              <a:srgbClr val="e6e6e6"/>
            </a:solidFill>
            <a:miter/>
          </a:ln>
          <a:effectLst>
            <a:outerShdw dist="153753" dir="2700000" blurRad="0" rotWithShape="0">
              <a:srgbClr val="1142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5168880"/>
            <a:ext cx="4057560" cy="71748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03280" y="5216400"/>
            <a:ext cx="3965400" cy="628920"/>
          </a:xfrm>
          <a:prstGeom prst="roundRect">
            <a:avLst>
              <a:gd name="adj" fmla="val 48991"/>
            </a:avLst>
          </a:prstGeom>
          <a:gradFill rotWithShape="0">
            <a:gsLst>
              <a:gs pos="0">
                <a:srgbClr val="2286bd"/>
              </a:gs>
              <a:gs pos="100000">
                <a:srgbClr val="1142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Conclu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22760" y="1523880"/>
            <a:ext cx="4057560" cy="315612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732200" y="1612800"/>
            <a:ext cx="3838680" cy="2984760"/>
          </a:xfrm>
          <a:prstGeom prst="rect">
            <a:avLst/>
          </a:prstGeom>
          <a:gradFill rotWithShape="0">
            <a:gsLst>
              <a:gs pos="0">
                <a:srgbClr val="37a3d1"/>
              </a:gs>
              <a:gs pos="100000">
                <a:srgbClr val="2286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6329520" y="4622040"/>
            <a:ext cx="644400" cy="4827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7a3d1"/>
              </a:gs>
              <a:gs pos="100000">
                <a:srgbClr val="2286bd"/>
              </a:gs>
            </a:gsLst>
            <a:lin ang="5400000"/>
          </a:gradFill>
          <a:ln w="12600">
            <a:solidFill>
              <a:srgbClr val="e6e6e6"/>
            </a:solidFill>
            <a:miter/>
          </a:ln>
          <a:effectLst>
            <a:outerShdw dist="153753" dir="2700000" blurRad="0" rotWithShape="0">
              <a:srgbClr val="11425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35360" y="5168880"/>
            <a:ext cx="4057920" cy="71748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668840" y="5216400"/>
            <a:ext cx="3990960" cy="628920"/>
          </a:xfrm>
          <a:prstGeom prst="roundRect">
            <a:avLst>
              <a:gd name="adj" fmla="val 48991"/>
            </a:avLst>
          </a:prstGeom>
          <a:gradFill rotWithShape="0">
            <a:gsLst>
              <a:gs pos="0">
                <a:srgbClr val="2286bd"/>
              </a:gs>
              <a:gs pos="100000">
                <a:srgbClr val="1142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Conclu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23960" y="3606840"/>
            <a:ext cx="3505320" cy="851040"/>
          </a:xfrm>
          <a:prstGeom prst="rect">
            <a:avLst/>
          </a:prstGeom>
          <a:solidFill>
            <a:srgbClr val="37a3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Click to edit your subjec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23960" y="2679840"/>
            <a:ext cx="3505320" cy="850680"/>
          </a:xfrm>
          <a:prstGeom prst="rect">
            <a:avLst/>
          </a:prstGeom>
          <a:solidFill>
            <a:srgbClr val="37a3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Click to edit your subjec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23960" y="1752480"/>
            <a:ext cx="3505320" cy="851040"/>
          </a:xfrm>
          <a:prstGeom prst="rect">
            <a:avLst/>
          </a:prstGeom>
          <a:solidFill>
            <a:srgbClr val="228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Click to edit your subjec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89520" y="3606840"/>
            <a:ext cx="3505320" cy="851040"/>
          </a:xfrm>
          <a:prstGeom prst="rect">
            <a:avLst/>
          </a:prstGeom>
          <a:solidFill>
            <a:srgbClr val="37a3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Click to edit your subjec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889520" y="2679840"/>
            <a:ext cx="3505320" cy="850680"/>
          </a:xfrm>
          <a:prstGeom prst="rect">
            <a:avLst/>
          </a:prstGeom>
          <a:solidFill>
            <a:srgbClr val="37a3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Click to edit your subjec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889520" y="1752480"/>
            <a:ext cx="3505320" cy="851040"/>
          </a:xfrm>
          <a:prstGeom prst="rect">
            <a:avLst/>
          </a:prstGeom>
          <a:solidFill>
            <a:srgbClr val="2286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Click to edit your subjec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C70B-E9B3-404A-8CE5-1AC82C7A6B9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521000" y="2311560"/>
            <a:ext cx="6073560" cy="6728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37a3d1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157560" y="3378240"/>
            <a:ext cx="2835360" cy="2514600"/>
          </a:xfrm>
          <a:prstGeom prst="rect">
            <a:avLst/>
          </a:prstGeom>
          <a:gradFill rotWithShape="0">
            <a:gsLst>
              <a:gs pos="0">
                <a:srgbClr val="2286bd"/>
              </a:gs>
              <a:gs pos="100000">
                <a:srgbClr val="1142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915160" y="3162240"/>
            <a:ext cx="2835000" cy="2641680"/>
          </a:xfrm>
          <a:prstGeom prst="rect">
            <a:avLst/>
          </a:prstGeom>
          <a:gradFill rotWithShape="0">
            <a:gsLst>
              <a:gs pos="0">
                <a:srgbClr val="2286bd"/>
              </a:gs>
              <a:gs pos="100000">
                <a:srgbClr val="1142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6200" y="3174840"/>
            <a:ext cx="2835360" cy="2641680"/>
          </a:xfrm>
          <a:prstGeom prst="rect">
            <a:avLst/>
          </a:prstGeom>
          <a:gradFill rotWithShape="0">
            <a:gsLst>
              <a:gs pos="0">
                <a:srgbClr val="2286bd"/>
              </a:gs>
              <a:gs pos="100000">
                <a:srgbClr val="1142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2120" y="46080"/>
            <a:ext cx="82166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425c"/>
                </a:solidFill>
                <a:latin typeface="Verdana"/>
              </a:rPr>
              <a:t>Click to edit headline</a:t>
            </a: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457200" y="1523880"/>
            <a:ext cx="8137440" cy="717480"/>
            <a:chOff x="457200" y="1523880"/>
            <a:chExt cx="8137440" cy="717480"/>
          </a:xfrm>
        </p:grpSpPr>
        <p:sp>
          <p:nvSpPr>
            <p:cNvPr id="177" name=""/>
            <p:cNvSpPr/>
            <p:nvPr/>
          </p:nvSpPr>
          <p:spPr>
            <a:xfrm>
              <a:off x="457200" y="1523880"/>
              <a:ext cx="8137440" cy="717480"/>
            </a:xfrm>
            <a:prstGeom prst="rect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03280" y="1571400"/>
              <a:ext cx="7953480" cy="628920"/>
            </a:xfrm>
            <a:prstGeom prst="roundRect">
              <a:avLst>
                <a:gd name="adj" fmla="val 48991"/>
              </a:avLst>
            </a:prstGeom>
            <a:gradFill rotWithShape="0">
              <a:gsLst>
                <a:gs pos="0">
                  <a:srgbClr val="2286bd"/>
                </a:gs>
                <a:gs pos="100000">
                  <a:srgbClr val="11425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Gulim"/>
                </a:rPr>
                <a:t>Conclusion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532440" y="412596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Click to edit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15320" y="412596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Click to edit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298200" y="412596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Click to edit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5640" y="981000"/>
            <a:ext cx="71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89cfe8"/>
                </a:solidFill>
                <a:uFillTx/>
                <a:latin typeface="Arial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A6FC-E489-4444-9F1A-23B37686DE2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2120" y="46080"/>
            <a:ext cx="82166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425c"/>
                </a:solidFill>
                <a:latin typeface="Verdana"/>
              </a:rPr>
              <a:t>Click to edit headline</a:t>
            </a: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43080" y="1079640"/>
            <a:ext cx="4057560" cy="2431800"/>
            <a:chOff x="343080" y="1079640"/>
            <a:chExt cx="4057560" cy="2431800"/>
          </a:xfrm>
        </p:grpSpPr>
        <p:sp>
          <p:nvSpPr>
            <p:cNvPr id="185" name=""/>
            <p:cNvSpPr/>
            <p:nvPr/>
          </p:nvSpPr>
          <p:spPr>
            <a:xfrm>
              <a:off x="343080" y="1079640"/>
              <a:ext cx="4057560" cy="2431800"/>
            </a:xfrm>
            <a:prstGeom prst="rect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14360" y="1142640"/>
              <a:ext cx="3915000" cy="2317680"/>
            </a:xfrm>
            <a:prstGeom prst="rect">
              <a:avLst/>
            </a:prstGeom>
            <a:gradFill rotWithShape="0">
              <a:gsLst>
                <a:gs pos="0">
                  <a:srgbClr val="37a3d1"/>
                </a:gs>
                <a:gs pos="100000">
                  <a:srgbClr val="2286b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ffffff"/>
                  </a:solidFill>
                  <a:latin typeface="Arial"/>
                  <a:ea typeface="Gulim"/>
                </a:rPr>
                <a:t>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Gulim"/>
                </a:rPr>
                <a:t>Example 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4737240" y="1079640"/>
            <a:ext cx="4057560" cy="2431800"/>
            <a:chOff x="4737240" y="1079640"/>
            <a:chExt cx="4057560" cy="2431800"/>
          </a:xfrm>
        </p:grpSpPr>
        <p:sp>
          <p:nvSpPr>
            <p:cNvPr id="188" name=""/>
            <p:cNvSpPr/>
            <p:nvPr/>
          </p:nvSpPr>
          <p:spPr>
            <a:xfrm>
              <a:off x="4737240" y="1079640"/>
              <a:ext cx="4057560" cy="2431800"/>
            </a:xfrm>
            <a:prstGeom prst="rect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808520" y="1142640"/>
              <a:ext cx="3915000" cy="2317680"/>
            </a:xfrm>
            <a:prstGeom prst="rect">
              <a:avLst/>
            </a:prstGeom>
            <a:gradFill rotWithShape="0">
              <a:gsLst>
                <a:gs pos="0">
                  <a:srgbClr val="37a3d1"/>
                </a:gs>
                <a:gs pos="100000">
                  <a:srgbClr val="2286b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Gulim"/>
                  <a:ea typeface="Gulim"/>
                </a:rPr>
                <a:t> </a:t>
              </a:r>
              <a:r>
                <a:rPr b="0" lang="ko-KR" sz="1800" spc="-1" strike="noStrike">
                  <a:solidFill>
                    <a:srgbClr val="ffffff"/>
                  </a:solidFill>
                  <a:latin typeface="Arial"/>
                  <a:ea typeface="Gulim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Gulim"/>
                </a:rPr>
                <a:t>Example 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343080" y="3759120"/>
            <a:ext cx="4057560" cy="243216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14360" y="3822840"/>
            <a:ext cx="3914640" cy="2317680"/>
          </a:xfrm>
          <a:prstGeom prst="rect">
            <a:avLst/>
          </a:prstGeom>
          <a:gradFill rotWithShape="0">
            <a:gsLst>
              <a:gs pos="0">
                <a:srgbClr val="37a3d1"/>
              </a:gs>
              <a:gs pos="100000">
                <a:srgbClr val="2286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Gulim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Example 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37240" y="3759120"/>
            <a:ext cx="4057560" cy="243216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08520" y="3822840"/>
            <a:ext cx="3914640" cy="2317680"/>
          </a:xfrm>
          <a:prstGeom prst="rect">
            <a:avLst/>
          </a:prstGeom>
          <a:gradFill rotWithShape="0">
            <a:gsLst>
              <a:gs pos="0">
                <a:srgbClr val="37a3d1"/>
              </a:gs>
              <a:gs pos="100000">
                <a:srgbClr val="2286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Gulim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Example 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18900000">
            <a:off x="2395440" y="1468080"/>
            <a:ext cx="4327560" cy="4327560"/>
          </a:xfrm>
          <a:custGeom>
            <a:avLst/>
            <a:gdLst>
              <a:gd name="textAreaLeft" fmla="*/ 0 w 4327560"/>
              <a:gd name="textAreaRight" fmla="*/ 4327920 w 4327560"/>
              <a:gd name="textAreaTop" fmla="*/ 0 h 4327560"/>
              <a:gd name="textAreaBottom" fmla="*/ 4327920 h 4327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20" y="6480"/>
                </a:lnTo>
                <a:lnTo>
                  <a:pt x="4320" y="8640"/>
                </a:lnTo>
                <a:lnTo>
                  <a:pt x="8640" y="8640"/>
                </a:lnTo>
                <a:lnTo>
                  <a:pt x="8640" y="4320"/>
                </a:lnTo>
                <a:lnTo>
                  <a:pt x="6480" y="4320"/>
                </a:lnTo>
                <a:lnTo>
                  <a:pt x="10800" y="0"/>
                </a:lnTo>
                <a:lnTo>
                  <a:pt x="15120" y="4320"/>
                </a:lnTo>
                <a:lnTo>
                  <a:pt x="12960" y="4320"/>
                </a:lnTo>
                <a:lnTo>
                  <a:pt x="12960" y="8640"/>
                </a:lnTo>
                <a:lnTo>
                  <a:pt x="17280" y="8640"/>
                </a:lnTo>
                <a:lnTo>
                  <a:pt x="17280" y="6480"/>
                </a:lnTo>
                <a:lnTo>
                  <a:pt x="21600" y="10800"/>
                </a:lnTo>
                <a:lnTo>
                  <a:pt x="17280" y="15120"/>
                </a:lnTo>
                <a:lnTo>
                  <a:pt x="17280" y="12960"/>
                </a:lnTo>
                <a:lnTo>
                  <a:pt x="12960" y="12960"/>
                </a:lnTo>
                <a:lnTo>
                  <a:pt x="12960" y="17280"/>
                </a:lnTo>
                <a:lnTo>
                  <a:pt x="15120" y="17280"/>
                </a:lnTo>
                <a:lnTo>
                  <a:pt x="10800" y="21600"/>
                </a:lnTo>
                <a:lnTo>
                  <a:pt x="6480" y="17280"/>
                </a:lnTo>
                <a:lnTo>
                  <a:pt x="8640" y="17280"/>
                </a:lnTo>
                <a:lnTo>
                  <a:pt x="8640" y="12960"/>
                </a:lnTo>
                <a:lnTo>
                  <a:pt x="4320" y="12960"/>
                </a:lnTo>
                <a:lnTo>
                  <a:pt x="4320" y="15120"/>
                </a:lnTo>
                <a:close/>
              </a:path>
            </a:pathLst>
          </a:custGeom>
          <a:gradFill rotWithShape="0">
            <a:gsLst>
              <a:gs pos="0">
                <a:srgbClr val="2286bd"/>
              </a:gs>
              <a:gs pos="100000">
                <a:srgbClr val="11425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29000" y="2451240"/>
            <a:ext cx="2362320" cy="2361960"/>
          </a:xfrm>
          <a:prstGeom prst="ellipse">
            <a:avLst/>
          </a:prstGeom>
          <a:gradFill rotWithShape="0">
            <a:gsLst>
              <a:gs pos="0">
                <a:srgbClr val="37a3d1"/>
              </a:gs>
              <a:gs pos="100000">
                <a:srgbClr val="2286b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su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112B-7881-44EE-9869-052A4EC32AC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584280" y="1379520"/>
            <a:ext cx="3238560" cy="4564080"/>
          </a:xfrm>
          <a:custGeom>
            <a:avLst/>
            <a:gdLst>
              <a:gd name="textAreaLeft" fmla="*/ 137520 w 3238560"/>
              <a:gd name="textAreaRight" fmla="*/ 3101040 w 3238560"/>
              <a:gd name="textAreaTop" fmla="*/ 137520 h 4564080"/>
              <a:gd name="textAreaBottom" fmla="*/ 4426560 h 4564080"/>
            </a:gdLst>
            <a:ahLst/>
            <a:rect l="textAreaLeft" t="textAreaTop" r="textAreaRight" b="textAreaBottom"/>
            <a:pathLst>
              <a:path w="21600" h="30440">
                <a:moveTo>
                  <a:pt x="3134" y="0"/>
                </a:moveTo>
                <a:arcTo wR="3134" hR="3134" stAng="16200000" swAng="-5400000"/>
                <a:lnTo>
                  <a:pt x="0" y="27306"/>
                </a:lnTo>
                <a:arcTo wR="3134" hR="3134" stAng="10800000" swAng="-5400000"/>
                <a:lnTo>
                  <a:pt x="18466" y="30440"/>
                </a:lnTo>
                <a:arcTo wR="3134" hR="3134" stAng="5400000" swAng="-5400000"/>
                <a:lnTo>
                  <a:pt x="21600" y="3134"/>
                </a:lnTo>
                <a:arcTo wR="3134" hR="3134" stAng="0" swAng="-5400000"/>
                <a:close/>
              </a:path>
            </a:pathLst>
          </a:custGeom>
          <a:gradFill rotWithShape="0">
            <a:gsLst>
              <a:gs pos="0">
                <a:srgbClr val="2286bd">
                  <a:alpha val="70196"/>
                </a:srgbClr>
              </a:gs>
              <a:gs pos="100000">
                <a:srgbClr val="1142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809880" y="1384200"/>
            <a:ext cx="4762800" cy="4025880"/>
          </a:xfrm>
          <a:prstGeom prst="roundRect">
            <a:avLst>
              <a:gd name="adj" fmla="val 11671"/>
            </a:avLst>
          </a:prstGeom>
          <a:gradFill rotWithShape="0">
            <a:gsLst>
              <a:gs pos="0">
                <a:srgbClr val="2286bd"/>
              </a:gs>
              <a:gs pos="100000">
                <a:srgbClr val="1142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2120" y="46080"/>
            <a:ext cx="82166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425c"/>
                </a:solidFill>
                <a:latin typeface="Verdana"/>
              </a:rPr>
              <a:t>Click to edit headline</a:t>
            </a: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584280" y="1925640"/>
            <a:ext cx="3238560" cy="4027320"/>
          </a:xfrm>
          <a:custGeom>
            <a:avLst/>
            <a:gdLst>
              <a:gd name="textAreaLeft" fmla="*/ 0 w 3238560"/>
              <a:gd name="textAreaRight" fmla="*/ 3238920 w 3238560"/>
              <a:gd name="textAreaTop" fmla="*/ 0 h 4027320"/>
              <a:gd name="textAreaBottom" fmla="*/ 4027680 h 4027320"/>
            </a:gdLst>
            <a:ahLst/>
            <a:rect l="textAreaLeft" t="textAreaTop" r="textAreaRight" b="textAreaBottom"/>
            <a:pathLst>
              <a:path w="21600" h="26860">
                <a:moveTo>
                  <a:pt x="0" y="0"/>
                </a:moveTo>
                <a:arcTo wR="0" hR="0" stAng="16200000" swAng="-5400000"/>
                <a:lnTo>
                  <a:pt x="0" y="26860"/>
                </a:lnTo>
                <a:arcTo wR="0" hR="0" stAng="10800000" swAng="-5400000"/>
                <a:lnTo>
                  <a:pt x="21600" y="26860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2286bd">
                  <a:alpha val="70196"/>
                </a:srgbClr>
              </a:gs>
              <a:gs pos="100000">
                <a:srgbClr val="1142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809880" y="1930320"/>
            <a:ext cx="4762800" cy="4025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2286bd"/>
              </a:gs>
              <a:gs pos="100000">
                <a:srgbClr val="1142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809880" y="1905120"/>
            <a:ext cx="4772160" cy="583920"/>
          </a:xfrm>
          <a:prstGeom prst="rect">
            <a:avLst/>
          </a:prstGeom>
          <a:solidFill>
            <a:srgbClr val="1142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809880" y="3048120"/>
            <a:ext cx="4773600" cy="583920"/>
          </a:xfrm>
          <a:prstGeom prst="rect">
            <a:avLst/>
          </a:prstGeom>
          <a:solidFill>
            <a:srgbClr val="1142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09880" y="4216320"/>
            <a:ext cx="4773600" cy="584280"/>
          </a:xfrm>
          <a:prstGeom prst="rect">
            <a:avLst/>
          </a:prstGeom>
          <a:solidFill>
            <a:srgbClr val="1142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395360" y="145908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class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923080" y="1459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93640" y="2589120"/>
            <a:ext cx="321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93640" y="3745080"/>
            <a:ext cx="321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93640" y="4900680"/>
            <a:ext cx="321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07000" y="2589120"/>
            <a:ext cx="32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807000" y="3745080"/>
            <a:ext cx="32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807000" y="4900680"/>
            <a:ext cx="32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797280" y="5384880"/>
            <a:ext cx="4773600" cy="584280"/>
          </a:xfrm>
          <a:prstGeom prst="rect">
            <a:avLst/>
          </a:prstGeom>
          <a:solidFill>
            <a:srgbClr val="1142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87520" y="1905120"/>
            <a:ext cx="3222360" cy="583920"/>
          </a:xfrm>
          <a:prstGeom prst="rect">
            <a:avLst/>
          </a:prstGeom>
          <a:solidFill>
            <a:srgbClr val="11425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84280" y="1917720"/>
            <a:ext cx="798840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87520" y="3048120"/>
            <a:ext cx="3222360" cy="583920"/>
          </a:xfrm>
          <a:prstGeom prst="rect">
            <a:avLst/>
          </a:prstGeom>
          <a:solidFill>
            <a:srgbClr val="11425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87520" y="4216320"/>
            <a:ext cx="3222360" cy="584280"/>
          </a:xfrm>
          <a:prstGeom prst="rect">
            <a:avLst/>
          </a:prstGeom>
          <a:solidFill>
            <a:srgbClr val="11425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87520" y="5384880"/>
            <a:ext cx="3222360" cy="584280"/>
          </a:xfrm>
          <a:prstGeom prst="rect">
            <a:avLst/>
          </a:prstGeom>
          <a:solidFill>
            <a:srgbClr val="11425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Click to edit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84280" y="5969160"/>
            <a:ext cx="798840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B6C4-5D85-41F2-AA3F-8119657E199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2120" y="46080"/>
            <a:ext cx="82166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425c"/>
                </a:solidFill>
                <a:latin typeface="Verdana"/>
              </a:rPr>
              <a:t>Click to edit headline</a:t>
            </a:r>
            <a:endParaRPr b="0" lang="en-US" sz="3600" spc="-1" strike="noStrike">
              <a:solidFill>
                <a:srgbClr val="11425c"/>
              </a:solidFill>
              <a:latin typeface="Verdana"/>
            </a:endParaRPr>
          </a:p>
        </p:txBody>
      </p:sp>
      <p:sp>
        <p:nvSpPr>
          <p:cNvPr id="220" name=""/>
          <p:cNvSpPr/>
          <p:nvPr/>
        </p:nvSpPr>
        <p:spPr>
          <a:xfrm>
            <a:off x="2546280" y="1663560"/>
            <a:ext cx="6031080" cy="4294440"/>
          </a:xfrm>
          <a:prstGeom prst="rect">
            <a:avLst/>
          </a:prstGeom>
          <a:gradFill rotWithShape="0">
            <a:gsLst>
              <a:gs pos="0">
                <a:srgbClr val="37a3d1"/>
              </a:gs>
              <a:gs pos="100000">
                <a:srgbClr val="2286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30280" y="1336680"/>
            <a:ext cx="3557880" cy="45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7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can you change pictu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7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the Drawing toolbar, click the arrow next to Fill Col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7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ll Effect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and then click the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ictu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tab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7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lect the picture you wan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0280" y="1663560"/>
            <a:ext cx="4313160" cy="4286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22440" y="1736640"/>
            <a:ext cx="4124160" cy="4129200"/>
          </a:xfrm>
          <a:custGeom>
            <a:avLst/>
            <a:gdLst>
              <a:gd name="textAreaLeft" fmla="*/ 201240 w 4124160"/>
              <a:gd name="textAreaRight" fmla="*/ 3922920 w 4124160"/>
              <a:gd name="textAreaTop" fmla="*/ 201240 h 4129200"/>
              <a:gd name="textAreaBottom" fmla="*/ 3927960 h 4129200"/>
            </a:gdLst>
            <a:ahLst/>
            <a:rect l="textAreaLeft" t="textAreaTop" r="textAreaRight" b="textAreaBottom"/>
            <a:pathLst>
              <a:path w="21600" h="21626">
                <a:moveTo>
                  <a:pt x="3600" y="0"/>
                </a:moveTo>
                <a:arcTo wR="3600" hR="3600" stAng="16200000" swAng="-5400000"/>
                <a:lnTo>
                  <a:pt x="0" y="18026"/>
                </a:lnTo>
                <a:arcTo wR="3600" hR="3600" stAng="10800000" swAng="-5400000"/>
                <a:lnTo>
                  <a:pt x="18000" y="216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DB29-5D02-46E5-92CF-5523B48ACCD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6T04:44:04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5:01Z</dcterms:modified>
  <cp:revision>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  <property fmtid="{D5CDD505-2E9C-101B-9397-08002B2CF9AE}" pid="3" name="_AdHocReviewCycleID">
    <vt:r8>-338095602</vt:r8>
  </property>
  <property fmtid="{D5CDD505-2E9C-101B-9397-08002B2CF9AE}" pid="4" name="_AuthorEmail">
    <vt:lpwstr>shpark@guilddesign.com</vt:lpwstr>
  </property>
  <property fmtid="{D5CDD505-2E9C-101B-9397-08002B2CF9AE}" pid="5" name="_AuthorEmailDisplayName">
    <vt:lpwstr>Sung Ha, Park</vt:lpwstr>
  </property>
  <property fmtid="{D5CDD505-2E9C-101B-9397-08002B2CF9AE}" pid="6" name="_EmailSubject">
    <vt:lpwstr>���� �Ŀ�����Ʈ ����Ÿ ������ </vt:lpwstr>
  </property>
  <property fmtid="{D5CDD505-2E9C-101B-9397-08002B2CF9AE}" pid="7" name="_ReviewingToolsShownOnce">
    <vt:lpwstr/>
  </property>
</Properties>
</file>