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67AA-D29B-4E3C-8B8F-68C68CFA6C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C4EB-3078-4936-BCCC-5E70438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4AE4-91A0-4F1F-8AFA-053E375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1827-5548-4C31-B5F0-31D4CFCB6A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CFFF7-05FC-43D0-9DA8-D3347AE6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A7D7-DAE9-4F5F-B8A0-5FECD7FA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F9AC0-F59C-40E9-ACB4-3E55C831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54221-1151-4764-BDB8-A5BF61E0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2F761-B8B6-42DB-8F67-18E8711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AD424-A480-4335-BAA7-F2673B94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23C32-8F02-48E5-91C0-5A49759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C469-935B-4F00-A65F-BEB94D8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46E8E-981B-4628-969B-5B5C40F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F22B2-A666-4AF8-ADF2-9B23AA9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96704-10C2-4C80-B1AE-58C4C630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8A518-5C1E-490D-8BC9-DECE7AF4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15794-FC25-4782-8048-03D2FCEE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62C1-9FD3-4610-8993-7DF1D279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5379-9472-4A35-88F7-3087E7B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09E8-60DB-42A7-92AB-77C29322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6E2D-DA83-4A12-BF70-CED7B709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4981-769F-4C82-B0C9-B78F529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3F98-89AC-4799-B2B9-10290F27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E675-FD33-4A93-9DA3-22BB10EC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565680" y="657828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aeaea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4EB9-C8A6-40EA-9903-85C0769C8E99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570520" cy="1031760"/>
            <a:chOff x="0" y="0"/>
            <a:chExt cx="8570520" cy="103176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8560080" cy="1031760"/>
            </a:xfrm>
            <a:prstGeom prst="roundRect">
              <a:avLst>
                <a:gd name="adj" fmla="val 26273"/>
              </a:avLst>
            </a:prstGeom>
            <a:solidFill>
              <a:srgbClr val="36a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440" y="793800"/>
              <a:ext cx="8560080" cy="114120"/>
            </a:xfrm>
            <a:prstGeom prst="rect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05040"/>
            <a:ext cx="9144000" cy="55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772400" y="0"/>
            <a:ext cx="1244520" cy="1181160"/>
            <a:chOff x="7772400" y="0"/>
            <a:chExt cx="1244520" cy="1181160"/>
          </a:xfrm>
        </p:grpSpPr>
        <p:sp>
          <p:nvSpPr>
            <p:cNvPr id="9" name=""/>
            <p:cNvSpPr/>
            <p:nvPr/>
          </p:nvSpPr>
          <p:spPr>
            <a:xfrm>
              <a:off x="7772400" y="0"/>
              <a:ext cx="1181160" cy="1181160"/>
            </a:xfrm>
            <a:prstGeom prst="ellipse">
              <a:avLst/>
            </a:prstGeom>
            <a:solidFill>
              <a:srgbClr val="347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35760" y="0"/>
              <a:ext cx="1181160" cy="118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26560" y="115920"/>
            <a:ext cx="976680" cy="872280"/>
            <a:chOff x="8026560" y="115920"/>
            <a:chExt cx="976680" cy="872280"/>
          </a:xfrm>
        </p:grpSpPr>
        <p:grpSp>
          <p:nvGrpSpPr>
            <p:cNvPr id="12" name=""/>
            <p:cNvGrpSpPr/>
            <p:nvPr/>
          </p:nvGrpSpPr>
          <p:grpSpPr>
            <a:xfrm>
              <a:off x="8026560" y="491040"/>
              <a:ext cx="494640" cy="497160"/>
              <a:chOff x="8026560" y="491040"/>
              <a:chExt cx="494640" cy="497160"/>
            </a:xfrm>
          </p:grpSpPr>
          <p:sp>
            <p:nvSpPr>
              <p:cNvPr id="13" name=""/>
              <p:cNvSpPr/>
              <p:nvPr/>
            </p:nvSpPr>
            <p:spPr>
              <a:xfrm flipH="1">
                <a:off x="8026560" y="491040"/>
                <a:ext cx="494640" cy="247320"/>
              </a:xfrm>
              <a:prstGeom prst="diamond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8273160" y="611640"/>
                <a:ext cx="247320" cy="375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027640" y="612720"/>
                <a:ext cx="247320" cy="375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10400" y="494280"/>
              <a:ext cx="492840" cy="493920"/>
              <a:chOff x="8510400" y="494280"/>
              <a:chExt cx="492840" cy="493920"/>
            </a:xfrm>
          </p:grpSpPr>
          <p:sp>
            <p:nvSpPr>
              <p:cNvPr id="17" name=""/>
              <p:cNvSpPr/>
              <p:nvPr/>
            </p:nvSpPr>
            <p:spPr>
              <a:xfrm flipH="1">
                <a:off x="8510040" y="494280"/>
                <a:ext cx="492840" cy="24624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8757000" y="614880"/>
                <a:ext cx="246240" cy="3718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12200" y="614880"/>
                <a:ext cx="246240" cy="373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8260200" y="115920"/>
              <a:ext cx="494640" cy="493560"/>
              <a:chOff x="8260200" y="115920"/>
              <a:chExt cx="494640" cy="493560"/>
            </a:xfrm>
          </p:grpSpPr>
          <p:sp>
            <p:nvSpPr>
              <p:cNvPr id="21" name=""/>
              <p:cNvSpPr/>
              <p:nvPr/>
            </p:nvSpPr>
            <p:spPr>
              <a:xfrm flipH="1">
                <a:off x="8259840" y="115920"/>
                <a:ext cx="494280" cy="24624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8508600" y="236880"/>
                <a:ext cx="246240" cy="37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262000" y="236880"/>
                <a:ext cx="246240" cy="372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eaeaea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310440"/>
            <a:ext cx="9144000" cy="56196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520"/>
            <a:ext cx="9144000" cy="6057720"/>
          </a:xfrm>
          <a:prstGeom prst="rect">
            <a:avLst/>
          </a:prstGeom>
          <a:solidFill>
            <a:srgbClr val="36a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477120"/>
            <a:ext cx="9144000" cy="11412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7105-66E6-4BAE-A369-C3F7747EF35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463800" y="4392720"/>
            <a:ext cx="2371320" cy="2375280"/>
            <a:chOff x="6463800" y="4392720"/>
            <a:chExt cx="2371320" cy="2375280"/>
          </a:xfrm>
        </p:grpSpPr>
        <p:grpSp>
          <p:nvGrpSpPr>
            <p:cNvPr id="69" name=""/>
            <p:cNvGrpSpPr/>
            <p:nvPr/>
          </p:nvGrpSpPr>
          <p:grpSpPr>
            <a:xfrm>
              <a:off x="7334640" y="4392720"/>
              <a:ext cx="1492560" cy="1927800"/>
              <a:chOff x="7334640" y="4392720"/>
              <a:chExt cx="1492560" cy="192780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7335000" y="528084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7627680" y="54252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35000" y="54252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7335000" y="498168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7627680" y="512532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36440" y="51274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7335000" y="4683960"/>
                <a:ext cx="586800" cy="590760"/>
                <a:chOff x="7335000" y="4683960"/>
                <a:chExt cx="586800" cy="590760"/>
              </a:xfrm>
            </p:grpSpPr>
            <p:sp>
              <p:nvSpPr>
                <p:cNvPr id="77" name=""/>
                <p:cNvSpPr/>
                <p:nvPr/>
              </p:nvSpPr>
              <p:spPr>
                <a:xfrm flipH="1">
                  <a:off x="7335000" y="468396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7627680" y="48272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336080" y="4828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7631640" y="5428800"/>
                <a:ext cx="58644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918920" y="55728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360" y="55728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632000" y="5131440"/>
                <a:ext cx="586440" cy="590400"/>
                <a:chOff x="7632000" y="5131440"/>
                <a:chExt cx="586440" cy="590400"/>
              </a:xfrm>
            </p:grpSpPr>
            <p:sp>
              <p:nvSpPr>
                <p:cNvPr id="84" name=""/>
                <p:cNvSpPr/>
                <p:nvPr/>
              </p:nvSpPr>
              <p:spPr>
                <a:xfrm flipH="1">
                  <a:off x="7631640" y="5131440"/>
                  <a:ext cx="58644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7925400" y="527472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33440" y="527580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639560" y="4841640"/>
                <a:ext cx="586440" cy="588600"/>
                <a:chOff x="7639560" y="4841640"/>
                <a:chExt cx="586440" cy="588600"/>
              </a:xfrm>
            </p:grpSpPr>
            <p:sp>
              <p:nvSpPr>
                <p:cNvPr id="88" name=""/>
                <p:cNvSpPr/>
                <p:nvPr/>
              </p:nvSpPr>
              <p:spPr>
                <a:xfrm flipH="1">
                  <a:off x="7639200" y="484164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7927200" y="49834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641360" y="49852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937280" y="5584320"/>
                <a:ext cx="586800" cy="588600"/>
                <a:chOff x="7937280" y="5584320"/>
                <a:chExt cx="586800" cy="58860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7937280" y="55843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229960" y="57272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38360" y="5728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932960" y="5288760"/>
                <a:ext cx="586440" cy="588600"/>
                <a:chOff x="7932960" y="5288760"/>
                <a:chExt cx="586440" cy="588600"/>
              </a:xfrm>
            </p:grpSpPr>
            <p:sp>
              <p:nvSpPr>
                <p:cNvPr id="96" name=""/>
                <p:cNvSpPr/>
                <p:nvPr/>
              </p:nvSpPr>
              <p:spPr>
                <a:xfrm flipH="1">
                  <a:off x="7932600" y="52887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8222400" y="54324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938720" y="54324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932960" y="4993560"/>
                <a:ext cx="586440" cy="582840"/>
                <a:chOff x="7932960" y="4993560"/>
                <a:chExt cx="586440" cy="582840"/>
              </a:xfrm>
            </p:grpSpPr>
            <p:sp>
              <p:nvSpPr>
                <p:cNvPr id="100" name=""/>
                <p:cNvSpPr/>
                <p:nvPr/>
              </p:nvSpPr>
              <p:spPr>
                <a:xfrm flipH="1">
                  <a:off x="7932600" y="49935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8222400" y="5129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937280" y="51314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8240040" y="5731920"/>
                <a:ext cx="586440" cy="588600"/>
                <a:chOff x="8240040" y="5731920"/>
                <a:chExt cx="586440" cy="588600"/>
              </a:xfrm>
            </p:grpSpPr>
            <p:sp>
              <p:nvSpPr>
                <p:cNvPr id="104" name=""/>
                <p:cNvSpPr/>
                <p:nvPr/>
              </p:nvSpPr>
              <p:spPr>
                <a:xfrm flipH="1">
                  <a:off x="8239680" y="57319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8533440" y="587556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41840" y="58755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8240400" y="5436720"/>
                <a:ext cx="586800" cy="588600"/>
                <a:chOff x="8240400" y="5436720"/>
                <a:chExt cx="586800" cy="588600"/>
              </a:xfrm>
            </p:grpSpPr>
            <p:sp>
              <p:nvSpPr>
                <p:cNvPr id="108" name=""/>
                <p:cNvSpPr/>
                <p:nvPr/>
              </p:nvSpPr>
              <p:spPr>
                <a:xfrm flipH="1">
                  <a:off x="8240400" y="54367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8533080" y="55796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241480" y="5580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8240400" y="5141160"/>
                <a:ext cx="586800" cy="588600"/>
                <a:chOff x="8240400" y="5141160"/>
                <a:chExt cx="586800" cy="588600"/>
              </a:xfrm>
            </p:grpSpPr>
            <p:sp>
              <p:nvSpPr>
                <p:cNvPr id="112" name=""/>
                <p:cNvSpPr/>
                <p:nvPr/>
              </p:nvSpPr>
              <p:spPr>
                <a:xfrm flipH="1">
                  <a:off x="8240400" y="51411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8533080" y="528408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41480" y="5285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334640" y="4392720"/>
                <a:ext cx="586440" cy="588600"/>
                <a:chOff x="7334640" y="4392720"/>
                <a:chExt cx="586440" cy="588600"/>
              </a:xfrm>
            </p:grpSpPr>
            <p:sp>
              <p:nvSpPr>
                <p:cNvPr id="116" name=""/>
                <p:cNvSpPr/>
                <p:nvPr/>
              </p:nvSpPr>
              <p:spPr>
                <a:xfrm flipH="1">
                  <a:off x="7334280" y="43927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7620120" y="45363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35000" y="45363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638120" y="4540320"/>
                <a:ext cx="586800" cy="590760"/>
                <a:chOff x="7638120" y="4540320"/>
                <a:chExt cx="586800" cy="5907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7638120" y="45403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7930800" y="46836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39200" y="46850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936920" y="4690080"/>
                <a:ext cx="586440" cy="590040"/>
                <a:chOff x="7936920" y="4690080"/>
                <a:chExt cx="586440" cy="59004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7936560" y="469008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8220600" y="48333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38720" y="48355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8240040" y="4845240"/>
                <a:ext cx="586440" cy="588960"/>
                <a:chOff x="8240040" y="4845240"/>
                <a:chExt cx="586440" cy="588960"/>
              </a:xfrm>
            </p:grpSpPr>
            <p:sp>
              <p:nvSpPr>
                <p:cNvPr id="128" name=""/>
                <p:cNvSpPr/>
                <p:nvPr/>
              </p:nvSpPr>
              <p:spPr>
                <a:xfrm flipH="1">
                  <a:off x="8239680" y="484524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8533440" y="4988880"/>
                  <a:ext cx="293040" cy="443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241840" y="4988880"/>
                  <a:ext cx="293040" cy="445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463800" y="4828320"/>
              <a:ext cx="1492560" cy="1927800"/>
              <a:chOff x="6463800" y="4828320"/>
              <a:chExt cx="1492560" cy="192780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6464160" y="571644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756840" y="58608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64160" y="586080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6464160" y="5417280"/>
                <a:ext cx="58680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756840" y="556092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65600" y="5563080"/>
                <a:ext cx="293400" cy="4449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6464160" y="5119560"/>
                <a:ext cx="586800" cy="590760"/>
                <a:chOff x="6464160" y="5119560"/>
                <a:chExt cx="586800" cy="590760"/>
              </a:xfrm>
            </p:grpSpPr>
            <p:sp>
              <p:nvSpPr>
                <p:cNvPr id="139" name=""/>
                <p:cNvSpPr/>
                <p:nvPr/>
              </p:nvSpPr>
              <p:spPr>
                <a:xfrm flipH="1">
                  <a:off x="6464160" y="511956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6756840" y="52628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465240" y="52642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flipH="1">
                <a:off x="6760800" y="5864400"/>
                <a:ext cx="586440" cy="29340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048080" y="60084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61520" y="6008400"/>
                <a:ext cx="293400" cy="446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761160" y="5567040"/>
                <a:ext cx="586440" cy="590400"/>
                <a:chOff x="6761160" y="5567040"/>
                <a:chExt cx="586440" cy="59040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6760800" y="5567040"/>
                  <a:ext cx="58644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054560" y="571032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62600" y="571140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68720" y="5277240"/>
                <a:ext cx="586440" cy="588600"/>
                <a:chOff x="6768720" y="5277240"/>
                <a:chExt cx="586440" cy="58860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6768360" y="527724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7056360" y="54190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70520" y="54208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066440" y="6019920"/>
                <a:ext cx="586800" cy="588600"/>
                <a:chOff x="7066440" y="6019920"/>
                <a:chExt cx="586800" cy="58860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7066440" y="60199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7359120" y="61628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67520" y="6163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062120" y="5724360"/>
                <a:ext cx="586440" cy="588600"/>
                <a:chOff x="7062120" y="5724360"/>
                <a:chExt cx="586440" cy="588600"/>
              </a:xfrm>
            </p:grpSpPr>
            <p:sp>
              <p:nvSpPr>
                <p:cNvPr id="158" name=""/>
                <p:cNvSpPr/>
                <p:nvPr/>
              </p:nvSpPr>
              <p:spPr>
                <a:xfrm flipH="1">
                  <a:off x="7061760" y="57243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351560" y="58680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067880" y="58680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062120" y="5429160"/>
                <a:ext cx="586440" cy="582840"/>
                <a:chOff x="7062120" y="5429160"/>
                <a:chExt cx="586440" cy="582840"/>
              </a:xfrm>
            </p:grpSpPr>
            <p:sp>
              <p:nvSpPr>
                <p:cNvPr id="162" name=""/>
                <p:cNvSpPr/>
                <p:nvPr/>
              </p:nvSpPr>
              <p:spPr>
                <a:xfrm flipH="1">
                  <a:off x="7061760" y="542916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7351560" y="55652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66440" y="55670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369200" y="6167520"/>
                <a:ext cx="586440" cy="588600"/>
                <a:chOff x="7369200" y="6167520"/>
                <a:chExt cx="586440" cy="58860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7368840" y="61675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7662600" y="631116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71000" y="63111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369560" y="5872320"/>
                <a:ext cx="586800" cy="588600"/>
                <a:chOff x="7369560" y="5872320"/>
                <a:chExt cx="586800" cy="58860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7369560" y="587232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662240" y="60152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70640" y="60163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7369560" y="5576760"/>
                <a:ext cx="586800" cy="588600"/>
                <a:chOff x="7369560" y="5576760"/>
                <a:chExt cx="586800" cy="58860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7369560" y="557676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662240" y="571968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70640" y="57207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463800" y="4828320"/>
                <a:ext cx="586440" cy="588600"/>
                <a:chOff x="6463800" y="4828320"/>
                <a:chExt cx="586440" cy="5886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6463440" y="482832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6749280" y="49719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464160" y="497196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767280" y="4975920"/>
                <a:ext cx="586800" cy="590760"/>
                <a:chOff x="6767280" y="4975920"/>
                <a:chExt cx="586800" cy="590760"/>
              </a:xfrm>
            </p:grpSpPr>
            <p:sp>
              <p:nvSpPr>
                <p:cNvPr id="182" name=""/>
                <p:cNvSpPr/>
                <p:nvPr/>
              </p:nvSpPr>
              <p:spPr>
                <a:xfrm flipH="1">
                  <a:off x="6767280" y="497592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7059960" y="51192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8360" y="512064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066080" y="5125680"/>
                <a:ext cx="586440" cy="590040"/>
                <a:chOff x="7066080" y="5125680"/>
                <a:chExt cx="586440" cy="59004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7065720" y="5125680"/>
                  <a:ext cx="58644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7349760" y="526896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067880" y="527112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369560" y="5280840"/>
                <a:ext cx="586800" cy="588960"/>
                <a:chOff x="7369560" y="5280840"/>
                <a:chExt cx="586800" cy="58896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7369560" y="528084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7662240" y="54237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70640" y="54248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7956720" y="5139000"/>
              <a:ext cx="878400" cy="1629000"/>
              <a:chOff x="7956720" y="5139000"/>
              <a:chExt cx="878400" cy="162900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8248320" y="6033240"/>
                <a:ext cx="586800" cy="588960"/>
                <a:chOff x="8248320" y="6033240"/>
                <a:chExt cx="586800" cy="58896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8248320" y="603324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8541000" y="61761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249400" y="617724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956720" y="6179400"/>
                <a:ext cx="586440" cy="588600"/>
                <a:chOff x="7956720" y="6179400"/>
                <a:chExt cx="586440" cy="588600"/>
              </a:xfrm>
            </p:grpSpPr>
            <p:sp>
              <p:nvSpPr>
                <p:cNvPr id="199" name=""/>
                <p:cNvSpPr/>
                <p:nvPr/>
              </p:nvSpPr>
              <p:spPr>
                <a:xfrm flipH="1">
                  <a:off x="7956360" y="6179400"/>
                  <a:ext cx="586440" cy="29340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250120" y="632304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958520" y="63230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8248320" y="5731920"/>
                <a:ext cx="586800" cy="588600"/>
                <a:chOff x="8248320" y="5731920"/>
                <a:chExt cx="586800" cy="588600"/>
              </a:xfrm>
            </p:grpSpPr>
            <p:sp>
              <p:nvSpPr>
                <p:cNvPr id="203" name=""/>
                <p:cNvSpPr/>
                <p:nvPr/>
              </p:nvSpPr>
              <p:spPr>
                <a:xfrm flipH="1">
                  <a:off x="8248320" y="573192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541000" y="5875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49760" y="5875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957080" y="5878080"/>
                <a:ext cx="586800" cy="588600"/>
                <a:chOff x="7957080" y="5878080"/>
                <a:chExt cx="586800" cy="58860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7957080" y="587808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8249760" y="602100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958160" y="60220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248320" y="5430240"/>
                <a:ext cx="586800" cy="590760"/>
                <a:chOff x="8248320" y="5430240"/>
                <a:chExt cx="586800" cy="590760"/>
              </a:xfrm>
            </p:grpSpPr>
            <p:sp>
              <p:nvSpPr>
                <p:cNvPr id="211" name=""/>
                <p:cNvSpPr/>
                <p:nvPr/>
              </p:nvSpPr>
              <p:spPr>
                <a:xfrm flipH="1">
                  <a:off x="8248320" y="543024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8541000" y="55735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249400" y="5574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957080" y="5576400"/>
                <a:ext cx="586800" cy="590760"/>
                <a:chOff x="7957080" y="5576400"/>
                <a:chExt cx="586800" cy="590760"/>
              </a:xfrm>
            </p:grpSpPr>
            <p:sp>
              <p:nvSpPr>
                <p:cNvPr id="215" name=""/>
                <p:cNvSpPr/>
                <p:nvPr/>
              </p:nvSpPr>
              <p:spPr>
                <a:xfrm flipH="1">
                  <a:off x="7957080" y="5576400"/>
                  <a:ext cx="586800" cy="29376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8249760" y="57196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958160" y="5721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8248320" y="5139000"/>
                <a:ext cx="586800" cy="588600"/>
                <a:chOff x="8248320" y="5139000"/>
                <a:chExt cx="586800" cy="588600"/>
              </a:xfrm>
            </p:grpSpPr>
            <p:sp>
              <p:nvSpPr>
                <p:cNvPr id="219" name=""/>
                <p:cNvSpPr/>
                <p:nvPr/>
              </p:nvSpPr>
              <p:spPr>
                <a:xfrm flipH="1">
                  <a:off x="8248320" y="5139000"/>
                  <a:ext cx="586800" cy="29304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8541000" y="528228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249760" y="5283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957080" y="5284800"/>
                <a:ext cx="586800" cy="588600"/>
                <a:chOff x="7957080" y="5284800"/>
                <a:chExt cx="586800" cy="588600"/>
              </a:xfrm>
            </p:grpSpPr>
            <p:sp>
              <p:nvSpPr>
                <p:cNvPr id="223" name=""/>
                <p:cNvSpPr/>
                <p:nvPr/>
              </p:nvSpPr>
              <p:spPr>
                <a:xfrm flipH="1">
                  <a:off x="7957080" y="5284800"/>
                  <a:ext cx="586800" cy="292680"/>
                </a:xfrm>
                <a:prstGeom prst="diamond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8249760" y="54277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58160" y="54288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6" name=""/>
          <p:cNvGrpSpPr/>
          <p:nvPr/>
        </p:nvGrpSpPr>
        <p:grpSpPr>
          <a:xfrm>
            <a:off x="6426000" y="4329000"/>
            <a:ext cx="2371320" cy="2375640"/>
            <a:chOff x="6426000" y="4329000"/>
            <a:chExt cx="2371320" cy="2375640"/>
          </a:xfrm>
        </p:grpSpPr>
        <p:grpSp>
          <p:nvGrpSpPr>
            <p:cNvPr id="227" name=""/>
            <p:cNvGrpSpPr/>
            <p:nvPr/>
          </p:nvGrpSpPr>
          <p:grpSpPr>
            <a:xfrm>
              <a:off x="7296840" y="4329000"/>
              <a:ext cx="1492560" cy="1928160"/>
              <a:chOff x="7296840" y="4329000"/>
              <a:chExt cx="1492560" cy="192816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7297200" y="52174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589880" y="53614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97200" y="53614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7297200" y="49179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589880" y="506160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98640" y="506376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7297200" y="4620240"/>
                <a:ext cx="586800" cy="590760"/>
                <a:chOff x="7297200" y="4620240"/>
                <a:chExt cx="586800" cy="59076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7297200" y="462024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7589880" y="47635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98280" y="47649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7593840" y="5365080"/>
                <a:ext cx="58644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881120" y="55094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94560" y="55094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7594200" y="5067720"/>
                <a:ext cx="586440" cy="590400"/>
                <a:chOff x="7594200" y="5067720"/>
                <a:chExt cx="586440" cy="59040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7593840" y="5067720"/>
                  <a:ext cx="58644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7887600" y="521100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595640" y="521208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601760" y="4778280"/>
                <a:ext cx="586440" cy="588600"/>
                <a:chOff x="7601760" y="4778280"/>
                <a:chExt cx="586440" cy="588600"/>
              </a:xfrm>
            </p:grpSpPr>
            <p:sp>
              <p:nvSpPr>
                <p:cNvPr id="246" name=""/>
                <p:cNvSpPr/>
                <p:nvPr/>
              </p:nvSpPr>
              <p:spPr>
                <a:xfrm flipH="1">
                  <a:off x="7601400" y="477828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7889400" y="49201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603560" y="49219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899480" y="5520600"/>
                <a:ext cx="586800" cy="588600"/>
                <a:chOff x="7899480" y="5520600"/>
                <a:chExt cx="586800" cy="588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7899480" y="552060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8192160" y="5663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00560" y="5664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895160" y="5225400"/>
                <a:ext cx="586440" cy="588600"/>
                <a:chOff x="7895160" y="5225400"/>
                <a:chExt cx="586440" cy="588600"/>
              </a:xfrm>
            </p:grpSpPr>
            <p:sp>
              <p:nvSpPr>
                <p:cNvPr id="254" name=""/>
                <p:cNvSpPr/>
                <p:nvPr/>
              </p:nvSpPr>
              <p:spPr>
                <a:xfrm flipH="1">
                  <a:off x="7894800" y="522540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8184600" y="536904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00920" y="53690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7895160" y="4929840"/>
                <a:ext cx="586440" cy="582840"/>
                <a:chOff x="7895160" y="4929840"/>
                <a:chExt cx="586440" cy="58284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7894800" y="492984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8184600" y="50659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99480" y="50677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8202240" y="5668560"/>
                <a:ext cx="586440" cy="588600"/>
                <a:chOff x="8202240" y="5668560"/>
                <a:chExt cx="586440" cy="58860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8201880" y="566856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8495640" y="58122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04040" y="58122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202600" y="5373000"/>
                <a:ext cx="586800" cy="588600"/>
                <a:chOff x="8202600" y="5373000"/>
                <a:chExt cx="586800" cy="588600"/>
              </a:xfrm>
            </p:grpSpPr>
            <p:sp>
              <p:nvSpPr>
                <p:cNvPr id="266" name=""/>
                <p:cNvSpPr/>
                <p:nvPr/>
              </p:nvSpPr>
              <p:spPr>
                <a:xfrm flipH="1">
                  <a:off x="8202600" y="537300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8495280" y="55159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03680" y="55170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8202600" y="5077440"/>
                <a:ext cx="586800" cy="588600"/>
                <a:chOff x="8202600" y="5077440"/>
                <a:chExt cx="586800" cy="588600"/>
              </a:xfrm>
            </p:grpSpPr>
            <p:sp>
              <p:nvSpPr>
                <p:cNvPr id="270" name=""/>
                <p:cNvSpPr/>
                <p:nvPr/>
              </p:nvSpPr>
              <p:spPr>
                <a:xfrm flipH="1">
                  <a:off x="8202600" y="50774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8495280" y="52203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203680" y="52214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296840" y="4329000"/>
                <a:ext cx="586440" cy="588600"/>
                <a:chOff x="7296840" y="4329000"/>
                <a:chExt cx="586440" cy="58860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7296480" y="43290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7582320" y="4472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97200" y="4472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600320" y="4476600"/>
                <a:ext cx="586800" cy="590760"/>
                <a:chOff x="7600320" y="4476600"/>
                <a:chExt cx="586800" cy="59076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7600320" y="44766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7893000" y="46198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601400" y="4621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899120" y="4626360"/>
                <a:ext cx="586440" cy="590040"/>
                <a:chOff x="7899120" y="4626360"/>
                <a:chExt cx="586440" cy="590040"/>
              </a:xfrm>
            </p:grpSpPr>
            <p:sp>
              <p:nvSpPr>
                <p:cNvPr id="282" name=""/>
                <p:cNvSpPr/>
                <p:nvPr/>
              </p:nvSpPr>
              <p:spPr>
                <a:xfrm flipH="1">
                  <a:off x="7898760" y="4626360"/>
                  <a:ext cx="58644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8182800" y="476964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900920" y="477180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202240" y="4781520"/>
                <a:ext cx="586440" cy="588960"/>
                <a:chOff x="8202240" y="4781520"/>
                <a:chExt cx="586440" cy="588960"/>
              </a:xfrm>
            </p:grpSpPr>
            <p:sp>
              <p:nvSpPr>
                <p:cNvPr id="286" name=""/>
                <p:cNvSpPr/>
                <p:nvPr/>
              </p:nvSpPr>
              <p:spPr>
                <a:xfrm flipH="1">
                  <a:off x="8201880" y="478152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8495640" y="4925160"/>
                  <a:ext cx="293040" cy="4435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204040" y="4925160"/>
                  <a:ext cx="293040" cy="445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6426000" y="4764600"/>
              <a:ext cx="1492560" cy="1928160"/>
              <a:chOff x="6426000" y="4764600"/>
              <a:chExt cx="1492560" cy="192816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6426360" y="5653080"/>
                <a:ext cx="58680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719040" y="57970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26360" y="5797080"/>
                <a:ext cx="293400" cy="4446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6426360" y="5353560"/>
                <a:ext cx="586800" cy="29340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719040" y="549720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27800" y="5499360"/>
                <a:ext cx="293400" cy="4453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426360" y="5055840"/>
                <a:ext cx="586800" cy="590760"/>
                <a:chOff x="6426360" y="5055840"/>
                <a:chExt cx="586800" cy="590760"/>
              </a:xfrm>
            </p:grpSpPr>
            <p:sp>
              <p:nvSpPr>
                <p:cNvPr id="297" name=""/>
                <p:cNvSpPr/>
                <p:nvPr/>
              </p:nvSpPr>
              <p:spPr>
                <a:xfrm flipH="1">
                  <a:off x="6426360" y="505584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6719040" y="51991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427440" y="52005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6723000" y="5800680"/>
                <a:ext cx="586440" cy="29340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7010280" y="59450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23720" y="5945040"/>
                <a:ext cx="293400" cy="4471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723360" y="5503320"/>
                <a:ext cx="586440" cy="590400"/>
                <a:chOff x="6723360" y="5503320"/>
                <a:chExt cx="586440" cy="590400"/>
              </a:xfrm>
            </p:grpSpPr>
            <p:sp>
              <p:nvSpPr>
                <p:cNvPr id="304" name=""/>
                <p:cNvSpPr/>
                <p:nvPr/>
              </p:nvSpPr>
              <p:spPr>
                <a:xfrm flipH="1">
                  <a:off x="6723000" y="5503320"/>
                  <a:ext cx="58644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7016760" y="5646600"/>
                  <a:ext cx="293040" cy="445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724800" y="5647680"/>
                  <a:ext cx="29304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730920" y="5213880"/>
                <a:ext cx="586440" cy="588600"/>
                <a:chOff x="6730920" y="5213880"/>
                <a:chExt cx="586440" cy="588600"/>
              </a:xfrm>
            </p:grpSpPr>
            <p:sp>
              <p:nvSpPr>
                <p:cNvPr id="308" name=""/>
                <p:cNvSpPr/>
                <p:nvPr/>
              </p:nvSpPr>
              <p:spPr>
                <a:xfrm flipH="1">
                  <a:off x="6730560" y="521388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018560" y="53557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732720" y="53575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028640" y="5956200"/>
                <a:ext cx="586800" cy="588600"/>
                <a:chOff x="7028640" y="5956200"/>
                <a:chExt cx="586800" cy="58860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7028640" y="595620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7321320" y="60991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29720" y="61002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024320" y="5661000"/>
                <a:ext cx="586440" cy="588600"/>
                <a:chOff x="7024320" y="5661000"/>
                <a:chExt cx="586440" cy="588600"/>
              </a:xfrm>
            </p:grpSpPr>
            <p:sp>
              <p:nvSpPr>
                <p:cNvPr id="316" name=""/>
                <p:cNvSpPr/>
                <p:nvPr/>
              </p:nvSpPr>
              <p:spPr>
                <a:xfrm flipH="1">
                  <a:off x="7023960" y="566100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7313760" y="580464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030080" y="58046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024320" y="5365440"/>
                <a:ext cx="586440" cy="582840"/>
                <a:chOff x="7024320" y="5365440"/>
                <a:chExt cx="586440" cy="58284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7023960" y="536544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7313760" y="55015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028640" y="550332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331400" y="6104160"/>
                <a:ext cx="586440" cy="588600"/>
                <a:chOff x="7331400" y="6104160"/>
                <a:chExt cx="586440" cy="588600"/>
              </a:xfrm>
            </p:grpSpPr>
            <p:sp>
              <p:nvSpPr>
                <p:cNvPr id="324" name=""/>
                <p:cNvSpPr/>
                <p:nvPr/>
              </p:nvSpPr>
              <p:spPr>
                <a:xfrm flipH="1">
                  <a:off x="7331040" y="610416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7624800" y="624780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33200" y="624780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331760" y="5808600"/>
                <a:ext cx="586800" cy="588600"/>
                <a:chOff x="7331760" y="5808600"/>
                <a:chExt cx="586800" cy="58860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7331760" y="5808600"/>
                  <a:ext cx="586800" cy="29268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7624440" y="595152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332840" y="59526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331760" y="5513040"/>
                <a:ext cx="586800" cy="588600"/>
                <a:chOff x="7331760" y="5513040"/>
                <a:chExt cx="586800" cy="588600"/>
              </a:xfrm>
            </p:grpSpPr>
            <p:sp>
              <p:nvSpPr>
                <p:cNvPr id="332" name=""/>
                <p:cNvSpPr/>
                <p:nvPr/>
              </p:nvSpPr>
              <p:spPr>
                <a:xfrm flipH="1">
                  <a:off x="7331760" y="55130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7624440" y="56559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32840" y="5657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426000" y="4764600"/>
                <a:ext cx="586440" cy="588600"/>
                <a:chOff x="6426000" y="4764600"/>
                <a:chExt cx="586440" cy="58860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425640" y="4764600"/>
                  <a:ext cx="586440" cy="2934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6711480" y="49082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426360" y="490824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729480" y="4912200"/>
                <a:ext cx="586800" cy="590760"/>
                <a:chOff x="6729480" y="4912200"/>
                <a:chExt cx="586800" cy="590760"/>
              </a:xfrm>
            </p:grpSpPr>
            <p:sp>
              <p:nvSpPr>
                <p:cNvPr id="340" name=""/>
                <p:cNvSpPr/>
                <p:nvPr/>
              </p:nvSpPr>
              <p:spPr>
                <a:xfrm flipH="1">
                  <a:off x="6729480" y="491220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7022160" y="505548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730560" y="50569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028280" y="5061960"/>
                <a:ext cx="586440" cy="590040"/>
                <a:chOff x="7028280" y="5061960"/>
                <a:chExt cx="586440" cy="59004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7027920" y="5061960"/>
                  <a:ext cx="586440" cy="29304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7311960" y="520524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30080" y="5207400"/>
                  <a:ext cx="29304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331760" y="5217120"/>
                <a:ext cx="586800" cy="588960"/>
                <a:chOff x="7331760" y="5217120"/>
                <a:chExt cx="586800" cy="58896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7331760" y="521712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7624440" y="53600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332840" y="536112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7918920" y="5075640"/>
              <a:ext cx="878400" cy="1629000"/>
              <a:chOff x="7918920" y="5075640"/>
              <a:chExt cx="878400" cy="1629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8210520" y="5969880"/>
                <a:ext cx="586800" cy="588960"/>
                <a:chOff x="8210520" y="5969880"/>
                <a:chExt cx="586800" cy="588960"/>
              </a:xfrm>
            </p:grpSpPr>
            <p:sp>
              <p:nvSpPr>
                <p:cNvPr id="353" name=""/>
                <p:cNvSpPr/>
                <p:nvPr/>
              </p:nvSpPr>
              <p:spPr>
                <a:xfrm flipH="1">
                  <a:off x="8210520" y="5969880"/>
                  <a:ext cx="586800" cy="2930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8503200" y="611280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211600" y="6113880"/>
                  <a:ext cx="29340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918920" y="6116040"/>
                <a:ext cx="586440" cy="588600"/>
                <a:chOff x="7918920" y="6116040"/>
                <a:chExt cx="586440" cy="58860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7918560" y="6116040"/>
                  <a:ext cx="586440" cy="29340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8212320" y="6259680"/>
                  <a:ext cx="293040" cy="4431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920720" y="6259680"/>
                  <a:ext cx="293040" cy="444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8210520" y="5668560"/>
                <a:ext cx="586800" cy="588600"/>
                <a:chOff x="8210520" y="5668560"/>
                <a:chExt cx="586800" cy="58860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8210520" y="566856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8503200" y="58118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1960" y="581256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7919280" y="5814720"/>
                <a:ext cx="586800" cy="588600"/>
                <a:chOff x="7919280" y="5814720"/>
                <a:chExt cx="586800" cy="588600"/>
              </a:xfrm>
            </p:grpSpPr>
            <p:sp>
              <p:nvSpPr>
                <p:cNvPr id="365" name=""/>
                <p:cNvSpPr/>
                <p:nvPr/>
              </p:nvSpPr>
              <p:spPr>
                <a:xfrm flipH="1">
                  <a:off x="7919280" y="581472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8211960" y="595764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920360" y="59587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8210520" y="5366880"/>
                <a:ext cx="586800" cy="590760"/>
                <a:chOff x="8210520" y="5366880"/>
                <a:chExt cx="586800" cy="590760"/>
              </a:xfrm>
            </p:grpSpPr>
            <p:sp>
              <p:nvSpPr>
                <p:cNvPr id="369" name=""/>
                <p:cNvSpPr/>
                <p:nvPr/>
              </p:nvSpPr>
              <p:spPr>
                <a:xfrm flipH="1">
                  <a:off x="8210520" y="5366880"/>
                  <a:ext cx="586800" cy="29376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8503200" y="55101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11600" y="551160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919280" y="5513040"/>
                <a:ext cx="586800" cy="590760"/>
                <a:chOff x="7919280" y="5513040"/>
                <a:chExt cx="586800" cy="590760"/>
              </a:xfrm>
            </p:grpSpPr>
            <p:sp>
              <p:nvSpPr>
                <p:cNvPr id="373" name=""/>
                <p:cNvSpPr/>
                <p:nvPr/>
              </p:nvSpPr>
              <p:spPr>
                <a:xfrm flipH="1">
                  <a:off x="7919280" y="5513040"/>
                  <a:ext cx="586800" cy="29376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8211960" y="565632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20360" y="5657760"/>
                  <a:ext cx="293400" cy="446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8210520" y="5075640"/>
                <a:ext cx="586800" cy="588600"/>
                <a:chOff x="8210520" y="5075640"/>
                <a:chExt cx="586800" cy="588600"/>
              </a:xfrm>
            </p:grpSpPr>
            <p:sp>
              <p:nvSpPr>
                <p:cNvPr id="377" name=""/>
                <p:cNvSpPr/>
                <p:nvPr/>
              </p:nvSpPr>
              <p:spPr>
                <a:xfrm flipH="1">
                  <a:off x="8210520" y="5075640"/>
                  <a:ext cx="586800" cy="29304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8503200" y="521892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211960" y="52196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919280" y="5221440"/>
                <a:ext cx="586800" cy="588600"/>
                <a:chOff x="7919280" y="5221440"/>
                <a:chExt cx="586800" cy="58860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7919280" y="5221440"/>
                  <a:ext cx="586800" cy="292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8211960" y="5364360"/>
                  <a:ext cx="293400" cy="4442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20360" y="5365440"/>
                  <a:ext cx="293400" cy="444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4" name=""/>
          <p:cNvSpPr/>
          <p:nvPr/>
        </p:nvSpPr>
        <p:spPr>
          <a:xfrm>
            <a:off x="706320" y="646200"/>
            <a:ext cx="8437680" cy="220680"/>
          </a:xfrm>
          <a:prstGeom prst="rect">
            <a:avLst/>
          </a:prstGeom>
          <a:solidFill>
            <a:srgbClr val="347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12760" y="133200"/>
            <a:ext cx="5816520" cy="5423040"/>
            <a:chOff x="212760" y="133200"/>
            <a:chExt cx="5816520" cy="5423040"/>
          </a:xfrm>
        </p:grpSpPr>
        <p:sp>
          <p:nvSpPr>
            <p:cNvPr id="386" name=""/>
            <p:cNvSpPr/>
            <p:nvPr/>
          </p:nvSpPr>
          <p:spPr>
            <a:xfrm>
              <a:off x="212760" y="133200"/>
              <a:ext cx="5816520" cy="5423040"/>
            </a:xfrm>
            <a:prstGeom prst="ellips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2760" y="132840"/>
              <a:ext cx="3063240" cy="2638800"/>
            </a:xfrm>
            <a:prstGeom prst="rtTriangle">
              <a:avLst/>
            </a:prstGeom>
            <a:solidFill>
              <a:srgbClr val="0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856640" y="3031920"/>
            <a:ext cx="0" cy="2119320"/>
          </a:xfrm>
          <a:prstGeom prst="line">
            <a:avLst/>
          </a:prstGeom>
          <a:ln w="1908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392960" y="2455920"/>
            <a:ext cx="0" cy="2836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113600" y="3184200"/>
            <a:ext cx="0" cy="17492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45240" y="2847960"/>
            <a:ext cx="0" cy="1974960"/>
          </a:xfrm>
          <a:prstGeom prst="line">
            <a:avLst/>
          </a:prstGeom>
          <a:ln w="324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6480"/>
            <a:ext cx="5816520" cy="5422680"/>
            <a:chOff x="0" y="6480"/>
            <a:chExt cx="5816520" cy="5422680"/>
          </a:xfrm>
        </p:grpSpPr>
        <p:sp>
          <p:nvSpPr>
            <p:cNvPr id="394" name=""/>
            <p:cNvSpPr/>
            <p:nvPr/>
          </p:nvSpPr>
          <p:spPr>
            <a:xfrm>
              <a:off x="0" y="6480"/>
              <a:ext cx="5816520" cy="542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0" y="6120"/>
              <a:ext cx="3063240" cy="26388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95160" y="0"/>
            <a:ext cx="8448840" cy="757080"/>
          </a:xfrm>
          <a:prstGeom prst="roundRect">
            <a:avLst>
              <a:gd name="adj" fmla="val 26273"/>
            </a:avLst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6320" y="558720"/>
            <a:ext cx="8437680" cy="220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600" y="0"/>
            <a:ext cx="1575000" cy="1574640"/>
          </a:xfrm>
          <a:prstGeom prst="ellipse">
            <a:avLst/>
          </a:pr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004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39680" y="158760"/>
            <a:ext cx="1581120" cy="1287000"/>
            <a:chOff x="139680" y="158760"/>
            <a:chExt cx="1581120" cy="1287000"/>
          </a:xfrm>
        </p:grpSpPr>
        <p:grpSp>
          <p:nvGrpSpPr>
            <p:cNvPr id="400" name=""/>
            <p:cNvGrpSpPr/>
            <p:nvPr/>
          </p:nvGrpSpPr>
          <p:grpSpPr>
            <a:xfrm>
              <a:off x="1293840" y="509760"/>
              <a:ext cx="426960" cy="426600"/>
              <a:chOff x="1293840" y="509760"/>
              <a:chExt cx="426960" cy="42660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1293840" y="509760"/>
                <a:ext cx="426960" cy="212760"/>
              </a:xfrm>
              <a:prstGeom prst="diamond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506600" y="613800"/>
                <a:ext cx="213480" cy="321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94920" y="613800"/>
                <a:ext cx="213480" cy="3225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0046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39680" y="158760"/>
              <a:ext cx="1285200" cy="1287000"/>
              <a:chOff x="139680" y="158760"/>
              <a:chExt cx="1285200" cy="12870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139680" y="555480"/>
                <a:ext cx="565920" cy="569160"/>
                <a:chOff x="139680" y="555480"/>
                <a:chExt cx="565920" cy="569160"/>
              </a:xfrm>
            </p:grpSpPr>
            <p:sp>
              <p:nvSpPr>
                <p:cNvPr id="406" name=""/>
                <p:cNvSpPr/>
                <p:nvPr/>
              </p:nvSpPr>
              <p:spPr>
                <a:xfrm flipH="1">
                  <a:off x="139680" y="555480"/>
                  <a:ext cx="565920" cy="2833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422640" y="693360"/>
                  <a:ext cx="282960" cy="429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40760" y="694800"/>
                  <a:ext cx="282960" cy="4298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01480" y="728280"/>
                <a:ext cx="564120" cy="565560"/>
                <a:chOff x="501480" y="728280"/>
                <a:chExt cx="564120" cy="565560"/>
              </a:xfrm>
            </p:grpSpPr>
            <p:sp>
              <p:nvSpPr>
                <p:cNvPr id="410" name=""/>
                <p:cNvSpPr/>
                <p:nvPr/>
              </p:nvSpPr>
              <p:spPr>
                <a:xfrm flipH="1">
                  <a:off x="501120" y="728280"/>
                  <a:ext cx="564120" cy="28188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783000" y="866160"/>
                  <a:ext cx="281880" cy="4258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03280" y="866160"/>
                  <a:ext cx="281880" cy="427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01840" y="442440"/>
                <a:ext cx="564480" cy="567360"/>
                <a:chOff x="501840" y="442440"/>
                <a:chExt cx="564480" cy="567360"/>
              </a:xfrm>
            </p:grpSpPr>
            <p:sp>
              <p:nvSpPr>
                <p:cNvPr id="414" name=""/>
                <p:cNvSpPr/>
                <p:nvPr/>
              </p:nvSpPr>
              <p:spPr>
                <a:xfrm flipH="1">
                  <a:off x="501840" y="442440"/>
                  <a:ext cx="564480" cy="2822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784080" y="579960"/>
                  <a:ext cx="28224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02920" y="581400"/>
                  <a:ext cx="28224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501840" y="158760"/>
                <a:ext cx="564480" cy="565920"/>
                <a:chOff x="501840" y="158760"/>
                <a:chExt cx="564480" cy="565920"/>
              </a:xfrm>
            </p:grpSpPr>
            <p:sp>
              <p:nvSpPr>
                <p:cNvPr id="418" name=""/>
                <p:cNvSpPr/>
                <p:nvPr/>
              </p:nvSpPr>
              <p:spPr>
                <a:xfrm flipH="1">
                  <a:off x="501840" y="158760"/>
                  <a:ext cx="56448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784080" y="295920"/>
                  <a:ext cx="28224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02920" y="297360"/>
                  <a:ext cx="28224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860760" y="879840"/>
                <a:ext cx="564120" cy="565920"/>
                <a:chOff x="860760" y="879840"/>
                <a:chExt cx="564120" cy="5659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>
                  <a:off x="860400" y="879840"/>
                  <a:ext cx="564120" cy="28152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1142280" y="1017360"/>
                  <a:ext cx="28188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62200" y="1018440"/>
                  <a:ext cx="281880" cy="427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  <a:effectLst>
                  <a:outerShdw dist="17819" dir="2700000" blurRad="0" rotWithShape="0">
                    <a:srgbClr val="0046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139680" y="158760"/>
            <a:ext cx="1581120" cy="1287360"/>
            <a:chOff x="139680" y="158760"/>
            <a:chExt cx="1581120" cy="1287360"/>
          </a:xfrm>
        </p:grpSpPr>
        <p:grpSp>
          <p:nvGrpSpPr>
            <p:cNvPr id="426" name=""/>
            <p:cNvGrpSpPr/>
            <p:nvPr/>
          </p:nvGrpSpPr>
          <p:grpSpPr>
            <a:xfrm>
              <a:off x="1293840" y="509760"/>
              <a:ext cx="426960" cy="426960"/>
              <a:chOff x="1293840" y="509760"/>
              <a:chExt cx="426960" cy="42696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1293840" y="509760"/>
                <a:ext cx="426960" cy="212760"/>
              </a:xfrm>
              <a:prstGeom prst="diamond">
                <a:avLst/>
              </a:pr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507320" y="6145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95280" y="614520"/>
                <a:ext cx="212760" cy="3222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7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39680" y="158760"/>
              <a:ext cx="1285920" cy="1287360"/>
              <a:chOff x="139680" y="158760"/>
              <a:chExt cx="1285920" cy="12873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139680" y="555480"/>
                <a:ext cx="566640" cy="569880"/>
                <a:chOff x="139680" y="555480"/>
                <a:chExt cx="566640" cy="56988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139680" y="555480"/>
                  <a:ext cx="566640" cy="28368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422280" y="693720"/>
                  <a:ext cx="283320" cy="4302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0760" y="694800"/>
                  <a:ext cx="283320" cy="4305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01120" y="728640"/>
                <a:ext cx="564840" cy="566280"/>
                <a:chOff x="501120" y="728640"/>
                <a:chExt cx="564840" cy="566280"/>
              </a:xfrm>
            </p:grpSpPr>
            <p:sp>
              <p:nvSpPr>
                <p:cNvPr id="436" name=""/>
                <p:cNvSpPr/>
                <p:nvPr/>
              </p:nvSpPr>
              <p:spPr>
                <a:xfrm flipH="1">
                  <a:off x="500760" y="728640"/>
                  <a:ext cx="564840" cy="282240"/>
                </a:xfrm>
                <a:prstGeom prst="diamond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783720" y="866880"/>
                  <a:ext cx="282240" cy="4266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02920" y="866880"/>
                  <a:ext cx="282240" cy="428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501480" y="442800"/>
                <a:ext cx="565200" cy="568080"/>
                <a:chOff x="501480" y="442800"/>
                <a:chExt cx="565200" cy="568080"/>
              </a:xfrm>
            </p:grpSpPr>
            <p:sp>
              <p:nvSpPr>
                <p:cNvPr id="440" name=""/>
                <p:cNvSpPr/>
                <p:nvPr/>
              </p:nvSpPr>
              <p:spPr>
                <a:xfrm flipH="1">
                  <a:off x="501480" y="442800"/>
                  <a:ext cx="565200" cy="282600"/>
                </a:xfrm>
                <a:prstGeom prst="diamond">
                  <a:avLst/>
                </a:pr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783360" y="580680"/>
                  <a:ext cx="282600" cy="4287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4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02560" y="581760"/>
                  <a:ext cx="282600" cy="429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76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501480" y="158760"/>
                <a:ext cx="565200" cy="566640"/>
                <a:chOff x="501480" y="158760"/>
                <a:chExt cx="565200" cy="566640"/>
              </a:xfrm>
            </p:grpSpPr>
            <p:sp>
              <p:nvSpPr>
                <p:cNvPr id="444" name=""/>
                <p:cNvSpPr/>
                <p:nvPr/>
              </p:nvSpPr>
              <p:spPr>
                <a:xfrm flipH="1">
                  <a:off x="501480" y="15876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783360" y="29700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02920" y="29844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860400" y="879480"/>
                <a:ext cx="565200" cy="566640"/>
                <a:chOff x="860400" y="879480"/>
                <a:chExt cx="565200" cy="566640"/>
              </a:xfrm>
            </p:grpSpPr>
            <p:sp>
              <p:nvSpPr>
                <p:cNvPr id="448" name=""/>
                <p:cNvSpPr/>
                <p:nvPr/>
              </p:nvSpPr>
              <p:spPr>
                <a:xfrm flipH="1">
                  <a:off x="860400" y="879480"/>
                  <a:ext cx="565200" cy="282600"/>
                </a:xfrm>
                <a:prstGeom prst="diamond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1142280" y="101772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61840" y="1017720"/>
                  <a:ext cx="282600" cy="428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3080" y="1904760"/>
            <a:ext cx="7935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600"/>
                </a:solidFill>
                <a:latin typeface="Verdana"/>
                <a:ea typeface="Gulim"/>
              </a:rPr>
              <a:t>绿色魔方企业</a:t>
            </a:r>
            <a:r>
              <a:rPr b="1" lang="zh-CN" sz="4000" spc="-1" strike="noStrike">
                <a:solidFill>
                  <a:srgbClr val="0046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4600"/>
                </a:solidFill>
                <a:latin typeface="Verdana"/>
                <a:ea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eaeae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47634"/>
              </a:solidFill>
              <a:latin typeface="Verdana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D1B5-1933-4856-BB9A-80FDF81B34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2720" y="2533680"/>
            <a:ext cx="57020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600"/>
                </a:solidFill>
                <a:latin typeface="Verdana"/>
                <a:ea typeface="Gulim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7978680" y="38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1880" y="3840120"/>
            <a:ext cx="4614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41360" y="4276800"/>
            <a:ext cx="36212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a048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476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7634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47634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397160" y="2030400"/>
            <a:ext cx="4651200" cy="623880"/>
            <a:chOff x="1397160" y="2030400"/>
            <a:chExt cx="4651200" cy="623880"/>
          </a:xfrm>
        </p:grpSpPr>
        <p:sp>
          <p:nvSpPr>
            <p:cNvPr id="497" name=""/>
            <p:cNvSpPr/>
            <p:nvPr/>
          </p:nvSpPr>
          <p:spPr>
            <a:xfrm>
              <a:off x="1397160" y="205596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97160" y="203040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849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9033200">
              <a:off x="1422720" y="212544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409760" y="2868480"/>
            <a:ext cx="4651200" cy="623880"/>
            <a:chOff x="1409760" y="2868480"/>
            <a:chExt cx="4651200" cy="623880"/>
          </a:xfrm>
        </p:grpSpPr>
        <p:sp>
          <p:nvSpPr>
            <p:cNvPr id="501" name=""/>
            <p:cNvSpPr/>
            <p:nvPr/>
          </p:nvSpPr>
          <p:spPr>
            <a:xfrm>
              <a:off x="1409760" y="28940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09760" y="28684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033200">
              <a:off x="1435320" y="29635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397160" y="3732120"/>
            <a:ext cx="4651200" cy="623880"/>
            <a:chOff x="1397160" y="3732120"/>
            <a:chExt cx="4651200" cy="623880"/>
          </a:xfrm>
        </p:grpSpPr>
        <p:sp>
          <p:nvSpPr>
            <p:cNvPr id="505" name=""/>
            <p:cNvSpPr/>
            <p:nvPr/>
          </p:nvSpPr>
          <p:spPr>
            <a:xfrm>
              <a:off x="1397160" y="375768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97160" y="373212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849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9033200">
              <a:off x="1422720" y="382716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409760" y="4570560"/>
            <a:ext cx="4651200" cy="623880"/>
            <a:chOff x="1409760" y="4570560"/>
            <a:chExt cx="4651200" cy="623880"/>
          </a:xfrm>
        </p:grpSpPr>
        <p:sp>
          <p:nvSpPr>
            <p:cNvPr id="509" name=""/>
            <p:cNvSpPr/>
            <p:nvPr/>
          </p:nvSpPr>
          <p:spPr>
            <a:xfrm>
              <a:off x="1409760" y="459612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09760" y="45705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033200">
              <a:off x="1435320" y="466560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841400" y="2136600"/>
            <a:ext cx="3633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54360" y="29624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66960" y="3825720"/>
            <a:ext cx="38876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79560" y="466416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520" name=""/>
            <p:cNvSpPr/>
            <p:nvPr/>
          </p:nvSpPr>
          <p:spPr>
            <a:xfrm>
              <a:off x="952560" y="1487520"/>
              <a:ext cx="313488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048"/>
                </a:gs>
                <a:gs pos="100000">
                  <a:srgbClr val="1849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033200">
              <a:off x="977400" y="1557000"/>
              <a:ext cx="22644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6a0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526" name="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86240" y="3745080"/>
            <a:ext cx="2135160" cy="2135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853240" y="3743280"/>
            <a:ext cx="2135160" cy="2143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00160" y="3743280"/>
            <a:ext cx="2143080" cy="2143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74880" y="2411280"/>
            <a:ext cx="5251320" cy="1306800"/>
          </a:xfrm>
          <a:prstGeom prst="upArrow">
            <a:avLst>
              <a:gd name="adj1" fmla="val 78056"/>
              <a:gd name="adj2" fmla="val 75333"/>
            </a:avLst>
          </a:pr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9920" y="1406520"/>
            <a:ext cx="6869160" cy="95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7759800" y="2658960"/>
            <a:ext cx="60156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746840" y="3776760"/>
            <a:ext cx="64008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85000" y="4894200"/>
            <a:ext cx="60192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721640" y="1541520"/>
            <a:ext cx="639720" cy="836640"/>
          </a:xfrm>
          <a:prstGeom prst="rect">
            <a:avLst/>
          </a:prstGeom>
          <a:gradFill rotWithShape="0">
            <a:gsLst>
              <a:gs pos="0">
                <a:srgbClr val="36a048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66960" y="2658960"/>
            <a:ext cx="410076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79920" y="3776760"/>
            <a:ext cx="410040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92520" y="4894200"/>
            <a:ext cx="410040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54360" y="1541520"/>
            <a:ext cx="4100400" cy="836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8585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849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1849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184921"/>
              </a:gs>
              <a:gs pos="100000">
                <a:srgbClr val="36a04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36a048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7634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3500000"/>
          </a:gra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6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7634"/>
              </a:gs>
            </a:gsLst>
            <a:lin ang="13500000"/>
          </a:gradFill>
          <a:ln w="28440">
            <a:solidFill>
              <a:srgbClr val="347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1230480" y="1276200"/>
          <a:ext cx="6648120" cy="48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276200"/>
                    <a:ext cx="664812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08000" y="1146240"/>
            <a:ext cx="7153200" cy="5229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52280" y="20304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1Z</dcterms:modified>
  <cp:revision>2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